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54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54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61720" y="256680"/>
            <a:ext cx="78627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05480" y="153648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05480" y="3838320"/>
            <a:ext cx="2723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1720" y="256680"/>
            <a:ext cx="78627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9480" y="383832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9480" y="1536480"/>
            <a:ext cx="4127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8320"/>
            <a:ext cx="8458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master_main_ligh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master_main_ligh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392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23508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23040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1760" indent="227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>
              <a:lnSpc>
                <a:spcPct val="9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629400" y="624852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vector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0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1034" descr="title_opt_d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1035"/>
            <p:cNvSpPr/>
            <p:nvPr/>
          </p:nvSpPr>
          <p:spPr>
            <a:xfrm>
              <a:off x="6821640" y="5915160"/>
              <a:ext cx="2322360" cy="9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036" descr="Black-r small"/>
            <p:cNvPicPr/>
            <p:nvPr/>
          </p:nvPicPr>
          <p:blipFill>
            <a:blip r:embed="rId4"/>
            <a:srcRect l="-9351" t="-54743" r="-8745" b="-80404"/>
            <a:stretch/>
          </p:blipFill>
          <p:spPr>
            <a:xfrm>
              <a:off x="6620040" y="6245280"/>
              <a:ext cx="2523960" cy="61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29" descr="Black-r small"/>
          <p:cNvPicPr/>
          <p:nvPr/>
        </p:nvPicPr>
        <p:blipFill>
          <a:blip r:embed="rId5"/>
          <a:srcRect l="-6739" t="-89580" r="-8745" b="-80404"/>
          <a:stretch/>
        </p:blipFill>
        <p:spPr>
          <a:xfrm>
            <a:off x="6675480" y="6154560"/>
            <a:ext cx="2468520" cy="70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2" descr="Black-r small"/>
          <p:cNvPicPr/>
          <p:nvPr/>
        </p:nvPicPr>
        <p:blipFill>
          <a:blip r:embed="rId6"/>
          <a:srcRect l="-6739" t="-89580" r="-8745" b="-80404"/>
          <a:stretch/>
        </p:blipFill>
        <p:spPr>
          <a:xfrm>
            <a:off x="6675480" y="6154560"/>
            <a:ext cx="2468520" cy="703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536480"/>
            <a:ext cx="84582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392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23508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23040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1760" indent="227160">
              <a:lnSpc>
                <a:spcPct val="90000"/>
              </a:lnSpc>
              <a:spcBef>
                <a:spcPts val="1749"/>
              </a:spcBef>
              <a:buClr>
                <a:srgbClr val="00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>
              <a:lnSpc>
                <a:spcPct val="9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066680" y="1066680"/>
            <a:ext cx="67820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BRACADABRA"/>
              </a:rPr>
              <a:t>Understanding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BRACADABRA"/>
              <a:ea typeface="ABRACADABR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BRACADABRA"/>
              </a:rPr>
              <a:t>Longitude &amp; Latitude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BRACADABRA"/>
              <a:ea typeface="ABRACADABR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0" y="26668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be the latitude and longitude directions in Australia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AutoShape 6"/>
          <p:cNvSpPr/>
          <p:nvPr/>
        </p:nvSpPr>
        <p:spPr>
          <a:xfrm>
            <a:off x="1295280" y="5181480"/>
            <a:ext cx="1447920" cy="609840"/>
          </a:xfrm>
          <a:prstGeom prst="wedgeRoundRectCallout">
            <a:avLst>
              <a:gd name="adj1" fmla="val 30374"/>
              <a:gd name="adj2" fmla="val -1859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 rot="10494600">
            <a:off x="3123360" y="4952520"/>
            <a:ext cx="1295640" cy="609840"/>
          </a:xfrm>
          <a:prstGeom prst="wedgeRoundRectCallout">
            <a:avLst>
              <a:gd name="adj1" fmla="val -21462"/>
              <a:gd name="adj2" fmla="val 214828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57200" y="5959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aid South and East , you’re right!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 is the distance from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equator along the Y ax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points along the equator have a value of 0 degrees latitud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pole = 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 pole = 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s are expressed in terms of degre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828800" y="5105520"/>
            <a:ext cx="838080" cy="533160"/>
          </a:xfrm>
          <a:prstGeom prst="wedgeRoundRectCallout">
            <a:avLst>
              <a:gd name="adj1" fmla="val 23106"/>
              <a:gd name="adj2" fmla="val -121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066680" y="1828800"/>
            <a:ext cx="762120" cy="609480"/>
          </a:xfrm>
          <a:prstGeom prst="wedgeRoundRectCallout">
            <a:avLst>
              <a:gd name="adj1" fmla="val 130000"/>
              <a:gd name="adj2" fmla="val 614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degree of latitude is divided i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60 minut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minute is divided into 60 secon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33520" y="6031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is also true of longitud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, 02’,51’’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s is close to the latitude where you liv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ong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14648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itude is the distance from the prime meridian along the X ax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oints along the prime meridian have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value of 0 degrees longitu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arth is divided into two parts, 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hemispheres, of east and west longitu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914400" y="5486400"/>
            <a:ext cx="914400" cy="380880"/>
          </a:xfrm>
          <a:prstGeom prst="wedgeRoundRectCallout">
            <a:avLst>
              <a:gd name="adj1" fmla="val -92884"/>
              <a:gd name="adj2" fmla="val -54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352680" y="5486400"/>
            <a:ext cx="990720" cy="457200"/>
          </a:xfrm>
          <a:prstGeom prst="wedgeRoundRectCallout">
            <a:avLst>
              <a:gd name="adj1" fmla="val 49037"/>
              <a:gd name="adj2" fmla="val -468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ong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14648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arth is divided into 360 equal sli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(meridia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0 west and 180 east of the prime meridi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914400" y="5486400"/>
            <a:ext cx="914400" cy="380880"/>
          </a:xfrm>
          <a:prstGeom prst="wedgeRoundRectCallout">
            <a:avLst>
              <a:gd name="adj1" fmla="val -92884"/>
              <a:gd name="adj2" fmla="val -54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3352680" y="5486400"/>
            <a:ext cx="990720" cy="457200"/>
          </a:xfrm>
          <a:prstGeom prst="wedgeRoundRectCallout">
            <a:avLst>
              <a:gd name="adj1" fmla="val 49037"/>
              <a:gd name="adj2" fmla="val -468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Latitud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latitude and longitude might b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, 03’,13’’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6°, 29’, 45’’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828800" y="5105520"/>
            <a:ext cx="914400" cy="533160"/>
          </a:xfrm>
          <a:prstGeom prst="wedgeRoundRectCallout">
            <a:avLst>
              <a:gd name="adj1" fmla="val 14236"/>
              <a:gd name="adj2" fmla="val -12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066680" y="1905120"/>
            <a:ext cx="838440" cy="533160"/>
          </a:xfrm>
          <a:prstGeom prst="wedgeRoundRectCallout">
            <a:avLst>
              <a:gd name="adj1" fmla="val 113634"/>
              <a:gd name="adj2" fmla="val 63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 Where is (0,0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685800" y="1944720"/>
          <a:ext cx="4146480" cy="35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44720"/>
                    <a:ext cx="414648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97520" y="0"/>
            <a:ext cx="414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origin point (0,0) is where the equator intersects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prime meridi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0,0) is off the western coast of Africa in the Atlantic Oce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685800" y="4419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276720" y="1981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862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 If You Can Tell In Which Quarter These Lon/Lats Are Loca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00600" y="2209680"/>
            <a:ext cx="415296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4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N, 21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37°N, 76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72°S, 141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7°S, 23°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15°N, 29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80000"/>
              </a:lnSpc>
              <a:spcBef>
                <a:spcPts val="28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34°S, 151°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0" y="2286000"/>
          <a:ext cx="449568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4495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304920" y="312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03992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0492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0399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8627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          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 algn="ctr">
              <a:lnSpc>
                <a:spcPct val="8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1295280" y="0"/>
            <a:ext cx="7010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t's See How 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Did!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3040" y="53352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an example of a typical graph we are all familiar wi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aph is made up of different “points” with lines that conn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poin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9540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1120" y="1536840"/>
            <a:ext cx="49528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 algn="ctr">
              <a:lnSpc>
                <a:spcPct val="90000"/>
              </a:lnSpc>
              <a:spcBef>
                <a:spcPts val="38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e if you can find those same latitude/longitude locations on a map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j0283649"/>
          <p:cNvPicPr/>
          <p:nvPr/>
        </p:nvPicPr>
        <p:blipFill>
          <a:blip r:embed="rId1"/>
          <a:stretch/>
        </p:blipFill>
        <p:spPr>
          <a:xfrm>
            <a:off x="380880" y="83808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990720" y="838080"/>
            <a:ext cx="71625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 Summary!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1441440" y="1047600"/>
            <a:ext cx="7473960" cy="2966400"/>
            <a:chOff x="1441440" y="1047600"/>
            <a:chExt cx="7473960" cy="2966400"/>
          </a:xfrm>
        </p:grpSpPr>
        <p:grpSp>
          <p:nvGrpSpPr>
            <p:cNvPr id="224" name="Group 3"/>
            <p:cNvGrpSpPr/>
            <p:nvPr/>
          </p:nvGrpSpPr>
          <p:grpSpPr>
            <a:xfrm>
              <a:off x="1441440" y="3664080"/>
              <a:ext cx="7334280" cy="349920"/>
              <a:chOff x="1441440" y="3664080"/>
              <a:chExt cx="7334280" cy="349920"/>
            </a:xfrm>
          </p:grpSpPr>
          <p:sp>
            <p:nvSpPr>
              <p:cNvPr id="225" name="Oval 4"/>
              <p:cNvSpPr/>
              <p:nvPr/>
            </p:nvSpPr>
            <p:spPr>
              <a:xfrm>
                <a:off x="2471760" y="3714840"/>
                <a:ext cx="3759120" cy="2030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"/>
              <p:cNvSpPr/>
              <p:nvPr/>
            </p:nvSpPr>
            <p:spPr>
              <a:xfrm>
                <a:off x="1441440" y="3664080"/>
                <a:ext cx="11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99"/>
                    </a:solidFill>
                    <a:latin typeface="Comic Sans MS"/>
                  </a:rPr>
                  <a:t>Equator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6"/>
              <p:cNvSpPr/>
              <p:nvPr/>
            </p:nvSpPr>
            <p:spPr>
              <a:xfrm>
                <a:off x="6318360" y="3676680"/>
                <a:ext cx="24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99"/>
                    </a:solidFill>
                    <a:latin typeface="Comic Sans MS"/>
                  </a:rPr>
                  <a:t>Latitude 0</a:t>
                </a:r>
                <a:r>
                  <a:rPr b="0" lang="en-GB" sz="16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7"/>
            <p:cNvSpPr/>
            <p:nvPr/>
          </p:nvSpPr>
          <p:spPr>
            <a:xfrm>
              <a:off x="5143680" y="1047600"/>
              <a:ext cx="3771720" cy="398880"/>
            </a:xfrm>
            <a:prstGeom prst="rect">
              <a:avLst/>
            </a:prstGeom>
            <a:gradFill rotWithShape="0">
              <a:gsLst>
                <a:gs pos="0">
                  <a:srgbClr val="c2c29b"/>
                </a:gs>
                <a:gs pos="50000">
                  <a:srgbClr val="ffffcc"/>
                </a:gs>
                <a:gs pos="100000">
                  <a:srgbClr val="c2c29b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atitude: </a:t>
              </a:r>
              <a:r>
                <a:rPr b="1" lang="en-GB" sz="2000" spc="-1" strike="noStrike">
                  <a:solidFill>
                    <a:srgbClr val="006699"/>
                  </a:solidFill>
                  <a:latin typeface="Comic Sans MS"/>
                </a:rPr>
                <a:t>(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90</a:t>
              </a:r>
              <a:r>
                <a:rPr b="0" lang="en-GB" sz="20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N to 90</a:t>
              </a:r>
              <a:r>
                <a:rPr b="0" lang="en-GB" sz="20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2000" spc="-1" strike="noStrike">
                  <a:solidFill>
                    <a:srgbClr val="006699"/>
                  </a:solidFill>
                  <a:latin typeface="Comic Sans MS"/>
                </a:rPr>
                <a:t>S)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8"/>
          <p:cNvGrpSpPr/>
          <p:nvPr/>
        </p:nvGrpSpPr>
        <p:grpSpPr>
          <a:xfrm>
            <a:off x="781200" y="3016080"/>
            <a:ext cx="8362800" cy="337320"/>
            <a:chOff x="781200" y="3016080"/>
            <a:chExt cx="8362800" cy="337320"/>
          </a:xfrm>
        </p:grpSpPr>
        <p:sp>
          <p:nvSpPr>
            <p:cNvPr id="230" name="Oval 9"/>
            <p:cNvSpPr/>
            <p:nvPr/>
          </p:nvSpPr>
          <p:spPr>
            <a:xfrm>
              <a:off x="2610000" y="3079800"/>
              <a:ext cx="3479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>
              <a:off x="6216480" y="3016080"/>
              <a:ext cx="292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atitude 23½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Nor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781200" y="3016080"/>
              <a:ext cx="19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Tropic of Canc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527040" y="4349880"/>
            <a:ext cx="8616960" cy="413280"/>
            <a:chOff x="527040" y="4349880"/>
            <a:chExt cx="8616960" cy="413280"/>
          </a:xfrm>
        </p:grpSpPr>
        <p:sp>
          <p:nvSpPr>
            <p:cNvPr id="234" name="Oval 13"/>
            <p:cNvSpPr/>
            <p:nvPr/>
          </p:nvSpPr>
          <p:spPr>
            <a:xfrm>
              <a:off x="2622600" y="4438800"/>
              <a:ext cx="3479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6178680" y="4425840"/>
              <a:ext cx="29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atitude 23½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Sou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527040" y="434988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Tropic of Capricor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6"/>
          <p:cNvGrpSpPr/>
          <p:nvPr/>
        </p:nvGrpSpPr>
        <p:grpSpPr>
          <a:xfrm>
            <a:off x="4343400" y="1955880"/>
            <a:ext cx="3289320" cy="4401360"/>
            <a:chOff x="4343400" y="1955880"/>
            <a:chExt cx="3289320" cy="4401360"/>
          </a:xfrm>
        </p:grpSpPr>
        <p:sp>
          <p:nvSpPr>
            <p:cNvPr id="238" name="Line 17"/>
            <p:cNvSpPr/>
            <p:nvPr/>
          </p:nvSpPr>
          <p:spPr>
            <a:xfrm flipH="1" flipV="1">
              <a:off x="4781520" y="5067000"/>
              <a:ext cx="952560" cy="85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18"/>
            <p:cNvGrpSpPr/>
            <p:nvPr/>
          </p:nvGrpSpPr>
          <p:grpSpPr>
            <a:xfrm>
              <a:off x="4343400" y="1955880"/>
              <a:ext cx="3289320" cy="4401360"/>
              <a:chOff x="4343400" y="1955880"/>
              <a:chExt cx="3289320" cy="4401360"/>
            </a:xfrm>
          </p:grpSpPr>
          <p:sp>
            <p:nvSpPr>
              <p:cNvPr id="240" name="Freeform 19"/>
              <p:cNvSpPr/>
              <p:nvPr/>
            </p:nvSpPr>
            <p:spPr>
              <a:xfrm>
                <a:off x="4343400" y="1955880"/>
                <a:ext cx="825480" cy="375444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3754440"/>
                  <a:gd name="textAreaBottom" fmla="*/ 3754800 h 3754440"/>
                </a:gdLst>
                <a:ahLst/>
                <a:rect l="textAreaLeft" t="textAreaTop" r="textAreaRight" b="textAreaBottom"/>
                <a:pathLst>
                  <a:path w="520" h="2365">
                    <a:moveTo>
                      <a:pt x="0" y="0"/>
                    </a:moveTo>
                    <a:cubicBezTo>
                      <a:pt x="164" y="297"/>
                      <a:pt x="329" y="595"/>
                      <a:pt x="413" y="800"/>
                    </a:cubicBezTo>
                    <a:cubicBezTo>
                      <a:pt x="497" y="1005"/>
                      <a:pt x="498" y="1088"/>
                      <a:pt x="503" y="1232"/>
                    </a:cubicBezTo>
                    <a:cubicBezTo>
                      <a:pt x="507" y="1376"/>
                      <a:pt x="520" y="1475"/>
                      <a:pt x="440" y="1664"/>
                    </a:cubicBezTo>
                    <a:cubicBezTo>
                      <a:pt x="360" y="1853"/>
                      <a:pt x="111" y="2219"/>
                      <a:pt x="24" y="23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20"/>
              <p:cNvSpPr/>
              <p:nvPr/>
            </p:nvSpPr>
            <p:spPr>
              <a:xfrm>
                <a:off x="5175360" y="6019920"/>
                <a:ext cx="245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Longitude  30</a:t>
                </a:r>
                <a:r>
                  <a:rPr b="0" lang="en-GB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 Eas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21"/>
          <p:cNvGrpSpPr/>
          <p:nvPr/>
        </p:nvGrpSpPr>
        <p:grpSpPr>
          <a:xfrm>
            <a:off x="4343400" y="1981080"/>
            <a:ext cx="4527720" cy="3856680"/>
            <a:chOff x="4343400" y="1981080"/>
            <a:chExt cx="4527720" cy="3856680"/>
          </a:xfrm>
        </p:grpSpPr>
        <p:sp>
          <p:nvSpPr>
            <p:cNvPr id="243" name="Freeform 22"/>
            <p:cNvSpPr/>
            <p:nvPr/>
          </p:nvSpPr>
          <p:spPr>
            <a:xfrm>
              <a:off x="4343400" y="1981080"/>
              <a:ext cx="1365120" cy="377640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3776400"/>
                <a:gd name="textAreaBottom" fmla="*/ 3776760 h 3776400"/>
              </a:gdLst>
              <a:ahLst/>
              <a:rect l="textAreaLeft" t="textAreaTop" r="textAreaRight" b="textAreaBottom"/>
              <a:pathLst>
                <a:path w="860" h="2379">
                  <a:moveTo>
                    <a:pt x="0" y="0"/>
                  </a:moveTo>
                  <a:cubicBezTo>
                    <a:pt x="124" y="133"/>
                    <a:pt x="620" y="525"/>
                    <a:pt x="740" y="799"/>
                  </a:cubicBezTo>
                  <a:cubicBezTo>
                    <a:pt x="860" y="1073"/>
                    <a:pt x="842" y="1384"/>
                    <a:pt x="722" y="1647"/>
                  </a:cubicBezTo>
                  <a:cubicBezTo>
                    <a:pt x="602" y="1910"/>
                    <a:pt x="167" y="2227"/>
                    <a:pt x="21" y="23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H="1" flipV="1">
              <a:off x="5429160" y="4719240"/>
              <a:ext cx="952560" cy="85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6413400" y="550044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6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Ea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1384200" y="1943280"/>
            <a:ext cx="2997360" cy="4356720"/>
            <a:chOff x="1384200" y="1943280"/>
            <a:chExt cx="2997360" cy="4356720"/>
          </a:xfrm>
        </p:grpSpPr>
        <p:sp>
          <p:nvSpPr>
            <p:cNvPr id="247" name="Freeform 26"/>
            <p:cNvSpPr/>
            <p:nvPr/>
          </p:nvSpPr>
          <p:spPr>
            <a:xfrm>
              <a:off x="3892680" y="1943280"/>
              <a:ext cx="488880" cy="37717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71720"/>
                <a:gd name="textAreaBottom" fmla="*/ 3772080 h 3771720"/>
              </a:gdLst>
              <a:ahLst/>
              <a:rect l="textAreaLeft" t="textAreaTop" r="textAreaRight" b="textAreaBottom"/>
              <a:pathLst>
                <a:path w="308" h="2376">
                  <a:moveTo>
                    <a:pt x="284" y="0"/>
                  </a:moveTo>
                  <a:cubicBezTo>
                    <a:pt x="142" y="426"/>
                    <a:pt x="0" y="852"/>
                    <a:pt x="4" y="1248"/>
                  </a:cubicBezTo>
                  <a:cubicBezTo>
                    <a:pt x="8" y="1644"/>
                    <a:pt x="158" y="2010"/>
                    <a:pt x="308" y="23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V="1">
              <a:off x="3111840" y="5092920"/>
              <a:ext cx="105336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8"/>
            <p:cNvSpPr/>
            <p:nvPr/>
          </p:nvSpPr>
          <p:spPr>
            <a:xfrm>
              <a:off x="1384200" y="596268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3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241200" y="1968480"/>
            <a:ext cx="4130640" cy="3798000"/>
            <a:chOff x="241200" y="1968480"/>
            <a:chExt cx="4130640" cy="3798000"/>
          </a:xfrm>
        </p:grpSpPr>
        <p:sp>
          <p:nvSpPr>
            <p:cNvPr id="251" name="Freeform 30"/>
            <p:cNvSpPr/>
            <p:nvPr/>
          </p:nvSpPr>
          <p:spPr>
            <a:xfrm>
              <a:off x="3186000" y="1968480"/>
              <a:ext cx="1185840" cy="374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3741840"/>
                <a:gd name="textAreaBottom" fmla="*/ 3742200 h 3741840"/>
              </a:gdLst>
              <a:ahLst/>
              <a:rect l="textAreaLeft" t="textAreaTop" r="textAreaRight" b="textAreaBottom"/>
              <a:pathLst>
                <a:path w="747" h="2357">
                  <a:moveTo>
                    <a:pt x="729" y="0"/>
                  </a:moveTo>
                  <a:cubicBezTo>
                    <a:pt x="515" y="207"/>
                    <a:pt x="302" y="415"/>
                    <a:pt x="185" y="576"/>
                  </a:cubicBezTo>
                  <a:cubicBezTo>
                    <a:pt x="68" y="737"/>
                    <a:pt x="50" y="841"/>
                    <a:pt x="25" y="968"/>
                  </a:cubicBezTo>
                  <a:cubicBezTo>
                    <a:pt x="0" y="1095"/>
                    <a:pt x="5" y="1203"/>
                    <a:pt x="33" y="1336"/>
                  </a:cubicBezTo>
                  <a:cubicBezTo>
                    <a:pt x="61" y="1469"/>
                    <a:pt x="137" y="1655"/>
                    <a:pt x="193" y="1768"/>
                  </a:cubicBezTo>
                  <a:cubicBezTo>
                    <a:pt x="249" y="1881"/>
                    <a:pt x="309" y="1939"/>
                    <a:pt x="369" y="2016"/>
                  </a:cubicBezTo>
                  <a:cubicBezTo>
                    <a:pt x="429" y="2093"/>
                    <a:pt x="490" y="2175"/>
                    <a:pt x="553" y="2232"/>
                  </a:cubicBezTo>
                  <a:cubicBezTo>
                    <a:pt x="616" y="2289"/>
                    <a:pt x="707" y="2331"/>
                    <a:pt x="747" y="235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2464200" y="4711680"/>
              <a:ext cx="105336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2"/>
            <p:cNvSpPr/>
            <p:nvPr/>
          </p:nvSpPr>
          <p:spPr>
            <a:xfrm>
              <a:off x="241200" y="542916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 6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33"/>
          <p:cNvSpPr/>
          <p:nvPr/>
        </p:nvSpPr>
        <p:spPr>
          <a:xfrm>
            <a:off x="2471760" y="1957320"/>
            <a:ext cx="3759120" cy="375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1238400" y="380880"/>
            <a:ext cx="68007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itioning on the Earth’s Su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5"/>
          <p:cNvGrpSpPr/>
          <p:nvPr/>
        </p:nvGrpSpPr>
        <p:grpSpPr>
          <a:xfrm>
            <a:off x="399960" y="1047600"/>
            <a:ext cx="3511800" cy="580680"/>
            <a:chOff x="399960" y="1047600"/>
            <a:chExt cx="3511800" cy="580680"/>
          </a:xfrm>
        </p:grpSpPr>
        <p:sp>
          <p:nvSpPr>
            <p:cNvPr id="257" name="AutoShape 36"/>
            <p:cNvSpPr/>
            <p:nvPr/>
          </p:nvSpPr>
          <p:spPr>
            <a:xfrm>
              <a:off x="2768760" y="1181160"/>
              <a:ext cx="1143000" cy="41904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73080 h 419040"/>
                <a:gd name="textAreaBottom" fmla="*/ 3038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7"/>
            <p:cNvSpPr/>
            <p:nvPr/>
          </p:nvSpPr>
          <p:spPr>
            <a:xfrm>
              <a:off x="399960" y="1047600"/>
              <a:ext cx="245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ast is the direction of rotation of the Ear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8"/>
          <p:cNvSpPr/>
          <p:nvPr/>
        </p:nvSpPr>
        <p:spPr>
          <a:xfrm>
            <a:off x="8643960" y="344808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" h="20">
                <a:moveTo>
                  <a:pt x="16" y="0"/>
                </a:moveTo>
                <a:lnTo>
                  <a:pt x="0" y="20"/>
                </a:lnTo>
                <a:lnTo>
                  <a:pt x="12" y="2"/>
                </a:lnTo>
                <a:lnTo>
                  <a:pt x="16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9"/>
          <p:cNvGrpSpPr/>
          <p:nvPr/>
        </p:nvGrpSpPr>
        <p:grpSpPr>
          <a:xfrm>
            <a:off x="3664080" y="1001880"/>
            <a:ext cx="1473120" cy="5694120"/>
            <a:chOff x="3664080" y="1001880"/>
            <a:chExt cx="1473120" cy="5694120"/>
          </a:xfrm>
        </p:grpSpPr>
        <p:grpSp>
          <p:nvGrpSpPr>
            <p:cNvPr id="261" name="Group 40"/>
            <p:cNvGrpSpPr/>
            <p:nvPr/>
          </p:nvGrpSpPr>
          <p:grpSpPr>
            <a:xfrm>
              <a:off x="3664080" y="1001880"/>
              <a:ext cx="1473120" cy="995040"/>
              <a:chOff x="3664080" y="1001880"/>
              <a:chExt cx="1473120" cy="995040"/>
            </a:xfrm>
          </p:grpSpPr>
          <p:sp>
            <p:nvSpPr>
              <p:cNvPr id="262" name="Oval 41"/>
              <p:cNvSpPr/>
              <p:nvPr/>
            </p:nvSpPr>
            <p:spPr>
              <a:xfrm>
                <a:off x="4314960" y="1925640"/>
                <a:ext cx="745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42"/>
              <p:cNvGrpSpPr/>
              <p:nvPr/>
            </p:nvGrpSpPr>
            <p:grpSpPr>
              <a:xfrm>
                <a:off x="3664080" y="1001880"/>
                <a:ext cx="1473120" cy="907920"/>
                <a:chOff x="3664080" y="1001880"/>
                <a:chExt cx="1473120" cy="907920"/>
              </a:xfrm>
            </p:grpSpPr>
            <p:grpSp>
              <p:nvGrpSpPr>
                <p:cNvPr id="264" name="Group 43"/>
                <p:cNvGrpSpPr/>
                <p:nvPr/>
              </p:nvGrpSpPr>
              <p:grpSpPr>
                <a:xfrm>
                  <a:off x="3927600" y="1001880"/>
                  <a:ext cx="1027080" cy="907920"/>
                  <a:chOff x="3927600" y="1001880"/>
                  <a:chExt cx="1027080" cy="907920"/>
                </a:xfrm>
              </p:grpSpPr>
              <p:sp>
                <p:nvSpPr>
                  <p:cNvPr id="265" name="Freeform 44"/>
                  <p:cNvSpPr/>
                  <p:nvPr/>
                </p:nvSpPr>
                <p:spPr>
                  <a:xfrm>
                    <a:off x="3927600" y="1001880"/>
                    <a:ext cx="1027080" cy="907920"/>
                  </a:xfrm>
                  <a:custGeom>
                    <a:avLst/>
                    <a:gdLst>
                      <a:gd name="textAreaLeft" fmla="*/ 0 w 1027080"/>
                      <a:gd name="textAreaRight" fmla="*/ 1027440 w 1027080"/>
                      <a:gd name="textAreaTop" fmla="*/ 0 h 907920"/>
                      <a:gd name="textAreaBottom" fmla="*/ 908280 h 907920"/>
                    </a:gdLst>
                    <a:ahLst/>
                    <a:rect l="textAreaLeft" t="textAreaTop" r="textAreaRight" b="textAreaBottom"/>
                    <a:pathLst>
                      <a:path w="3237" h="2859">
                        <a:moveTo>
                          <a:pt x="76" y="2360"/>
                        </a:moveTo>
                        <a:lnTo>
                          <a:pt x="94" y="2332"/>
                        </a:lnTo>
                        <a:lnTo>
                          <a:pt x="113" y="2307"/>
                        </a:lnTo>
                        <a:lnTo>
                          <a:pt x="133" y="2280"/>
                        </a:lnTo>
                        <a:lnTo>
                          <a:pt x="153" y="2254"/>
                        </a:lnTo>
                        <a:lnTo>
                          <a:pt x="172" y="2227"/>
                        </a:lnTo>
                        <a:lnTo>
                          <a:pt x="192" y="2200"/>
                        </a:lnTo>
                        <a:lnTo>
                          <a:pt x="209" y="2173"/>
                        </a:lnTo>
                        <a:lnTo>
                          <a:pt x="227" y="2147"/>
                        </a:lnTo>
                        <a:lnTo>
                          <a:pt x="239" y="2115"/>
                        </a:lnTo>
                        <a:lnTo>
                          <a:pt x="248" y="2083"/>
                        </a:lnTo>
                        <a:lnTo>
                          <a:pt x="255" y="2049"/>
                        </a:lnTo>
                        <a:lnTo>
                          <a:pt x="259" y="2016"/>
                        </a:lnTo>
                        <a:lnTo>
                          <a:pt x="259" y="1980"/>
                        </a:lnTo>
                        <a:lnTo>
                          <a:pt x="258" y="1945"/>
                        </a:lnTo>
                        <a:lnTo>
                          <a:pt x="255" y="1909"/>
                        </a:lnTo>
                        <a:lnTo>
                          <a:pt x="251" y="1877"/>
                        </a:lnTo>
                        <a:lnTo>
                          <a:pt x="238" y="1824"/>
                        </a:lnTo>
                        <a:lnTo>
                          <a:pt x="225" y="1771"/>
                        </a:lnTo>
                        <a:lnTo>
                          <a:pt x="211" y="1717"/>
                        </a:lnTo>
                        <a:lnTo>
                          <a:pt x="200" y="1665"/>
                        </a:lnTo>
                        <a:lnTo>
                          <a:pt x="189" y="1611"/>
                        </a:lnTo>
                        <a:lnTo>
                          <a:pt x="184" y="1557"/>
                        </a:lnTo>
                        <a:lnTo>
                          <a:pt x="184" y="1502"/>
                        </a:lnTo>
                        <a:lnTo>
                          <a:pt x="192" y="1447"/>
                        </a:lnTo>
                        <a:lnTo>
                          <a:pt x="184" y="1443"/>
                        </a:lnTo>
                        <a:lnTo>
                          <a:pt x="177" y="1439"/>
                        </a:lnTo>
                        <a:lnTo>
                          <a:pt x="169" y="1436"/>
                        </a:lnTo>
                        <a:lnTo>
                          <a:pt x="163" y="1433"/>
                        </a:lnTo>
                        <a:lnTo>
                          <a:pt x="155" y="1428"/>
                        </a:lnTo>
                        <a:lnTo>
                          <a:pt x="149" y="1423"/>
                        </a:lnTo>
                        <a:lnTo>
                          <a:pt x="142" y="1417"/>
                        </a:lnTo>
                        <a:lnTo>
                          <a:pt x="139" y="1412"/>
                        </a:lnTo>
                        <a:lnTo>
                          <a:pt x="133" y="1389"/>
                        </a:lnTo>
                        <a:lnTo>
                          <a:pt x="127" y="1366"/>
                        </a:lnTo>
                        <a:lnTo>
                          <a:pt x="123" y="1344"/>
                        </a:lnTo>
                        <a:lnTo>
                          <a:pt x="122" y="1322"/>
                        </a:lnTo>
                        <a:lnTo>
                          <a:pt x="122" y="1300"/>
                        </a:lnTo>
                        <a:lnTo>
                          <a:pt x="126" y="1280"/>
                        </a:lnTo>
                        <a:lnTo>
                          <a:pt x="135" y="1258"/>
                        </a:lnTo>
                        <a:lnTo>
                          <a:pt x="149" y="1240"/>
                        </a:lnTo>
                        <a:lnTo>
                          <a:pt x="154" y="1230"/>
                        </a:lnTo>
                        <a:lnTo>
                          <a:pt x="162" y="1222"/>
                        </a:lnTo>
                        <a:lnTo>
                          <a:pt x="169" y="1214"/>
                        </a:lnTo>
                        <a:lnTo>
                          <a:pt x="179" y="1208"/>
                        </a:lnTo>
                        <a:lnTo>
                          <a:pt x="187" y="1200"/>
                        </a:lnTo>
                        <a:lnTo>
                          <a:pt x="196" y="1194"/>
                        </a:lnTo>
                        <a:lnTo>
                          <a:pt x="204" y="1186"/>
                        </a:lnTo>
                        <a:lnTo>
                          <a:pt x="213" y="1180"/>
                        </a:lnTo>
                        <a:lnTo>
                          <a:pt x="221" y="1176"/>
                        </a:lnTo>
                        <a:lnTo>
                          <a:pt x="229" y="1174"/>
                        </a:lnTo>
                        <a:lnTo>
                          <a:pt x="237" y="1171"/>
                        </a:lnTo>
                        <a:lnTo>
                          <a:pt x="245" y="1170"/>
                        </a:lnTo>
                        <a:lnTo>
                          <a:pt x="254" y="1168"/>
                        </a:lnTo>
                        <a:lnTo>
                          <a:pt x="262" y="1168"/>
                        </a:lnTo>
                        <a:lnTo>
                          <a:pt x="272" y="1167"/>
                        </a:lnTo>
                        <a:lnTo>
                          <a:pt x="282" y="1169"/>
                        </a:lnTo>
                        <a:lnTo>
                          <a:pt x="287" y="1157"/>
                        </a:lnTo>
                        <a:lnTo>
                          <a:pt x="292" y="1146"/>
                        </a:lnTo>
                        <a:lnTo>
                          <a:pt x="298" y="1136"/>
                        </a:lnTo>
                        <a:lnTo>
                          <a:pt x="304" y="1126"/>
                        </a:lnTo>
                        <a:lnTo>
                          <a:pt x="310" y="1115"/>
                        </a:lnTo>
                        <a:lnTo>
                          <a:pt x="316" y="1105"/>
                        </a:lnTo>
                        <a:lnTo>
                          <a:pt x="321" y="1094"/>
                        </a:lnTo>
                        <a:lnTo>
                          <a:pt x="328" y="1083"/>
                        </a:lnTo>
                        <a:lnTo>
                          <a:pt x="352" y="1041"/>
                        </a:lnTo>
                        <a:lnTo>
                          <a:pt x="381" y="1003"/>
                        </a:lnTo>
                        <a:lnTo>
                          <a:pt x="414" y="964"/>
                        </a:lnTo>
                        <a:lnTo>
                          <a:pt x="449" y="930"/>
                        </a:lnTo>
                        <a:lnTo>
                          <a:pt x="485" y="896"/>
                        </a:lnTo>
                        <a:lnTo>
                          <a:pt x="526" y="868"/>
                        </a:lnTo>
                        <a:lnTo>
                          <a:pt x="567" y="843"/>
                        </a:lnTo>
                        <a:lnTo>
                          <a:pt x="612" y="823"/>
                        </a:lnTo>
                        <a:lnTo>
                          <a:pt x="625" y="819"/>
                        </a:lnTo>
                        <a:lnTo>
                          <a:pt x="639" y="816"/>
                        </a:lnTo>
                        <a:lnTo>
                          <a:pt x="653" y="813"/>
                        </a:lnTo>
                        <a:lnTo>
                          <a:pt x="668" y="809"/>
                        </a:lnTo>
                        <a:lnTo>
                          <a:pt x="682" y="806"/>
                        </a:lnTo>
                        <a:lnTo>
                          <a:pt x="697" y="805"/>
                        </a:lnTo>
                        <a:lnTo>
                          <a:pt x="712" y="804"/>
                        </a:lnTo>
                        <a:lnTo>
                          <a:pt x="728" y="804"/>
                        </a:lnTo>
                        <a:lnTo>
                          <a:pt x="744" y="779"/>
                        </a:lnTo>
                        <a:lnTo>
                          <a:pt x="764" y="757"/>
                        </a:lnTo>
                        <a:lnTo>
                          <a:pt x="785" y="734"/>
                        </a:lnTo>
                        <a:lnTo>
                          <a:pt x="807" y="715"/>
                        </a:lnTo>
                        <a:lnTo>
                          <a:pt x="830" y="696"/>
                        </a:lnTo>
                        <a:lnTo>
                          <a:pt x="853" y="677"/>
                        </a:lnTo>
                        <a:lnTo>
                          <a:pt x="876" y="660"/>
                        </a:lnTo>
                        <a:lnTo>
                          <a:pt x="899" y="644"/>
                        </a:lnTo>
                        <a:lnTo>
                          <a:pt x="908" y="638"/>
                        </a:lnTo>
                        <a:lnTo>
                          <a:pt x="918" y="633"/>
                        </a:lnTo>
                        <a:lnTo>
                          <a:pt x="927" y="630"/>
                        </a:lnTo>
                        <a:lnTo>
                          <a:pt x="937" y="627"/>
                        </a:lnTo>
                        <a:lnTo>
                          <a:pt x="947" y="624"/>
                        </a:lnTo>
                        <a:lnTo>
                          <a:pt x="957" y="622"/>
                        </a:lnTo>
                        <a:lnTo>
                          <a:pt x="968" y="621"/>
                        </a:lnTo>
                        <a:lnTo>
                          <a:pt x="979" y="621"/>
                        </a:lnTo>
                        <a:lnTo>
                          <a:pt x="995" y="624"/>
                        </a:lnTo>
                        <a:lnTo>
                          <a:pt x="1009" y="631"/>
                        </a:lnTo>
                        <a:lnTo>
                          <a:pt x="1021" y="640"/>
                        </a:lnTo>
                        <a:lnTo>
                          <a:pt x="1032" y="653"/>
                        </a:lnTo>
                        <a:lnTo>
                          <a:pt x="1042" y="666"/>
                        </a:lnTo>
                        <a:lnTo>
                          <a:pt x="1052" y="679"/>
                        </a:lnTo>
                        <a:lnTo>
                          <a:pt x="1060" y="691"/>
                        </a:lnTo>
                        <a:lnTo>
                          <a:pt x="1071" y="704"/>
                        </a:lnTo>
                        <a:lnTo>
                          <a:pt x="1085" y="682"/>
                        </a:lnTo>
                        <a:lnTo>
                          <a:pt x="1102" y="661"/>
                        </a:lnTo>
                        <a:lnTo>
                          <a:pt x="1120" y="641"/>
                        </a:lnTo>
                        <a:lnTo>
                          <a:pt x="1141" y="624"/>
                        </a:lnTo>
                        <a:lnTo>
                          <a:pt x="1161" y="609"/>
                        </a:lnTo>
                        <a:lnTo>
                          <a:pt x="1185" y="597"/>
                        </a:lnTo>
                        <a:lnTo>
                          <a:pt x="1209" y="589"/>
                        </a:lnTo>
                        <a:lnTo>
                          <a:pt x="1237" y="587"/>
                        </a:lnTo>
                        <a:lnTo>
                          <a:pt x="1244" y="587"/>
                        </a:lnTo>
                        <a:lnTo>
                          <a:pt x="1250" y="588"/>
                        </a:lnTo>
                        <a:lnTo>
                          <a:pt x="1257" y="587"/>
                        </a:lnTo>
                        <a:lnTo>
                          <a:pt x="1264" y="587"/>
                        </a:lnTo>
                        <a:lnTo>
                          <a:pt x="1269" y="587"/>
                        </a:lnTo>
                        <a:lnTo>
                          <a:pt x="1276" y="587"/>
                        </a:lnTo>
                        <a:lnTo>
                          <a:pt x="1282" y="588"/>
                        </a:lnTo>
                        <a:lnTo>
                          <a:pt x="1289" y="593"/>
                        </a:lnTo>
                        <a:lnTo>
                          <a:pt x="1295" y="583"/>
                        </a:lnTo>
                        <a:lnTo>
                          <a:pt x="1304" y="574"/>
                        </a:lnTo>
                        <a:lnTo>
                          <a:pt x="1312" y="566"/>
                        </a:lnTo>
                        <a:lnTo>
                          <a:pt x="1324" y="560"/>
                        </a:lnTo>
                        <a:lnTo>
                          <a:pt x="1334" y="555"/>
                        </a:lnTo>
                        <a:lnTo>
                          <a:pt x="1347" y="552"/>
                        </a:lnTo>
                        <a:lnTo>
                          <a:pt x="1359" y="551"/>
                        </a:lnTo>
                        <a:lnTo>
                          <a:pt x="1372" y="554"/>
                        </a:lnTo>
                        <a:lnTo>
                          <a:pt x="1378" y="551"/>
                        </a:lnTo>
                        <a:lnTo>
                          <a:pt x="1384" y="551"/>
                        </a:lnTo>
                        <a:lnTo>
                          <a:pt x="1391" y="551"/>
                        </a:lnTo>
                        <a:lnTo>
                          <a:pt x="1397" y="551"/>
                        </a:lnTo>
                        <a:lnTo>
                          <a:pt x="1403" y="551"/>
                        </a:lnTo>
                        <a:lnTo>
                          <a:pt x="1410" y="552"/>
                        </a:lnTo>
                        <a:lnTo>
                          <a:pt x="1416" y="553"/>
                        </a:lnTo>
                        <a:lnTo>
                          <a:pt x="1424" y="554"/>
                        </a:lnTo>
                        <a:lnTo>
                          <a:pt x="1430" y="555"/>
                        </a:lnTo>
                        <a:lnTo>
                          <a:pt x="1438" y="559"/>
                        </a:lnTo>
                        <a:lnTo>
                          <a:pt x="1443" y="565"/>
                        </a:lnTo>
                        <a:lnTo>
                          <a:pt x="1450" y="570"/>
                        </a:lnTo>
                        <a:lnTo>
                          <a:pt x="1455" y="574"/>
                        </a:lnTo>
                        <a:lnTo>
                          <a:pt x="1461" y="579"/>
                        </a:lnTo>
                        <a:lnTo>
                          <a:pt x="1468" y="581"/>
                        </a:lnTo>
                        <a:lnTo>
                          <a:pt x="1477" y="580"/>
                        </a:lnTo>
                        <a:lnTo>
                          <a:pt x="1486" y="584"/>
                        </a:lnTo>
                        <a:lnTo>
                          <a:pt x="1496" y="589"/>
                        </a:lnTo>
                        <a:lnTo>
                          <a:pt x="1505" y="593"/>
                        </a:lnTo>
                        <a:lnTo>
                          <a:pt x="1515" y="597"/>
                        </a:lnTo>
                        <a:lnTo>
                          <a:pt x="1525" y="599"/>
                        </a:lnTo>
                        <a:lnTo>
                          <a:pt x="1535" y="601"/>
                        </a:lnTo>
                        <a:lnTo>
                          <a:pt x="1546" y="603"/>
                        </a:lnTo>
                        <a:lnTo>
                          <a:pt x="1557" y="606"/>
                        </a:lnTo>
                        <a:lnTo>
                          <a:pt x="1577" y="596"/>
                        </a:lnTo>
                        <a:lnTo>
                          <a:pt x="1601" y="589"/>
                        </a:lnTo>
                        <a:lnTo>
                          <a:pt x="1623" y="584"/>
                        </a:lnTo>
                        <a:lnTo>
                          <a:pt x="1648" y="581"/>
                        </a:lnTo>
                        <a:lnTo>
                          <a:pt x="1672" y="577"/>
                        </a:lnTo>
                        <a:lnTo>
                          <a:pt x="1695" y="573"/>
                        </a:lnTo>
                        <a:lnTo>
                          <a:pt x="1719" y="569"/>
                        </a:lnTo>
                        <a:lnTo>
                          <a:pt x="1742" y="564"/>
                        </a:lnTo>
                        <a:lnTo>
                          <a:pt x="1734" y="557"/>
                        </a:lnTo>
                        <a:lnTo>
                          <a:pt x="1725" y="552"/>
                        </a:lnTo>
                        <a:lnTo>
                          <a:pt x="1716" y="547"/>
                        </a:lnTo>
                        <a:lnTo>
                          <a:pt x="1708" y="541"/>
                        </a:lnTo>
                        <a:lnTo>
                          <a:pt x="1699" y="534"/>
                        </a:lnTo>
                        <a:lnTo>
                          <a:pt x="1695" y="527"/>
                        </a:lnTo>
                        <a:lnTo>
                          <a:pt x="1692" y="516"/>
                        </a:lnTo>
                        <a:lnTo>
                          <a:pt x="1692" y="507"/>
                        </a:lnTo>
                        <a:lnTo>
                          <a:pt x="1687" y="501"/>
                        </a:lnTo>
                        <a:lnTo>
                          <a:pt x="1684" y="496"/>
                        </a:lnTo>
                        <a:lnTo>
                          <a:pt x="1682" y="490"/>
                        </a:lnTo>
                        <a:lnTo>
                          <a:pt x="1682" y="484"/>
                        </a:lnTo>
                        <a:lnTo>
                          <a:pt x="1680" y="478"/>
                        </a:lnTo>
                        <a:lnTo>
                          <a:pt x="1679" y="474"/>
                        </a:lnTo>
                        <a:lnTo>
                          <a:pt x="1675" y="469"/>
                        </a:lnTo>
                        <a:lnTo>
                          <a:pt x="1669" y="468"/>
                        </a:lnTo>
                        <a:lnTo>
                          <a:pt x="1665" y="463"/>
                        </a:lnTo>
                        <a:lnTo>
                          <a:pt x="1664" y="457"/>
                        </a:lnTo>
                        <a:lnTo>
                          <a:pt x="1664" y="451"/>
                        </a:lnTo>
                        <a:lnTo>
                          <a:pt x="1666" y="446"/>
                        </a:lnTo>
                        <a:lnTo>
                          <a:pt x="1665" y="439"/>
                        </a:lnTo>
                        <a:lnTo>
                          <a:pt x="1665" y="436"/>
                        </a:lnTo>
                        <a:lnTo>
                          <a:pt x="1662" y="433"/>
                        </a:lnTo>
                        <a:lnTo>
                          <a:pt x="1658" y="433"/>
                        </a:lnTo>
                        <a:lnTo>
                          <a:pt x="1640" y="420"/>
                        </a:lnTo>
                        <a:lnTo>
                          <a:pt x="1627" y="406"/>
                        </a:lnTo>
                        <a:lnTo>
                          <a:pt x="1614" y="390"/>
                        </a:lnTo>
                        <a:lnTo>
                          <a:pt x="1604" y="375"/>
                        </a:lnTo>
                        <a:lnTo>
                          <a:pt x="1593" y="357"/>
                        </a:lnTo>
                        <a:lnTo>
                          <a:pt x="1587" y="339"/>
                        </a:lnTo>
                        <a:lnTo>
                          <a:pt x="1583" y="320"/>
                        </a:lnTo>
                        <a:lnTo>
                          <a:pt x="1580" y="301"/>
                        </a:lnTo>
                        <a:lnTo>
                          <a:pt x="1576" y="289"/>
                        </a:lnTo>
                        <a:lnTo>
                          <a:pt x="1579" y="278"/>
                        </a:lnTo>
                        <a:lnTo>
                          <a:pt x="1585" y="266"/>
                        </a:lnTo>
                        <a:lnTo>
                          <a:pt x="1587" y="256"/>
                        </a:lnTo>
                        <a:lnTo>
                          <a:pt x="1597" y="240"/>
                        </a:lnTo>
                        <a:lnTo>
                          <a:pt x="1608" y="227"/>
                        </a:lnTo>
                        <a:lnTo>
                          <a:pt x="1620" y="213"/>
                        </a:lnTo>
                        <a:lnTo>
                          <a:pt x="1635" y="201"/>
                        </a:lnTo>
                        <a:lnTo>
                          <a:pt x="1648" y="188"/>
                        </a:lnTo>
                        <a:lnTo>
                          <a:pt x="1664" y="178"/>
                        </a:lnTo>
                        <a:lnTo>
                          <a:pt x="1680" y="169"/>
                        </a:lnTo>
                        <a:lnTo>
                          <a:pt x="1696" y="161"/>
                        </a:lnTo>
                        <a:lnTo>
                          <a:pt x="1702" y="151"/>
                        </a:lnTo>
                        <a:lnTo>
                          <a:pt x="1711" y="144"/>
                        </a:lnTo>
                        <a:lnTo>
                          <a:pt x="1717" y="136"/>
                        </a:lnTo>
                        <a:lnTo>
                          <a:pt x="1714" y="127"/>
                        </a:lnTo>
                        <a:lnTo>
                          <a:pt x="1724" y="116"/>
                        </a:lnTo>
                        <a:lnTo>
                          <a:pt x="1734" y="107"/>
                        </a:lnTo>
                        <a:lnTo>
                          <a:pt x="1745" y="96"/>
                        </a:lnTo>
                        <a:lnTo>
                          <a:pt x="1755" y="86"/>
                        </a:lnTo>
                        <a:lnTo>
                          <a:pt x="1766" y="76"/>
                        </a:lnTo>
                        <a:lnTo>
                          <a:pt x="1778" y="67"/>
                        </a:lnTo>
                        <a:lnTo>
                          <a:pt x="1788" y="58"/>
                        </a:lnTo>
                        <a:lnTo>
                          <a:pt x="1800" y="50"/>
                        </a:lnTo>
                        <a:lnTo>
                          <a:pt x="1807" y="48"/>
                        </a:lnTo>
                        <a:lnTo>
                          <a:pt x="1813" y="45"/>
                        </a:lnTo>
                        <a:lnTo>
                          <a:pt x="1820" y="41"/>
                        </a:lnTo>
                        <a:lnTo>
                          <a:pt x="1827" y="38"/>
                        </a:lnTo>
                        <a:lnTo>
                          <a:pt x="1832" y="32"/>
                        </a:lnTo>
                        <a:lnTo>
                          <a:pt x="1839" y="29"/>
                        </a:lnTo>
                        <a:lnTo>
                          <a:pt x="1845" y="26"/>
                        </a:lnTo>
                        <a:lnTo>
                          <a:pt x="1854" y="26"/>
                        </a:lnTo>
                        <a:lnTo>
                          <a:pt x="1860" y="22"/>
                        </a:lnTo>
                        <a:lnTo>
                          <a:pt x="1869" y="21"/>
                        </a:lnTo>
                        <a:lnTo>
                          <a:pt x="1878" y="19"/>
                        </a:lnTo>
                        <a:lnTo>
                          <a:pt x="1887" y="19"/>
                        </a:lnTo>
                        <a:lnTo>
                          <a:pt x="1896" y="17"/>
                        </a:lnTo>
                        <a:lnTo>
                          <a:pt x="1904" y="16"/>
                        </a:lnTo>
                        <a:lnTo>
                          <a:pt x="1912" y="14"/>
                        </a:lnTo>
                        <a:lnTo>
                          <a:pt x="1920" y="11"/>
                        </a:lnTo>
                        <a:lnTo>
                          <a:pt x="1939" y="6"/>
                        </a:lnTo>
                        <a:lnTo>
                          <a:pt x="1958" y="2"/>
                        </a:lnTo>
                        <a:lnTo>
                          <a:pt x="1978" y="0"/>
                        </a:lnTo>
                        <a:lnTo>
                          <a:pt x="1999" y="1"/>
                        </a:lnTo>
                        <a:lnTo>
                          <a:pt x="2018" y="1"/>
                        </a:lnTo>
                        <a:lnTo>
                          <a:pt x="2038" y="5"/>
                        </a:lnTo>
                        <a:lnTo>
                          <a:pt x="2058" y="8"/>
                        </a:lnTo>
                        <a:lnTo>
                          <a:pt x="2077" y="14"/>
                        </a:lnTo>
                        <a:lnTo>
                          <a:pt x="2097" y="16"/>
                        </a:lnTo>
                        <a:lnTo>
                          <a:pt x="2119" y="20"/>
                        </a:lnTo>
                        <a:lnTo>
                          <a:pt x="2140" y="24"/>
                        </a:lnTo>
                        <a:lnTo>
                          <a:pt x="2163" y="31"/>
                        </a:lnTo>
                        <a:lnTo>
                          <a:pt x="2182" y="39"/>
                        </a:lnTo>
                        <a:lnTo>
                          <a:pt x="2200" y="52"/>
                        </a:lnTo>
                        <a:lnTo>
                          <a:pt x="2216" y="68"/>
                        </a:lnTo>
                        <a:lnTo>
                          <a:pt x="2229" y="88"/>
                        </a:lnTo>
                        <a:lnTo>
                          <a:pt x="2235" y="93"/>
                        </a:lnTo>
                        <a:lnTo>
                          <a:pt x="2241" y="99"/>
                        </a:lnTo>
                        <a:lnTo>
                          <a:pt x="2245" y="105"/>
                        </a:lnTo>
                        <a:lnTo>
                          <a:pt x="2250" y="113"/>
                        </a:lnTo>
                        <a:lnTo>
                          <a:pt x="2253" y="119"/>
                        </a:lnTo>
                        <a:lnTo>
                          <a:pt x="2256" y="127"/>
                        </a:lnTo>
                        <a:lnTo>
                          <a:pt x="2259" y="134"/>
                        </a:lnTo>
                        <a:lnTo>
                          <a:pt x="2265" y="142"/>
                        </a:lnTo>
                        <a:lnTo>
                          <a:pt x="2265" y="156"/>
                        </a:lnTo>
                        <a:lnTo>
                          <a:pt x="2268" y="171"/>
                        </a:lnTo>
                        <a:lnTo>
                          <a:pt x="2271" y="185"/>
                        </a:lnTo>
                        <a:lnTo>
                          <a:pt x="2276" y="200"/>
                        </a:lnTo>
                        <a:lnTo>
                          <a:pt x="2279" y="214"/>
                        </a:lnTo>
                        <a:lnTo>
                          <a:pt x="2282" y="229"/>
                        </a:lnTo>
                        <a:lnTo>
                          <a:pt x="2283" y="245"/>
                        </a:lnTo>
                        <a:lnTo>
                          <a:pt x="2282" y="261"/>
                        </a:lnTo>
                        <a:lnTo>
                          <a:pt x="2282" y="274"/>
                        </a:lnTo>
                        <a:lnTo>
                          <a:pt x="2282" y="287"/>
                        </a:lnTo>
                        <a:lnTo>
                          <a:pt x="2281" y="300"/>
                        </a:lnTo>
                        <a:lnTo>
                          <a:pt x="2281" y="314"/>
                        </a:lnTo>
                        <a:lnTo>
                          <a:pt x="2279" y="327"/>
                        </a:lnTo>
                        <a:lnTo>
                          <a:pt x="2276" y="342"/>
                        </a:lnTo>
                        <a:lnTo>
                          <a:pt x="2272" y="354"/>
                        </a:lnTo>
                        <a:lnTo>
                          <a:pt x="2267" y="369"/>
                        </a:lnTo>
                        <a:lnTo>
                          <a:pt x="2263" y="377"/>
                        </a:lnTo>
                        <a:lnTo>
                          <a:pt x="2263" y="387"/>
                        </a:lnTo>
                        <a:lnTo>
                          <a:pt x="2259" y="393"/>
                        </a:lnTo>
                        <a:lnTo>
                          <a:pt x="2253" y="397"/>
                        </a:lnTo>
                        <a:lnTo>
                          <a:pt x="2250" y="405"/>
                        </a:lnTo>
                        <a:lnTo>
                          <a:pt x="2255" y="404"/>
                        </a:lnTo>
                        <a:lnTo>
                          <a:pt x="2260" y="400"/>
                        </a:lnTo>
                        <a:lnTo>
                          <a:pt x="2265" y="394"/>
                        </a:lnTo>
                        <a:lnTo>
                          <a:pt x="2271" y="391"/>
                        </a:lnTo>
                        <a:lnTo>
                          <a:pt x="2279" y="387"/>
                        </a:lnTo>
                        <a:lnTo>
                          <a:pt x="2286" y="383"/>
                        </a:lnTo>
                        <a:lnTo>
                          <a:pt x="2293" y="378"/>
                        </a:lnTo>
                        <a:lnTo>
                          <a:pt x="2301" y="374"/>
                        </a:lnTo>
                        <a:lnTo>
                          <a:pt x="2308" y="368"/>
                        </a:lnTo>
                        <a:lnTo>
                          <a:pt x="2316" y="366"/>
                        </a:lnTo>
                        <a:lnTo>
                          <a:pt x="2325" y="366"/>
                        </a:lnTo>
                        <a:lnTo>
                          <a:pt x="2335" y="369"/>
                        </a:lnTo>
                        <a:lnTo>
                          <a:pt x="2344" y="375"/>
                        </a:lnTo>
                        <a:lnTo>
                          <a:pt x="2353" y="379"/>
                        </a:lnTo>
                        <a:lnTo>
                          <a:pt x="2361" y="381"/>
                        </a:lnTo>
                        <a:lnTo>
                          <a:pt x="2371" y="383"/>
                        </a:lnTo>
                        <a:lnTo>
                          <a:pt x="2379" y="384"/>
                        </a:lnTo>
                        <a:lnTo>
                          <a:pt x="2389" y="388"/>
                        </a:lnTo>
                        <a:lnTo>
                          <a:pt x="2398" y="392"/>
                        </a:lnTo>
                        <a:lnTo>
                          <a:pt x="2406" y="401"/>
                        </a:lnTo>
                        <a:lnTo>
                          <a:pt x="2408" y="408"/>
                        </a:lnTo>
                        <a:lnTo>
                          <a:pt x="2415" y="416"/>
                        </a:lnTo>
                        <a:lnTo>
                          <a:pt x="2421" y="407"/>
                        </a:lnTo>
                        <a:lnTo>
                          <a:pt x="2428" y="401"/>
                        </a:lnTo>
                        <a:lnTo>
                          <a:pt x="2434" y="394"/>
                        </a:lnTo>
                        <a:lnTo>
                          <a:pt x="2442" y="388"/>
                        </a:lnTo>
                        <a:lnTo>
                          <a:pt x="2447" y="380"/>
                        </a:lnTo>
                        <a:lnTo>
                          <a:pt x="2453" y="374"/>
                        </a:lnTo>
                        <a:lnTo>
                          <a:pt x="2459" y="366"/>
                        </a:lnTo>
                        <a:lnTo>
                          <a:pt x="2465" y="360"/>
                        </a:lnTo>
                        <a:lnTo>
                          <a:pt x="2496" y="337"/>
                        </a:lnTo>
                        <a:lnTo>
                          <a:pt x="2529" y="317"/>
                        </a:lnTo>
                        <a:lnTo>
                          <a:pt x="2561" y="296"/>
                        </a:lnTo>
                        <a:lnTo>
                          <a:pt x="2593" y="278"/>
                        </a:lnTo>
                        <a:lnTo>
                          <a:pt x="2625" y="260"/>
                        </a:lnTo>
                        <a:lnTo>
                          <a:pt x="2660" y="245"/>
                        </a:lnTo>
                        <a:lnTo>
                          <a:pt x="2695" y="233"/>
                        </a:lnTo>
                        <a:lnTo>
                          <a:pt x="2731" y="225"/>
                        </a:lnTo>
                        <a:lnTo>
                          <a:pt x="2745" y="220"/>
                        </a:lnTo>
                        <a:lnTo>
                          <a:pt x="2760" y="217"/>
                        </a:lnTo>
                        <a:lnTo>
                          <a:pt x="2774" y="214"/>
                        </a:lnTo>
                        <a:lnTo>
                          <a:pt x="2789" y="211"/>
                        </a:lnTo>
                        <a:lnTo>
                          <a:pt x="2803" y="207"/>
                        </a:lnTo>
                        <a:lnTo>
                          <a:pt x="2819" y="205"/>
                        </a:lnTo>
                        <a:lnTo>
                          <a:pt x="2833" y="203"/>
                        </a:lnTo>
                        <a:lnTo>
                          <a:pt x="2849" y="203"/>
                        </a:lnTo>
                        <a:lnTo>
                          <a:pt x="2846" y="197"/>
                        </a:lnTo>
                        <a:lnTo>
                          <a:pt x="2846" y="192"/>
                        </a:lnTo>
                        <a:lnTo>
                          <a:pt x="2845" y="188"/>
                        </a:lnTo>
                        <a:lnTo>
                          <a:pt x="2844" y="184"/>
                        </a:lnTo>
                        <a:lnTo>
                          <a:pt x="2846" y="185"/>
                        </a:lnTo>
                        <a:lnTo>
                          <a:pt x="2848" y="184"/>
                        </a:lnTo>
                        <a:lnTo>
                          <a:pt x="2842" y="176"/>
                        </a:lnTo>
                        <a:lnTo>
                          <a:pt x="2843" y="178"/>
                        </a:lnTo>
                        <a:lnTo>
                          <a:pt x="2846" y="172"/>
                        </a:lnTo>
                        <a:lnTo>
                          <a:pt x="2848" y="162"/>
                        </a:lnTo>
                        <a:lnTo>
                          <a:pt x="2848" y="157"/>
                        </a:lnTo>
                        <a:lnTo>
                          <a:pt x="2850" y="153"/>
                        </a:lnTo>
                        <a:lnTo>
                          <a:pt x="2853" y="149"/>
                        </a:lnTo>
                        <a:lnTo>
                          <a:pt x="2860" y="147"/>
                        </a:lnTo>
                        <a:lnTo>
                          <a:pt x="2864" y="139"/>
                        </a:lnTo>
                        <a:lnTo>
                          <a:pt x="2871" y="132"/>
                        </a:lnTo>
                        <a:lnTo>
                          <a:pt x="2877" y="126"/>
                        </a:lnTo>
                        <a:lnTo>
                          <a:pt x="2885" y="123"/>
                        </a:lnTo>
                        <a:lnTo>
                          <a:pt x="2891" y="117"/>
                        </a:lnTo>
                        <a:lnTo>
                          <a:pt x="2900" y="114"/>
                        </a:lnTo>
                        <a:lnTo>
                          <a:pt x="2907" y="111"/>
                        </a:lnTo>
                        <a:lnTo>
                          <a:pt x="2916" y="108"/>
                        </a:lnTo>
                        <a:lnTo>
                          <a:pt x="2929" y="104"/>
                        </a:lnTo>
                        <a:lnTo>
                          <a:pt x="2941" y="105"/>
                        </a:lnTo>
                        <a:lnTo>
                          <a:pt x="2953" y="108"/>
                        </a:lnTo>
                        <a:lnTo>
                          <a:pt x="2965" y="112"/>
                        </a:lnTo>
                        <a:lnTo>
                          <a:pt x="2976" y="116"/>
                        </a:lnTo>
                        <a:lnTo>
                          <a:pt x="2988" y="124"/>
                        </a:lnTo>
                        <a:lnTo>
                          <a:pt x="2997" y="130"/>
                        </a:lnTo>
                        <a:lnTo>
                          <a:pt x="3008" y="140"/>
                        </a:lnTo>
                        <a:lnTo>
                          <a:pt x="3011" y="146"/>
                        </a:lnTo>
                        <a:lnTo>
                          <a:pt x="3015" y="155"/>
                        </a:lnTo>
                        <a:lnTo>
                          <a:pt x="3020" y="162"/>
                        </a:lnTo>
                        <a:lnTo>
                          <a:pt x="3024" y="171"/>
                        </a:lnTo>
                        <a:lnTo>
                          <a:pt x="3030" y="183"/>
                        </a:lnTo>
                        <a:lnTo>
                          <a:pt x="3035" y="196"/>
                        </a:lnTo>
                        <a:lnTo>
                          <a:pt x="3036" y="210"/>
                        </a:lnTo>
                        <a:lnTo>
                          <a:pt x="3036" y="224"/>
                        </a:lnTo>
                        <a:lnTo>
                          <a:pt x="3034" y="236"/>
                        </a:lnTo>
                        <a:lnTo>
                          <a:pt x="3032" y="250"/>
                        </a:lnTo>
                        <a:lnTo>
                          <a:pt x="3028" y="264"/>
                        </a:lnTo>
                        <a:lnTo>
                          <a:pt x="3027" y="278"/>
                        </a:lnTo>
                        <a:lnTo>
                          <a:pt x="3029" y="276"/>
                        </a:lnTo>
                        <a:lnTo>
                          <a:pt x="3032" y="275"/>
                        </a:lnTo>
                        <a:lnTo>
                          <a:pt x="3027" y="279"/>
                        </a:lnTo>
                        <a:lnTo>
                          <a:pt x="3029" y="281"/>
                        </a:lnTo>
                        <a:lnTo>
                          <a:pt x="3024" y="283"/>
                        </a:lnTo>
                        <a:lnTo>
                          <a:pt x="3027" y="287"/>
                        </a:lnTo>
                        <a:lnTo>
                          <a:pt x="3024" y="288"/>
                        </a:lnTo>
                        <a:lnTo>
                          <a:pt x="3020" y="291"/>
                        </a:lnTo>
                        <a:lnTo>
                          <a:pt x="3015" y="294"/>
                        </a:lnTo>
                        <a:lnTo>
                          <a:pt x="3012" y="300"/>
                        </a:lnTo>
                        <a:lnTo>
                          <a:pt x="3009" y="305"/>
                        </a:lnTo>
                        <a:lnTo>
                          <a:pt x="3004" y="312"/>
                        </a:lnTo>
                        <a:lnTo>
                          <a:pt x="2999" y="319"/>
                        </a:lnTo>
                        <a:lnTo>
                          <a:pt x="3003" y="328"/>
                        </a:lnTo>
                        <a:lnTo>
                          <a:pt x="3028" y="353"/>
                        </a:lnTo>
                        <a:lnTo>
                          <a:pt x="3055" y="380"/>
                        </a:lnTo>
                        <a:lnTo>
                          <a:pt x="3080" y="408"/>
                        </a:lnTo>
                        <a:lnTo>
                          <a:pt x="3106" y="438"/>
                        </a:lnTo>
                        <a:lnTo>
                          <a:pt x="3128" y="467"/>
                        </a:lnTo>
                        <a:lnTo>
                          <a:pt x="3151" y="497"/>
                        </a:lnTo>
                        <a:lnTo>
                          <a:pt x="3172" y="527"/>
                        </a:lnTo>
                        <a:lnTo>
                          <a:pt x="3193" y="559"/>
                        </a:lnTo>
                        <a:lnTo>
                          <a:pt x="3204" y="582"/>
                        </a:lnTo>
                        <a:lnTo>
                          <a:pt x="3215" y="608"/>
                        </a:lnTo>
                        <a:lnTo>
                          <a:pt x="3222" y="633"/>
                        </a:lnTo>
                        <a:lnTo>
                          <a:pt x="3230" y="660"/>
                        </a:lnTo>
                        <a:lnTo>
                          <a:pt x="3234" y="686"/>
                        </a:lnTo>
                        <a:lnTo>
                          <a:pt x="3237" y="714"/>
                        </a:lnTo>
                        <a:lnTo>
                          <a:pt x="3237" y="741"/>
                        </a:lnTo>
                        <a:lnTo>
                          <a:pt x="3236" y="769"/>
                        </a:lnTo>
                        <a:lnTo>
                          <a:pt x="3230" y="808"/>
                        </a:lnTo>
                        <a:lnTo>
                          <a:pt x="3221" y="848"/>
                        </a:lnTo>
                        <a:lnTo>
                          <a:pt x="3208" y="887"/>
                        </a:lnTo>
                        <a:lnTo>
                          <a:pt x="3193" y="924"/>
                        </a:lnTo>
                        <a:lnTo>
                          <a:pt x="3174" y="960"/>
                        </a:lnTo>
                        <a:lnTo>
                          <a:pt x="3152" y="995"/>
                        </a:lnTo>
                        <a:lnTo>
                          <a:pt x="3127" y="1027"/>
                        </a:lnTo>
                        <a:lnTo>
                          <a:pt x="3099" y="1060"/>
                        </a:lnTo>
                        <a:lnTo>
                          <a:pt x="3072" y="1083"/>
                        </a:lnTo>
                        <a:lnTo>
                          <a:pt x="3069" y="1096"/>
                        </a:lnTo>
                        <a:lnTo>
                          <a:pt x="3064" y="1108"/>
                        </a:lnTo>
                        <a:lnTo>
                          <a:pt x="3055" y="1119"/>
                        </a:lnTo>
                        <a:lnTo>
                          <a:pt x="3047" y="1129"/>
                        </a:lnTo>
                        <a:lnTo>
                          <a:pt x="3035" y="1138"/>
                        </a:lnTo>
                        <a:lnTo>
                          <a:pt x="3024" y="1146"/>
                        </a:lnTo>
                        <a:lnTo>
                          <a:pt x="3013" y="1155"/>
                        </a:lnTo>
                        <a:lnTo>
                          <a:pt x="3004" y="1165"/>
                        </a:lnTo>
                        <a:lnTo>
                          <a:pt x="2990" y="1171"/>
                        </a:lnTo>
                        <a:lnTo>
                          <a:pt x="2977" y="1178"/>
                        </a:lnTo>
                        <a:lnTo>
                          <a:pt x="2962" y="1181"/>
                        </a:lnTo>
                        <a:lnTo>
                          <a:pt x="2947" y="1184"/>
                        </a:lnTo>
                        <a:lnTo>
                          <a:pt x="2931" y="1183"/>
                        </a:lnTo>
                        <a:lnTo>
                          <a:pt x="2915" y="1182"/>
                        </a:lnTo>
                        <a:lnTo>
                          <a:pt x="2900" y="1178"/>
                        </a:lnTo>
                        <a:lnTo>
                          <a:pt x="2887" y="1173"/>
                        </a:lnTo>
                        <a:lnTo>
                          <a:pt x="2874" y="1176"/>
                        </a:lnTo>
                        <a:lnTo>
                          <a:pt x="2861" y="1181"/>
                        </a:lnTo>
                        <a:lnTo>
                          <a:pt x="2849" y="1184"/>
                        </a:lnTo>
                        <a:lnTo>
                          <a:pt x="2837" y="1189"/>
                        </a:lnTo>
                        <a:lnTo>
                          <a:pt x="2826" y="1194"/>
                        </a:lnTo>
                        <a:lnTo>
                          <a:pt x="2814" y="1198"/>
                        </a:lnTo>
                        <a:lnTo>
                          <a:pt x="2801" y="1201"/>
                        </a:lnTo>
                        <a:lnTo>
                          <a:pt x="2789" y="1204"/>
                        </a:lnTo>
                        <a:lnTo>
                          <a:pt x="2791" y="1212"/>
                        </a:lnTo>
                        <a:lnTo>
                          <a:pt x="2792" y="1220"/>
                        </a:lnTo>
                        <a:lnTo>
                          <a:pt x="2792" y="1228"/>
                        </a:lnTo>
                        <a:lnTo>
                          <a:pt x="2792" y="1237"/>
                        </a:lnTo>
                        <a:lnTo>
                          <a:pt x="2791" y="1244"/>
                        </a:lnTo>
                        <a:lnTo>
                          <a:pt x="2791" y="1253"/>
                        </a:lnTo>
                        <a:lnTo>
                          <a:pt x="2791" y="1262"/>
                        </a:lnTo>
                        <a:lnTo>
                          <a:pt x="2793" y="1273"/>
                        </a:lnTo>
                        <a:lnTo>
                          <a:pt x="2791" y="1302"/>
                        </a:lnTo>
                        <a:lnTo>
                          <a:pt x="2787" y="1331"/>
                        </a:lnTo>
                        <a:lnTo>
                          <a:pt x="2781" y="1359"/>
                        </a:lnTo>
                        <a:lnTo>
                          <a:pt x="2773" y="1388"/>
                        </a:lnTo>
                        <a:lnTo>
                          <a:pt x="2762" y="1415"/>
                        </a:lnTo>
                        <a:lnTo>
                          <a:pt x="2753" y="1444"/>
                        </a:lnTo>
                        <a:lnTo>
                          <a:pt x="2743" y="1471"/>
                        </a:lnTo>
                        <a:lnTo>
                          <a:pt x="2733" y="1499"/>
                        </a:lnTo>
                        <a:lnTo>
                          <a:pt x="2702" y="1550"/>
                        </a:lnTo>
                        <a:lnTo>
                          <a:pt x="2700" y="1560"/>
                        </a:lnTo>
                        <a:lnTo>
                          <a:pt x="2699" y="1570"/>
                        </a:lnTo>
                        <a:lnTo>
                          <a:pt x="2698" y="1580"/>
                        </a:lnTo>
                        <a:lnTo>
                          <a:pt x="2697" y="1590"/>
                        </a:lnTo>
                        <a:lnTo>
                          <a:pt x="2695" y="1598"/>
                        </a:lnTo>
                        <a:lnTo>
                          <a:pt x="2693" y="1608"/>
                        </a:lnTo>
                        <a:lnTo>
                          <a:pt x="2690" y="1618"/>
                        </a:lnTo>
                        <a:lnTo>
                          <a:pt x="2688" y="1629"/>
                        </a:lnTo>
                        <a:lnTo>
                          <a:pt x="2708" y="1637"/>
                        </a:lnTo>
                        <a:lnTo>
                          <a:pt x="2728" y="1645"/>
                        </a:lnTo>
                        <a:lnTo>
                          <a:pt x="2747" y="1655"/>
                        </a:lnTo>
                        <a:lnTo>
                          <a:pt x="2768" y="1666"/>
                        </a:lnTo>
                        <a:lnTo>
                          <a:pt x="2786" y="1675"/>
                        </a:lnTo>
                        <a:lnTo>
                          <a:pt x="2805" y="1688"/>
                        </a:lnTo>
                        <a:lnTo>
                          <a:pt x="2823" y="1700"/>
                        </a:lnTo>
                        <a:lnTo>
                          <a:pt x="2843" y="1715"/>
                        </a:lnTo>
                        <a:lnTo>
                          <a:pt x="2878" y="1758"/>
                        </a:lnTo>
                        <a:lnTo>
                          <a:pt x="2908" y="1806"/>
                        </a:lnTo>
                        <a:lnTo>
                          <a:pt x="2931" y="1858"/>
                        </a:lnTo>
                        <a:lnTo>
                          <a:pt x="2948" y="1913"/>
                        </a:lnTo>
                        <a:lnTo>
                          <a:pt x="2958" y="1968"/>
                        </a:lnTo>
                        <a:lnTo>
                          <a:pt x="2962" y="2026"/>
                        </a:lnTo>
                        <a:lnTo>
                          <a:pt x="2959" y="2083"/>
                        </a:lnTo>
                        <a:lnTo>
                          <a:pt x="2950" y="2141"/>
                        </a:lnTo>
                        <a:lnTo>
                          <a:pt x="2949" y="2168"/>
                        </a:lnTo>
                        <a:lnTo>
                          <a:pt x="2949" y="2196"/>
                        </a:lnTo>
                        <a:lnTo>
                          <a:pt x="2949" y="2223"/>
                        </a:lnTo>
                        <a:lnTo>
                          <a:pt x="2949" y="2251"/>
                        </a:lnTo>
                        <a:lnTo>
                          <a:pt x="2946" y="2276"/>
                        </a:lnTo>
                        <a:lnTo>
                          <a:pt x="2939" y="2302"/>
                        </a:lnTo>
                        <a:lnTo>
                          <a:pt x="2929" y="2327"/>
                        </a:lnTo>
                        <a:lnTo>
                          <a:pt x="2912" y="2353"/>
                        </a:lnTo>
                        <a:lnTo>
                          <a:pt x="2902" y="2364"/>
                        </a:lnTo>
                        <a:lnTo>
                          <a:pt x="2892" y="2377"/>
                        </a:lnTo>
                        <a:lnTo>
                          <a:pt x="2880" y="2388"/>
                        </a:lnTo>
                        <a:lnTo>
                          <a:pt x="2868" y="2399"/>
                        </a:lnTo>
                        <a:lnTo>
                          <a:pt x="2855" y="2407"/>
                        </a:lnTo>
                        <a:lnTo>
                          <a:pt x="2842" y="2414"/>
                        </a:lnTo>
                        <a:lnTo>
                          <a:pt x="2827" y="2418"/>
                        </a:lnTo>
                        <a:lnTo>
                          <a:pt x="2812" y="2421"/>
                        </a:lnTo>
                        <a:lnTo>
                          <a:pt x="2799" y="2427"/>
                        </a:lnTo>
                        <a:lnTo>
                          <a:pt x="2786" y="2430"/>
                        </a:lnTo>
                        <a:lnTo>
                          <a:pt x="2773" y="2431"/>
                        </a:lnTo>
                        <a:lnTo>
                          <a:pt x="2760" y="2430"/>
                        </a:lnTo>
                        <a:lnTo>
                          <a:pt x="2747" y="2426"/>
                        </a:lnTo>
                        <a:lnTo>
                          <a:pt x="2734" y="2421"/>
                        </a:lnTo>
                        <a:lnTo>
                          <a:pt x="2723" y="2415"/>
                        </a:lnTo>
                        <a:lnTo>
                          <a:pt x="2713" y="2410"/>
                        </a:lnTo>
                        <a:lnTo>
                          <a:pt x="2710" y="2402"/>
                        </a:lnTo>
                        <a:lnTo>
                          <a:pt x="2705" y="2398"/>
                        </a:lnTo>
                        <a:lnTo>
                          <a:pt x="2700" y="2393"/>
                        </a:lnTo>
                        <a:lnTo>
                          <a:pt x="2696" y="2390"/>
                        </a:lnTo>
                        <a:lnTo>
                          <a:pt x="2689" y="2386"/>
                        </a:lnTo>
                        <a:lnTo>
                          <a:pt x="2685" y="2383"/>
                        </a:lnTo>
                        <a:lnTo>
                          <a:pt x="2680" y="2377"/>
                        </a:lnTo>
                        <a:lnTo>
                          <a:pt x="2678" y="2372"/>
                        </a:lnTo>
                        <a:lnTo>
                          <a:pt x="2656" y="2342"/>
                        </a:lnTo>
                        <a:lnTo>
                          <a:pt x="2642" y="2310"/>
                        </a:lnTo>
                        <a:lnTo>
                          <a:pt x="2634" y="2276"/>
                        </a:lnTo>
                        <a:lnTo>
                          <a:pt x="2630" y="2242"/>
                        </a:lnTo>
                        <a:lnTo>
                          <a:pt x="2630" y="2207"/>
                        </a:lnTo>
                        <a:lnTo>
                          <a:pt x="2634" y="2171"/>
                        </a:lnTo>
                        <a:lnTo>
                          <a:pt x="2639" y="2137"/>
                        </a:lnTo>
                        <a:lnTo>
                          <a:pt x="2648" y="2105"/>
                        </a:lnTo>
                        <a:lnTo>
                          <a:pt x="2653" y="2093"/>
                        </a:lnTo>
                        <a:lnTo>
                          <a:pt x="2658" y="2081"/>
                        </a:lnTo>
                        <a:lnTo>
                          <a:pt x="2664" y="2069"/>
                        </a:lnTo>
                        <a:lnTo>
                          <a:pt x="2670" y="2059"/>
                        </a:lnTo>
                        <a:lnTo>
                          <a:pt x="2675" y="2046"/>
                        </a:lnTo>
                        <a:lnTo>
                          <a:pt x="2682" y="2035"/>
                        </a:lnTo>
                        <a:lnTo>
                          <a:pt x="2688" y="2025"/>
                        </a:lnTo>
                        <a:lnTo>
                          <a:pt x="2697" y="2016"/>
                        </a:lnTo>
                        <a:lnTo>
                          <a:pt x="2684" y="1996"/>
                        </a:lnTo>
                        <a:lnTo>
                          <a:pt x="2669" y="1981"/>
                        </a:lnTo>
                        <a:lnTo>
                          <a:pt x="2652" y="1970"/>
                        </a:lnTo>
                        <a:lnTo>
                          <a:pt x="2635" y="1962"/>
                        </a:lnTo>
                        <a:lnTo>
                          <a:pt x="2614" y="1955"/>
                        </a:lnTo>
                        <a:lnTo>
                          <a:pt x="2595" y="1949"/>
                        </a:lnTo>
                        <a:lnTo>
                          <a:pt x="2576" y="1945"/>
                        </a:lnTo>
                        <a:lnTo>
                          <a:pt x="2556" y="1942"/>
                        </a:lnTo>
                        <a:lnTo>
                          <a:pt x="2545" y="1959"/>
                        </a:lnTo>
                        <a:lnTo>
                          <a:pt x="2532" y="1975"/>
                        </a:lnTo>
                        <a:lnTo>
                          <a:pt x="2516" y="1988"/>
                        </a:lnTo>
                        <a:lnTo>
                          <a:pt x="2501" y="1999"/>
                        </a:lnTo>
                        <a:lnTo>
                          <a:pt x="2482" y="2008"/>
                        </a:lnTo>
                        <a:lnTo>
                          <a:pt x="2465" y="2018"/>
                        </a:lnTo>
                        <a:lnTo>
                          <a:pt x="2448" y="2029"/>
                        </a:lnTo>
                        <a:lnTo>
                          <a:pt x="2433" y="2040"/>
                        </a:lnTo>
                        <a:lnTo>
                          <a:pt x="2431" y="2039"/>
                        </a:lnTo>
                        <a:lnTo>
                          <a:pt x="2423" y="2050"/>
                        </a:lnTo>
                        <a:lnTo>
                          <a:pt x="2419" y="2062"/>
                        </a:lnTo>
                        <a:lnTo>
                          <a:pt x="2416" y="2075"/>
                        </a:lnTo>
                        <a:lnTo>
                          <a:pt x="2415" y="2088"/>
                        </a:lnTo>
                        <a:lnTo>
                          <a:pt x="2413" y="2100"/>
                        </a:lnTo>
                        <a:lnTo>
                          <a:pt x="2412" y="2113"/>
                        </a:lnTo>
                        <a:lnTo>
                          <a:pt x="2411" y="2126"/>
                        </a:lnTo>
                        <a:lnTo>
                          <a:pt x="2408" y="2139"/>
                        </a:lnTo>
                        <a:lnTo>
                          <a:pt x="2404" y="2152"/>
                        </a:lnTo>
                        <a:lnTo>
                          <a:pt x="2400" y="2165"/>
                        </a:lnTo>
                        <a:lnTo>
                          <a:pt x="2394" y="2178"/>
                        </a:lnTo>
                        <a:lnTo>
                          <a:pt x="2390" y="2191"/>
                        </a:lnTo>
                        <a:lnTo>
                          <a:pt x="2384" y="2203"/>
                        </a:lnTo>
                        <a:lnTo>
                          <a:pt x="2378" y="2216"/>
                        </a:lnTo>
                        <a:lnTo>
                          <a:pt x="2373" y="2229"/>
                        </a:lnTo>
                        <a:lnTo>
                          <a:pt x="2369" y="2242"/>
                        </a:lnTo>
                        <a:lnTo>
                          <a:pt x="2362" y="2258"/>
                        </a:lnTo>
                        <a:lnTo>
                          <a:pt x="2356" y="2274"/>
                        </a:lnTo>
                        <a:lnTo>
                          <a:pt x="2349" y="2290"/>
                        </a:lnTo>
                        <a:lnTo>
                          <a:pt x="2344" y="2307"/>
                        </a:lnTo>
                        <a:lnTo>
                          <a:pt x="2338" y="2323"/>
                        </a:lnTo>
                        <a:lnTo>
                          <a:pt x="2331" y="2339"/>
                        </a:lnTo>
                        <a:lnTo>
                          <a:pt x="2325" y="2355"/>
                        </a:lnTo>
                        <a:lnTo>
                          <a:pt x="2319" y="2372"/>
                        </a:lnTo>
                        <a:lnTo>
                          <a:pt x="2323" y="2378"/>
                        </a:lnTo>
                        <a:lnTo>
                          <a:pt x="2320" y="2377"/>
                        </a:lnTo>
                        <a:lnTo>
                          <a:pt x="2319" y="2378"/>
                        </a:lnTo>
                        <a:lnTo>
                          <a:pt x="2319" y="2381"/>
                        </a:lnTo>
                        <a:lnTo>
                          <a:pt x="2315" y="2390"/>
                        </a:lnTo>
                        <a:lnTo>
                          <a:pt x="2312" y="2402"/>
                        </a:lnTo>
                        <a:lnTo>
                          <a:pt x="2308" y="2413"/>
                        </a:lnTo>
                        <a:lnTo>
                          <a:pt x="2304" y="2425"/>
                        </a:lnTo>
                        <a:lnTo>
                          <a:pt x="2301" y="2435"/>
                        </a:lnTo>
                        <a:lnTo>
                          <a:pt x="2298" y="2447"/>
                        </a:lnTo>
                        <a:lnTo>
                          <a:pt x="2295" y="2458"/>
                        </a:lnTo>
                        <a:lnTo>
                          <a:pt x="2293" y="2470"/>
                        </a:lnTo>
                        <a:lnTo>
                          <a:pt x="2318" y="2474"/>
                        </a:lnTo>
                        <a:lnTo>
                          <a:pt x="2345" y="2481"/>
                        </a:lnTo>
                        <a:lnTo>
                          <a:pt x="2370" y="2490"/>
                        </a:lnTo>
                        <a:lnTo>
                          <a:pt x="2396" y="2501"/>
                        </a:lnTo>
                        <a:lnTo>
                          <a:pt x="2419" y="2513"/>
                        </a:lnTo>
                        <a:lnTo>
                          <a:pt x="2443" y="2527"/>
                        </a:lnTo>
                        <a:lnTo>
                          <a:pt x="2466" y="2542"/>
                        </a:lnTo>
                        <a:lnTo>
                          <a:pt x="2491" y="2558"/>
                        </a:lnTo>
                        <a:lnTo>
                          <a:pt x="2509" y="2574"/>
                        </a:lnTo>
                        <a:lnTo>
                          <a:pt x="2525" y="2592"/>
                        </a:lnTo>
                        <a:lnTo>
                          <a:pt x="2538" y="2611"/>
                        </a:lnTo>
                        <a:lnTo>
                          <a:pt x="2549" y="2634"/>
                        </a:lnTo>
                        <a:lnTo>
                          <a:pt x="2555" y="2656"/>
                        </a:lnTo>
                        <a:lnTo>
                          <a:pt x="2559" y="2680"/>
                        </a:lnTo>
                        <a:lnTo>
                          <a:pt x="2559" y="2706"/>
                        </a:lnTo>
                        <a:lnTo>
                          <a:pt x="2555" y="2733"/>
                        </a:lnTo>
                        <a:lnTo>
                          <a:pt x="2547" y="2745"/>
                        </a:lnTo>
                        <a:lnTo>
                          <a:pt x="2538" y="2757"/>
                        </a:lnTo>
                        <a:lnTo>
                          <a:pt x="2527" y="2767"/>
                        </a:lnTo>
                        <a:lnTo>
                          <a:pt x="2516" y="2777"/>
                        </a:lnTo>
                        <a:lnTo>
                          <a:pt x="2502" y="2783"/>
                        </a:lnTo>
                        <a:lnTo>
                          <a:pt x="2488" y="2789"/>
                        </a:lnTo>
                        <a:lnTo>
                          <a:pt x="2474" y="2795"/>
                        </a:lnTo>
                        <a:lnTo>
                          <a:pt x="2461" y="2800"/>
                        </a:lnTo>
                        <a:lnTo>
                          <a:pt x="2442" y="2797"/>
                        </a:lnTo>
                        <a:lnTo>
                          <a:pt x="2424" y="2799"/>
                        </a:lnTo>
                        <a:lnTo>
                          <a:pt x="2408" y="2803"/>
                        </a:lnTo>
                        <a:lnTo>
                          <a:pt x="2392" y="2810"/>
                        </a:lnTo>
                        <a:lnTo>
                          <a:pt x="2375" y="2814"/>
                        </a:lnTo>
                        <a:lnTo>
                          <a:pt x="2359" y="2819"/>
                        </a:lnTo>
                        <a:lnTo>
                          <a:pt x="2341" y="2823"/>
                        </a:lnTo>
                        <a:lnTo>
                          <a:pt x="2323" y="2824"/>
                        </a:lnTo>
                        <a:lnTo>
                          <a:pt x="2313" y="2823"/>
                        </a:lnTo>
                        <a:lnTo>
                          <a:pt x="2303" y="2824"/>
                        </a:lnTo>
                        <a:lnTo>
                          <a:pt x="2295" y="2827"/>
                        </a:lnTo>
                        <a:lnTo>
                          <a:pt x="2287" y="2831"/>
                        </a:lnTo>
                        <a:lnTo>
                          <a:pt x="2278" y="2836"/>
                        </a:lnTo>
                        <a:lnTo>
                          <a:pt x="2270" y="2840"/>
                        </a:lnTo>
                        <a:lnTo>
                          <a:pt x="2260" y="2843"/>
                        </a:lnTo>
                        <a:lnTo>
                          <a:pt x="2253" y="2846"/>
                        </a:lnTo>
                        <a:lnTo>
                          <a:pt x="2211" y="2851"/>
                        </a:lnTo>
                        <a:lnTo>
                          <a:pt x="2169" y="2854"/>
                        </a:lnTo>
                        <a:lnTo>
                          <a:pt x="2127" y="2854"/>
                        </a:lnTo>
                        <a:lnTo>
                          <a:pt x="2087" y="2854"/>
                        </a:lnTo>
                        <a:lnTo>
                          <a:pt x="2046" y="2848"/>
                        </a:lnTo>
                        <a:lnTo>
                          <a:pt x="2007" y="2841"/>
                        </a:lnTo>
                        <a:lnTo>
                          <a:pt x="1969" y="2830"/>
                        </a:lnTo>
                        <a:lnTo>
                          <a:pt x="1932" y="2816"/>
                        </a:lnTo>
                        <a:lnTo>
                          <a:pt x="1926" y="2810"/>
                        </a:lnTo>
                        <a:lnTo>
                          <a:pt x="1919" y="2804"/>
                        </a:lnTo>
                        <a:lnTo>
                          <a:pt x="1914" y="2799"/>
                        </a:lnTo>
                        <a:lnTo>
                          <a:pt x="1909" y="2794"/>
                        </a:lnTo>
                        <a:lnTo>
                          <a:pt x="1902" y="2787"/>
                        </a:lnTo>
                        <a:lnTo>
                          <a:pt x="1897" y="2782"/>
                        </a:lnTo>
                        <a:lnTo>
                          <a:pt x="1891" y="2775"/>
                        </a:lnTo>
                        <a:lnTo>
                          <a:pt x="1888" y="2770"/>
                        </a:lnTo>
                        <a:lnTo>
                          <a:pt x="1881" y="2751"/>
                        </a:lnTo>
                        <a:lnTo>
                          <a:pt x="1878" y="2733"/>
                        </a:lnTo>
                        <a:lnTo>
                          <a:pt x="1874" y="2712"/>
                        </a:lnTo>
                        <a:lnTo>
                          <a:pt x="1874" y="2692"/>
                        </a:lnTo>
                        <a:lnTo>
                          <a:pt x="1873" y="2670"/>
                        </a:lnTo>
                        <a:lnTo>
                          <a:pt x="1873" y="2649"/>
                        </a:lnTo>
                        <a:lnTo>
                          <a:pt x="1872" y="2628"/>
                        </a:lnTo>
                        <a:lnTo>
                          <a:pt x="1871" y="2609"/>
                        </a:lnTo>
                        <a:lnTo>
                          <a:pt x="1878" y="2553"/>
                        </a:lnTo>
                        <a:lnTo>
                          <a:pt x="1887" y="2498"/>
                        </a:lnTo>
                        <a:lnTo>
                          <a:pt x="1899" y="2443"/>
                        </a:lnTo>
                        <a:lnTo>
                          <a:pt x="1913" y="2389"/>
                        </a:lnTo>
                        <a:lnTo>
                          <a:pt x="1928" y="2334"/>
                        </a:lnTo>
                        <a:lnTo>
                          <a:pt x="1945" y="2282"/>
                        </a:lnTo>
                        <a:lnTo>
                          <a:pt x="1964" y="2230"/>
                        </a:lnTo>
                        <a:lnTo>
                          <a:pt x="1986" y="2179"/>
                        </a:lnTo>
                        <a:lnTo>
                          <a:pt x="1983" y="2176"/>
                        </a:lnTo>
                        <a:lnTo>
                          <a:pt x="1949" y="2187"/>
                        </a:lnTo>
                        <a:lnTo>
                          <a:pt x="1916" y="2199"/>
                        </a:lnTo>
                        <a:lnTo>
                          <a:pt x="1883" y="2209"/>
                        </a:lnTo>
                        <a:lnTo>
                          <a:pt x="1850" y="2220"/>
                        </a:lnTo>
                        <a:lnTo>
                          <a:pt x="1815" y="2228"/>
                        </a:lnTo>
                        <a:lnTo>
                          <a:pt x="1781" y="2237"/>
                        </a:lnTo>
                        <a:lnTo>
                          <a:pt x="1747" y="2244"/>
                        </a:lnTo>
                        <a:lnTo>
                          <a:pt x="1712" y="2252"/>
                        </a:lnTo>
                        <a:lnTo>
                          <a:pt x="1678" y="2260"/>
                        </a:lnTo>
                        <a:lnTo>
                          <a:pt x="1644" y="2268"/>
                        </a:lnTo>
                        <a:lnTo>
                          <a:pt x="1609" y="2274"/>
                        </a:lnTo>
                        <a:lnTo>
                          <a:pt x="1575" y="2281"/>
                        </a:lnTo>
                        <a:lnTo>
                          <a:pt x="1540" y="2284"/>
                        </a:lnTo>
                        <a:lnTo>
                          <a:pt x="1505" y="2287"/>
                        </a:lnTo>
                        <a:lnTo>
                          <a:pt x="1471" y="2289"/>
                        </a:lnTo>
                        <a:lnTo>
                          <a:pt x="1438" y="2290"/>
                        </a:lnTo>
                        <a:lnTo>
                          <a:pt x="1418" y="2286"/>
                        </a:lnTo>
                        <a:lnTo>
                          <a:pt x="1399" y="2283"/>
                        </a:lnTo>
                        <a:lnTo>
                          <a:pt x="1380" y="2279"/>
                        </a:lnTo>
                        <a:lnTo>
                          <a:pt x="1362" y="2274"/>
                        </a:lnTo>
                        <a:lnTo>
                          <a:pt x="1342" y="2269"/>
                        </a:lnTo>
                        <a:lnTo>
                          <a:pt x="1325" y="2265"/>
                        </a:lnTo>
                        <a:lnTo>
                          <a:pt x="1306" y="2259"/>
                        </a:lnTo>
                        <a:lnTo>
                          <a:pt x="1289" y="2256"/>
                        </a:lnTo>
                        <a:lnTo>
                          <a:pt x="1287" y="2263"/>
                        </a:lnTo>
                        <a:lnTo>
                          <a:pt x="1287" y="2269"/>
                        </a:lnTo>
                        <a:lnTo>
                          <a:pt x="1288" y="2275"/>
                        </a:lnTo>
                        <a:lnTo>
                          <a:pt x="1292" y="2283"/>
                        </a:lnTo>
                        <a:lnTo>
                          <a:pt x="1292" y="2281"/>
                        </a:lnTo>
                        <a:lnTo>
                          <a:pt x="1295" y="2281"/>
                        </a:lnTo>
                        <a:lnTo>
                          <a:pt x="1295" y="2283"/>
                        </a:lnTo>
                        <a:lnTo>
                          <a:pt x="1294" y="2283"/>
                        </a:lnTo>
                        <a:lnTo>
                          <a:pt x="1302" y="2305"/>
                        </a:lnTo>
                        <a:lnTo>
                          <a:pt x="1311" y="2328"/>
                        </a:lnTo>
                        <a:lnTo>
                          <a:pt x="1321" y="2352"/>
                        </a:lnTo>
                        <a:lnTo>
                          <a:pt x="1333" y="2375"/>
                        </a:lnTo>
                        <a:lnTo>
                          <a:pt x="1343" y="2398"/>
                        </a:lnTo>
                        <a:lnTo>
                          <a:pt x="1356" y="2421"/>
                        </a:lnTo>
                        <a:lnTo>
                          <a:pt x="1368" y="2444"/>
                        </a:lnTo>
                        <a:lnTo>
                          <a:pt x="1383" y="2467"/>
                        </a:lnTo>
                        <a:lnTo>
                          <a:pt x="1418" y="2464"/>
                        </a:lnTo>
                        <a:lnTo>
                          <a:pt x="1455" y="2467"/>
                        </a:lnTo>
                        <a:lnTo>
                          <a:pt x="1491" y="2474"/>
                        </a:lnTo>
                        <a:lnTo>
                          <a:pt x="1528" y="2484"/>
                        </a:lnTo>
                        <a:lnTo>
                          <a:pt x="1561" y="2496"/>
                        </a:lnTo>
                        <a:lnTo>
                          <a:pt x="1594" y="2513"/>
                        </a:lnTo>
                        <a:lnTo>
                          <a:pt x="1625" y="2531"/>
                        </a:lnTo>
                        <a:lnTo>
                          <a:pt x="1654" y="2551"/>
                        </a:lnTo>
                        <a:lnTo>
                          <a:pt x="1668" y="2567"/>
                        </a:lnTo>
                        <a:lnTo>
                          <a:pt x="1683" y="2584"/>
                        </a:lnTo>
                        <a:lnTo>
                          <a:pt x="1696" y="2603"/>
                        </a:lnTo>
                        <a:lnTo>
                          <a:pt x="1709" y="2622"/>
                        </a:lnTo>
                        <a:lnTo>
                          <a:pt x="1719" y="2641"/>
                        </a:lnTo>
                        <a:lnTo>
                          <a:pt x="1727" y="2663"/>
                        </a:lnTo>
                        <a:lnTo>
                          <a:pt x="1733" y="2684"/>
                        </a:lnTo>
                        <a:lnTo>
                          <a:pt x="1735" y="2709"/>
                        </a:lnTo>
                        <a:lnTo>
                          <a:pt x="1734" y="2714"/>
                        </a:lnTo>
                        <a:lnTo>
                          <a:pt x="1732" y="2721"/>
                        </a:lnTo>
                        <a:lnTo>
                          <a:pt x="1727" y="2726"/>
                        </a:lnTo>
                        <a:lnTo>
                          <a:pt x="1724" y="2733"/>
                        </a:lnTo>
                        <a:lnTo>
                          <a:pt x="1714" y="2741"/>
                        </a:lnTo>
                        <a:lnTo>
                          <a:pt x="1705" y="2748"/>
                        </a:lnTo>
                        <a:lnTo>
                          <a:pt x="1697" y="2755"/>
                        </a:lnTo>
                        <a:lnTo>
                          <a:pt x="1688" y="2759"/>
                        </a:lnTo>
                        <a:lnTo>
                          <a:pt x="1681" y="2759"/>
                        </a:lnTo>
                        <a:lnTo>
                          <a:pt x="1676" y="2760"/>
                        </a:lnTo>
                        <a:lnTo>
                          <a:pt x="1669" y="2762"/>
                        </a:lnTo>
                        <a:lnTo>
                          <a:pt x="1665" y="2764"/>
                        </a:lnTo>
                        <a:lnTo>
                          <a:pt x="1658" y="2773"/>
                        </a:lnTo>
                        <a:lnTo>
                          <a:pt x="1650" y="2782"/>
                        </a:lnTo>
                        <a:lnTo>
                          <a:pt x="1640" y="2787"/>
                        </a:lnTo>
                        <a:lnTo>
                          <a:pt x="1632" y="2794"/>
                        </a:lnTo>
                        <a:lnTo>
                          <a:pt x="1621" y="2798"/>
                        </a:lnTo>
                        <a:lnTo>
                          <a:pt x="1612" y="2802"/>
                        </a:lnTo>
                        <a:lnTo>
                          <a:pt x="1601" y="2807"/>
                        </a:lnTo>
                        <a:lnTo>
                          <a:pt x="1591" y="2812"/>
                        </a:lnTo>
                        <a:lnTo>
                          <a:pt x="1576" y="2811"/>
                        </a:lnTo>
                        <a:lnTo>
                          <a:pt x="1561" y="2812"/>
                        </a:lnTo>
                        <a:lnTo>
                          <a:pt x="1545" y="2812"/>
                        </a:lnTo>
                        <a:lnTo>
                          <a:pt x="1529" y="2813"/>
                        </a:lnTo>
                        <a:lnTo>
                          <a:pt x="1513" y="2812"/>
                        </a:lnTo>
                        <a:lnTo>
                          <a:pt x="1497" y="2811"/>
                        </a:lnTo>
                        <a:lnTo>
                          <a:pt x="1481" y="2809"/>
                        </a:lnTo>
                        <a:lnTo>
                          <a:pt x="1467" y="2806"/>
                        </a:lnTo>
                        <a:lnTo>
                          <a:pt x="1456" y="2806"/>
                        </a:lnTo>
                        <a:lnTo>
                          <a:pt x="1446" y="2806"/>
                        </a:lnTo>
                        <a:lnTo>
                          <a:pt x="1435" y="2806"/>
                        </a:lnTo>
                        <a:lnTo>
                          <a:pt x="1425" y="2808"/>
                        </a:lnTo>
                        <a:lnTo>
                          <a:pt x="1425" y="2811"/>
                        </a:lnTo>
                        <a:lnTo>
                          <a:pt x="1410" y="2808"/>
                        </a:lnTo>
                        <a:lnTo>
                          <a:pt x="1395" y="2808"/>
                        </a:lnTo>
                        <a:lnTo>
                          <a:pt x="1379" y="2808"/>
                        </a:lnTo>
                        <a:lnTo>
                          <a:pt x="1364" y="2810"/>
                        </a:lnTo>
                        <a:lnTo>
                          <a:pt x="1348" y="2811"/>
                        </a:lnTo>
                        <a:lnTo>
                          <a:pt x="1333" y="2813"/>
                        </a:lnTo>
                        <a:lnTo>
                          <a:pt x="1317" y="2815"/>
                        </a:lnTo>
                        <a:lnTo>
                          <a:pt x="1302" y="2816"/>
                        </a:lnTo>
                        <a:lnTo>
                          <a:pt x="1285" y="2816"/>
                        </a:lnTo>
                        <a:lnTo>
                          <a:pt x="1269" y="2817"/>
                        </a:lnTo>
                        <a:lnTo>
                          <a:pt x="1253" y="2817"/>
                        </a:lnTo>
                        <a:lnTo>
                          <a:pt x="1238" y="2817"/>
                        </a:lnTo>
                        <a:lnTo>
                          <a:pt x="1222" y="2816"/>
                        </a:lnTo>
                        <a:lnTo>
                          <a:pt x="1207" y="2814"/>
                        </a:lnTo>
                        <a:lnTo>
                          <a:pt x="1192" y="2811"/>
                        </a:lnTo>
                        <a:lnTo>
                          <a:pt x="1178" y="2808"/>
                        </a:lnTo>
                        <a:lnTo>
                          <a:pt x="1169" y="2808"/>
                        </a:lnTo>
                        <a:lnTo>
                          <a:pt x="1160" y="2804"/>
                        </a:lnTo>
                        <a:lnTo>
                          <a:pt x="1134" y="2787"/>
                        </a:lnTo>
                        <a:lnTo>
                          <a:pt x="1112" y="2768"/>
                        </a:lnTo>
                        <a:lnTo>
                          <a:pt x="1091" y="2745"/>
                        </a:lnTo>
                        <a:lnTo>
                          <a:pt x="1075" y="2724"/>
                        </a:lnTo>
                        <a:lnTo>
                          <a:pt x="1059" y="2699"/>
                        </a:lnTo>
                        <a:lnTo>
                          <a:pt x="1043" y="2676"/>
                        </a:lnTo>
                        <a:lnTo>
                          <a:pt x="1026" y="2652"/>
                        </a:lnTo>
                        <a:lnTo>
                          <a:pt x="1010" y="2631"/>
                        </a:lnTo>
                        <a:lnTo>
                          <a:pt x="999" y="2598"/>
                        </a:lnTo>
                        <a:lnTo>
                          <a:pt x="989" y="2566"/>
                        </a:lnTo>
                        <a:lnTo>
                          <a:pt x="980" y="2534"/>
                        </a:lnTo>
                        <a:lnTo>
                          <a:pt x="970" y="2502"/>
                        </a:lnTo>
                        <a:lnTo>
                          <a:pt x="959" y="2470"/>
                        </a:lnTo>
                        <a:lnTo>
                          <a:pt x="949" y="2439"/>
                        </a:lnTo>
                        <a:lnTo>
                          <a:pt x="937" y="2407"/>
                        </a:lnTo>
                        <a:lnTo>
                          <a:pt x="925" y="2377"/>
                        </a:lnTo>
                        <a:lnTo>
                          <a:pt x="915" y="2352"/>
                        </a:lnTo>
                        <a:lnTo>
                          <a:pt x="908" y="2326"/>
                        </a:lnTo>
                        <a:lnTo>
                          <a:pt x="899" y="2300"/>
                        </a:lnTo>
                        <a:lnTo>
                          <a:pt x="893" y="2274"/>
                        </a:lnTo>
                        <a:lnTo>
                          <a:pt x="884" y="2249"/>
                        </a:lnTo>
                        <a:lnTo>
                          <a:pt x="877" y="2223"/>
                        </a:lnTo>
                        <a:lnTo>
                          <a:pt x="868" y="2197"/>
                        </a:lnTo>
                        <a:lnTo>
                          <a:pt x="861" y="2172"/>
                        </a:lnTo>
                        <a:lnTo>
                          <a:pt x="845" y="2187"/>
                        </a:lnTo>
                        <a:lnTo>
                          <a:pt x="830" y="2202"/>
                        </a:lnTo>
                        <a:lnTo>
                          <a:pt x="815" y="2217"/>
                        </a:lnTo>
                        <a:lnTo>
                          <a:pt x="801" y="2232"/>
                        </a:lnTo>
                        <a:lnTo>
                          <a:pt x="785" y="2247"/>
                        </a:lnTo>
                        <a:lnTo>
                          <a:pt x="770" y="2263"/>
                        </a:lnTo>
                        <a:lnTo>
                          <a:pt x="754" y="2278"/>
                        </a:lnTo>
                        <a:lnTo>
                          <a:pt x="737" y="2294"/>
                        </a:lnTo>
                        <a:lnTo>
                          <a:pt x="720" y="2308"/>
                        </a:lnTo>
                        <a:lnTo>
                          <a:pt x="703" y="2323"/>
                        </a:lnTo>
                        <a:lnTo>
                          <a:pt x="685" y="2335"/>
                        </a:lnTo>
                        <a:lnTo>
                          <a:pt x="668" y="2349"/>
                        </a:lnTo>
                        <a:lnTo>
                          <a:pt x="650" y="2362"/>
                        </a:lnTo>
                        <a:lnTo>
                          <a:pt x="631" y="2375"/>
                        </a:lnTo>
                        <a:lnTo>
                          <a:pt x="613" y="2388"/>
                        </a:lnTo>
                        <a:lnTo>
                          <a:pt x="596" y="2402"/>
                        </a:lnTo>
                        <a:lnTo>
                          <a:pt x="584" y="2410"/>
                        </a:lnTo>
                        <a:lnTo>
                          <a:pt x="572" y="2418"/>
                        </a:lnTo>
                        <a:lnTo>
                          <a:pt x="560" y="2426"/>
                        </a:lnTo>
                        <a:lnTo>
                          <a:pt x="549" y="2434"/>
                        </a:lnTo>
                        <a:lnTo>
                          <a:pt x="537" y="2442"/>
                        </a:lnTo>
                        <a:lnTo>
                          <a:pt x="526" y="2450"/>
                        </a:lnTo>
                        <a:lnTo>
                          <a:pt x="514" y="2460"/>
                        </a:lnTo>
                        <a:lnTo>
                          <a:pt x="505" y="2471"/>
                        </a:lnTo>
                        <a:lnTo>
                          <a:pt x="537" y="2471"/>
                        </a:lnTo>
                        <a:lnTo>
                          <a:pt x="568" y="2477"/>
                        </a:lnTo>
                        <a:lnTo>
                          <a:pt x="597" y="2486"/>
                        </a:lnTo>
                        <a:lnTo>
                          <a:pt x="627" y="2498"/>
                        </a:lnTo>
                        <a:lnTo>
                          <a:pt x="655" y="2511"/>
                        </a:lnTo>
                        <a:lnTo>
                          <a:pt x="682" y="2528"/>
                        </a:lnTo>
                        <a:lnTo>
                          <a:pt x="707" y="2546"/>
                        </a:lnTo>
                        <a:lnTo>
                          <a:pt x="734" y="2565"/>
                        </a:lnTo>
                        <a:lnTo>
                          <a:pt x="748" y="2580"/>
                        </a:lnTo>
                        <a:lnTo>
                          <a:pt x="760" y="2597"/>
                        </a:lnTo>
                        <a:lnTo>
                          <a:pt x="770" y="2617"/>
                        </a:lnTo>
                        <a:lnTo>
                          <a:pt x="777" y="2637"/>
                        </a:lnTo>
                        <a:lnTo>
                          <a:pt x="781" y="2656"/>
                        </a:lnTo>
                        <a:lnTo>
                          <a:pt x="785" y="2678"/>
                        </a:lnTo>
                        <a:lnTo>
                          <a:pt x="785" y="2697"/>
                        </a:lnTo>
                        <a:lnTo>
                          <a:pt x="784" y="2718"/>
                        </a:lnTo>
                        <a:lnTo>
                          <a:pt x="778" y="2733"/>
                        </a:lnTo>
                        <a:lnTo>
                          <a:pt x="771" y="2749"/>
                        </a:lnTo>
                        <a:lnTo>
                          <a:pt x="761" y="2762"/>
                        </a:lnTo>
                        <a:lnTo>
                          <a:pt x="749" y="2775"/>
                        </a:lnTo>
                        <a:lnTo>
                          <a:pt x="734" y="2785"/>
                        </a:lnTo>
                        <a:lnTo>
                          <a:pt x="719" y="2795"/>
                        </a:lnTo>
                        <a:lnTo>
                          <a:pt x="704" y="2801"/>
                        </a:lnTo>
                        <a:lnTo>
                          <a:pt x="689" y="2808"/>
                        </a:lnTo>
                        <a:lnTo>
                          <a:pt x="672" y="2807"/>
                        </a:lnTo>
                        <a:lnTo>
                          <a:pt x="656" y="2807"/>
                        </a:lnTo>
                        <a:lnTo>
                          <a:pt x="641" y="2807"/>
                        </a:lnTo>
                        <a:lnTo>
                          <a:pt x="627" y="2809"/>
                        </a:lnTo>
                        <a:lnTo>
                          <a:pt x="611" y="2811"/>
                        </a:lnTo>
                        <a:lnTo>
                          <a:pt x="596" y="2815"/>
                        </a:lnTo>
                        <a:lnTo>
                          <a:pt x="581" y="2819"/>
                        </a:lnTo>
                        <a:lnTo>
                          <a:pt x="566" y="2827"/>
                        </a:lnTo>
                        <a:lnTo>
                          <a:pt x="551" y="2829"/>
                        </a:lnTo>
                        <a:lnTo>
                          <a:pt x="537" y="2829"/>
                        </a:lnTo>
                        <a:lnTo>
                          <a:pt x="523" y="2827"/>
                        </a:lnTo>
                        <a:lnTo>
                          <a:pt x="510" y="2825"/>
                        </a:lnTo>
                        <a:lnTo>
                          <a:pt x="496" y="2822"/>
                        </a:lnTo>
                        <a:lnTo>
                          <a:pt x="482" y="2823"/>
                        </a:lnTo>
                        <a:lnTo>
                          <a:pt x="468" y="2825"/>
                        </a:lnTo>
                        <a:lnTo>
                          <a:pt x="455" y="2833"/>
                        </a:lnTo>
                        <a:lnTo>
                          <a:pt x="435" y="2844"/>
                        </a:lnTo>
                        <a:lnTo>
                          <a:pt x="414" y="2853"/>
                        </a:lnTo>
                        <a:lnTo>
                          <a:pt x="391" y="2856"/>
                        </a:lnTo>
                        <a:lnTo>
                          <a:pt x="370" y="2859"/>
                        </a:lnTo>
                        <a:lnTo>
                          <a:pt x="346" y="2858"/>
                        </a:lnTo>
                        <a:lnTo>
                          <a:pt x="323" y="2856"/>
                        </a:lnTo>
                        <a:lnTo>
                          <a:pt x="301" y="2851"/>
                        </a:lnTo>
                        <a:lnTo>
                          <a:pt x="281" y="2846"/>
                        </a:lnTo>
                        <a:lnTo>
                          <a:pt x="256" y="2839"/>
                        </a:lnTo>
                        <a:lnTo>
                          <a:pt x="232" y="2831"/>
                        </a:lnTo>
                        <a:lnTo>
                          <a:pt x="208" y="2823"/>
                        </a:lnTo>
                        <a:lnTo>
                          <a:pt x="185" y="2815"/>
                        </a:lnTo>
                        <a:lnTo>
                          <a:pt x="162" y="2806"/>
                        </a:lnTo>
                        <a:lnTo>
                          <a:pt x="139" y="2797"/>
                        </a:lnTo>
                        <a:lnTo>
                          <a:pt x="116" y="2787"/>
                        </a:lnTo>
                        <a:lnTo>
                          <a:pt x="95" y="2778"/>
                        </a:lnTo>
                        <a:lnTo>
                          <a:pt x="81" y="2765"/>
                        </a:lnTo>
                        <a:lnTo>
                          <a:pt x="68" y="2752"/>
                        </a:lnTo>
                        <a:lnTo>
                          <a:pt x="55" y="2737"/>
                        </a:lnTo>
                        <a:lnTo>
                          <a:pt x="45" y="2723"/>
                        </a:lnTo>
                        <a:lnTo>
                          <a:pt x="33" y="2708"/>
                        </a:lnTo>
                        <a:lnTo>
                          <a:pt x="24" y="2693"/>
                        </a:lnTo>
                        <a:lnTo>
                          <a:pt x="16" y="2678"/>
                        </a:lnTo>
                        <a:lnTo>
                          <a:pt x="10" y="2663"/>
                        </a:lnTo>
                        <a:lnTo>
                          <a:pt x="9" y="2665"/>
                        </a:lnTo>
                        <a:lnTo>
                          <a:pt x="8" y="2657"/>
                        </a:lnTo>
                        <a:lnTo>
                          <a:pt x="6" y="2651"/>
                        </a:lnTo>
                        <a:lnTo>
                          <a:pt x="4" y="2645"/>
                        </a:lnTo>
                        <a:lnTo>
                          <a:pt x="4" y="2638"/>
                        </a:lnTo>
                        <a:lnTo>
                          <a:pt x="0" y="2623"/>
                        </a:lnTo>
                        <a:lnTo>
                          <a:pt x="0" y="2608"/>
                        </a:lnTo>
                        <a:lnTo>
                          <a:pt x="1" y="2593"/>
                        </a:lnTo>
                        <a:lnTo>
                          <a:pt x="5" y="2578"/>
                        </a:lnTo>
                        <a:lnTo>
                          <a:pt x="8" y="2563"/>
                        </a:lnTo>
                        <a:lnTo>
                          <a:pt x="12" y="2548"/>
                        </a:lnTo>
                        <a:lnTo>
                          <a:pt x="16" y="2533"/>
                        </a:lnTo>
                        <a:lnTo>
                          <a:pt x="19" y="2519"/>
                        </a:lnTo>
                        <a:lnTo>
                          <a:pt x="22" y="2498"/>
                        </a:lnTo>
                        <a:lnTo>
                          <a:pt x="29" y="2477"/>
                        </a:lnTo>
                        <a:lnTo>
                          <a:pt x="35" y="2457"/>
                        </a:lnTo>
                        <a:lnTo>
                          <a:pt x="42" y="2437"/>
                        </a:lnTo>
                        <a:lnTo>
                          <a:pt x="50" y="2418"/>
                        </a:lnTo>
                        <a:lnTo>
                          <a:pt x="59" y="2399"/>
                        </a:lnTo>
                        <a:lnTo>
                          <a:pt x="66" y="2379"/>
                        </a:lnTo>
                        <a:lnTo>
                          <a:pt x="76" y="2360"/>
                        </a:lnTo>
                        <a:close/>
                        <a:moveTo>
                          <a:pt x="2171" y="525"/>
                        </a:moveTo>
                        <a:lnTo>
                          <a:pt x="2171" y="525"/>
                        </a:lnTo>
                        <a:lnTo>
                          <a:pt x="2167" y="530"/>
                        </a:lnTo>
                        <a:lnTo>
                          <a:pt x="2164" y="537"/>
                        </a:lnTo>
                        <a:lnTo>
                          <a:pt x="2161" y="543"/>
                        </a:lnTo>
                        <a:lnTo>
                          <a:pt x="2157" y="551"/>
                        </a:lnTo>
                        <a:lnTo>
                          <a:pt x="2153" y="556"/>
                        </a:lnTo>
                        <a:lnTo>
                          <a:pt x="2149" y="563"/>
                        </a:lnTo>
                        <a:lnTo>
                          <a:pt x="2143" y="569"/>
                        </a:lnTo>
                        <a:lnTo>
                          <a:pt x="2139" y="576"/>
                        </a:lnTo>
                        <a:lnTo>
                          <a:pt x="2139" y="582"/>
                        </a:lnTo>
                        <a:lnTo>
                          <a:pt x="2143" y="589"/>
                        </a:lnTo>
                        <a:lnTo>
                          <a:pt x="2148" y="597"/>
                        </a:lnTo>
                        <a:lnTo>
                          <a:pt x="2153" y="606"/>
                        </a:lnTo>
                        <a:lnTo>
                          <a:pt x="2158" y="613"/>
                        </a:lnTo>
                        <a:lnTo>
                          <a:pt x="2166" y="622"/>
                        </a:lnTo>
                        <a:lnTo>
                          <a:pt x="2175" y="628"/>
                        </a:lnTo>
                        <a:lnTo>
                          <a:pt x="2184" y="635"/>
                        </a:lnTo>
                        <a:lnTo>
                          <a:pt x="2194" y="639"/>
                        </a:lnTo>
                        <a:lnTo>
                          <a:pt x="2205" y="644"/>
                        </a:lnTo>
                        <a:lnTo>
                          <a:pt x="2214" y="648"/>
                        </a:lnTo>
                        <a:lnTo>
                          <a:pt x="2226" y="653"/>
                        </a:lnTo>
                        <a:lnTo>
                          <a:pt x="2235" y="648"/>
                        </a:lnTo>
                        <a:lnTo>
                          <a:pt x="2244" y="645"/>
                        </a:lnTo>
                        <a:lnTo>
                          <a:pt x="2254" y="642"/>
                        </a:lnTo>
                        <a:lnTo>
                          <a:pt x="2265" y="640"/>
                        </a:lnTo>
                        <a:lnTo>
                          <a:pt x="2274" y="638"/>
                        </a:lnTo>
                        <a:lnTo>
                          <a:pt x="2285" y="637"/>
                        </a:lnTo>
                        <a:lnTo>
                          <a:pt x="2296" y="635"/>
                        </a:lnTo>
                        <a:lnTo>
                          <a:pt x="2307" y="633"/>
                        </a:lnTo>
                        <a:lnTo>
                          <a:pt x="2275" y="627"/>
                        </a:lnTo>
                        <a:lnTo>
                          <a:pt x="2269" y="626"/>
                        </a:lnTo>
                        <a:lnTo>
                          <a:pt x="2264" y="626"/>
                        </a:lnTo>
                        <a:lnTo>
                          <a:pt x="2257" y="624"/>
                        </a:lnTo>
                        <a:lnTo>
                          <a:pt x="2253" y="621"/>
                        </a:lnTo>
                        <a:lnTo>
                          <a:pt x="2249" y="613"/>
                        </a:lnTo>
                        <a:lnTo>
                          <a:pt x="2244" y="608"/>
                        </a:lnTo>
                        <a:lnTo>
                          <a:pt x="2239" y="604"/>
                        </a:lnTo>
                        <a:lnTo>
                          <a:pt x="2234" y="602"/>
                        </a:lnTo>
                        <a:lnTo>
                          <a:pt x="2226" y="599"/>
                        </a:lnTo>
                        <a:lnTo>
                          <a:pt x="2220" y="597"/>
                        </a:lnTo>
                        <a:lnTo>
                          <a:pt x="2213" y="593"/>
                        </a:lnTo>
                        <a:lnTo>
                          <a:pt x="2209" y="589"/>
                        </a:lnTo>
                        <a:lnTo>
                          <a:pt x="2205" y="584"/>
                        </a:lnTo>
                        <a:lnTo>
                          <a:pt x="2201" y="579"/>
                        </a:lnTo>
                        <a:lnTo>
                          <a:pt x="2199" y="573"/>
                        </a:lnTo>
                        <a:lnTo>
                          <a:pt x="2201" y="569"/>
                        </a:lnTo>
                        <a:lnTo>
                          <a:pt x="2194" y="553"/>
                        </a:lnTo>
                        <a:lnTo>
                          <a:pt x="2191" y="538"/>
                        </a:lnTo>
                        <a:lnTo>
                          <a:pt x="2191" y="522"/>
                        </a:lnTo>
                        <a:lnTo>
                          <a:pt x="2195" y="507"/>
                        </a:lnTo>
                        <a:lnTo>
                          <a:pt x="2200" y="491"/>
                        </a:lnTo>
                        <a:lnTo>
                          <a:pt x="2207" y="475"/>
                        </a:lnTo>
                        <a:lnTo>
                          <a:pt x="2213" y="460"/>
                        </a:lnTo>
                        <a:lnTo>
                          <a:pt x="2221" y="447"/>
                        </a:lnTo>
                        <a:lnTo>
                          <a:pt x="2214" y="455"/>
                        </a:lnTo>
                        <a:lnTo>
                          <a:pt x="2208" y="464"/>
                        </a:lnTo>
                        <a:lnTo>
                          <a:pt x="2200" y="472"/>
                        </a:lnTo>
                        <a:lnTo>
                          <a:pt x="2193" y="482"/>
                        </a:lnTo>
                        <a:lnTo>
                          <a:pt x="2184" y="492"/>
                        </a:lnTo>
                        <a:lnTo>
                          <a:pt x="2178" y="501"/>
                        </a:lnTo>
                        <a:lnTo>
                          <a:pt x="2172" y="512"/>
                        </a:lnTo>
                        <a:lnTo>
                          <a:pt x="2171" y="5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45"/>
                  <p:cNvSpPr/>
                  <p:nvPr/>
                </p:nvSpPr>
                <p:spPr>
                  <a:xfrm>
                    <a:off x="3933720" y="1263600"/>
                    <a:ext cx="800280" cy="639720"/>
                  </a:xfrm>
                  <a:custGeom>
                    <a:avLst/>
                    <a:gdLst>
                      <a:gd name="textAreaLeft" fmla="*/ 0 w 800280"/>
                      <a:gd name="textAreaRight" fmla="*/ 800640 w 800280"/>
                      <a:gd name="textAreaTop" fmla="*/ 0 h 639720"/>
                      <a:gd name="textAreaBottom" fmla="*/ 640080 h 639720"/>
                    </a:gdLst>
                    <a:ahLst/>
                    <a:rect l="textAreaLeft" t="textAreaTop" r="textAreaRight" b="textAreaBottom"/>
                    <a:pathLst>
                      <a:path w="2518" h="2013">
                        <a:moveTo>
                          <a:pt x="53" y="1597"/>
                        </a:moveTo>
                        <a:lnTo>
                          <a:pt x="56" y="1588"/>
                        </a:lnTo>
                        <a:lnTo>
                          <a:pt x="61" y="1580"/>
                        </a:lnTo>
                        <a:lnTo>
                          <a:pt x="67" y="1573"/>
                        </a:lnTo>
                        <a:lnTo>
                          <a:pt x="72" y="1565"/>
                        </a:lnTo>
                        <a:lnTo>
                          <a:pt x="76" y="1557"/>
                        </a:lnTo>
                        <a:lnTo>
                          <a:pt x="82" y="1548"/>
                        </a:lnTo>
                        <a:lnTo>
                          <a:pt x="84" y="1540"/>
                        </a:lnTo>
                        <a:lnTo>
                          <a:pt x="87" y="1531"/>
                        </a:lnTo>
                        <a:lnTo>
                          <a:pt x="97" y="1514"/>
                        </a:lnTo>
                        <a:lnTo>
                          <a:pt x="108" y="1498"/>
                        </a:lnTo>
                        <a:lnTo>
                          <a:pt x="119" y="1481"/>
                        </a:lnTo>
                        <a:lnTo>
                          <a:pt x="131" y="1464"/>
                        </a:lnTo>
                        <a:lnTo>
                          <a:pt x="142" y="1447"/>
                        </a:lnTo>
                        <a:lnTo>
                          <a:pt x="154" y="1432"/>
                        </a:lnTo>
                        <a:lnTo>
                          <a:pt x="167" y="1417"/>
                        </a:lnTo>
                        <a:lnTo>
                          <a:pt x="181" y="1404"/>
                        </a:lnTo>
                        <a:lnTo>
                          <a:pt x="183" y="1396"/>
                        </a:lnTo>
                        <a:lnTo>
                          <a:pt x="187" y="1389"/>
                        </a:lnTo>
                        <a:lnTo>
                          <a:pt x="191" y="1384"/>
                        </a:lnTo>
                        <a:lnTo>
                          <a:pt x="196" y="1379"/>
                        </a:lnTo>
                        <a:lnTo>
                          <a:pt x="201" y="1372"/>
                        </a:lnTo>
                        <a:lnTo>
                          <a:pt x="205" y="1367"/>
                        </a:lnTo>
                        <a:lnTo>
                          <a:pt x="207" y="1359"/>
                        </a:lnTo>
                        <a:lnTo>
                          <a:pt x="209" y="1353"/>
                        </a:lnTo>
                        <a:lnTo>
                          <a:pt x="216" y="1342"/>
                        </a:lnTo>
                        <a:lnTo>
                          <a:pt x="224" y="1333"/>
                        </a:lnTo>
                        <a:lnTo>
                          <a:pt x="227" y="1328"/>
                        </a:lnTo>
                        <a:lnTo>
                          <a:pt x="231" y="1324"/>
                        </a:lnTo>
                        <a:lnTo>
                          <a:pt x="232" y="1318"/>
                        </a:lnTo>
                        <a:lnTo>
                          <a:pt x="233" y="1313"/>
                        </a:lnTo>
                        <a:lnTo>
                          <a:pt x="248" y="1263"/>
                        </a:lnTo>
                        <a:lnTo>
                          <a:pt x="256" y="1212"/>
                        </a:lnTo>
                        <a:lnTo>
                          <a:pt x="260" y="1160"/>
                        </a:lnTo>
                        <a:lnTo>
                          <a:pt x="258" y="1108"/>
                        </a:lnTo>
                        <a:lnTo>
                          <a:pt x="253" y="1056"/>
                        </a:lnTo>
                        <a:lnTo>
                          <a:pt x="245" y="1005"/>
                        </a:lnTo>
                        <a:lnTo>
                          <a:pt x="233" y="954"/>
                        </a:lnTo>
                        <a:lnTo>
                          <a:pt x="222" y="905"/>
                        </a:lnTo>
                        <a:lnTo>
                          <a:pt x="215" y="886"/>
                        </a:lnTo>
                        <a:lnTo>
                          <a:pt x="210" y="868"/>
                        </a:lnTo>
                        <a:lnTo>
                          <a:pt x="206" y="848"/>
                        </a:lnTo>
                        <a:lnTo>
                          <a:pt x="205" y="830"/>
                        </a:lnTo>
                        <a:lnTo>
                          <a:pt x="202" y="811"/>
                        </a:lnTo>
                        <a:lnTo>
                          <a:pt x="200" y="792"/>
                        </a:lnTo>
                        <a:lnTo>
                          <a:pt x="195" y="772"/>
                        </a:lnTo>
                        <a:lnTo>
                          <a:pt x="191" y="755"/>
                        </a:lnTo>
                        <a:lnTo>
                          <a:pt x="191" y="730"/>
                        </a:lnTo>
                        <a:lnTo>
                          <a:pt x="190" y="707"/>
                        </a:lnTo>
                        <a:lnTo>
                          <a:pt x="188" y="682"/>
                        </a:lnTo>
                        <a:lnTo>
                          <a:pt x="188" y="657"/>
                        </a:lnTo>
                        <a:lnTo>
                          <a:pt x="187" y="633"/>
                        </a:lnTo>
                        <a:lnTo>
                          <a:pt x="189" y="609"/>
                        </a:lnTo>
                        <a:lnTo>
                          <a:pt x="193" y="586"/>
                        </a:lnTo>
                        <a:lnTo>
                          <a:pt x="202" y="563"/>
                        </a:lnTo>
                        <a:lnTo>
                          <a:pt x="197" y="559"/>
                        </a:lnTo>
                        <a:lnTo>
                          <a:pt x="201" y="546"/>
                        </a:lnTo>
                        <a:lnTo>
                          <a:pt x="205" y="534"/>
                        </a:lnTo>
                        <a:lnTo>
                          <a:pt x="208" y="521"/>
                        </a:lnTo>
                        <a:lnTo>
                          <a:pt x="212" y="509"/>
                        </a:lnTo>
                        <a:lnTo>
                          <a:pt x="216" y="496"/>
                        </a:lnTo>
                        <a:lnTo>
                          <a:pt x="219" y="485"/>
                        </a:lnTo>
                        <a:lnTo>
                          <a:pt x="222" y="473"/>
                        </a:lnTo>
                        <a:lnTo>
                          <a:pt x="226" y="461"/>
                        </a:lnTo>
                        <a:lnTo>
                          <a:pt x="233" y="448"/>
                        </a:lnTo>
                        <a:lnTo>
                          <a:pt x="240" y="436"/>
                        </a:lnTo>
                        <a:lnTo>
                          <a:pt x="246" y="423"/>
                        </a:lnTo>
                        <a:lnTo>
                          <a:pt x="252" y="411"/>
                        </a:lnTo>
                        <a:lnTo>
                          <a:pt x="257" y="398"/>
                        </a:lnTo>
                        <a:lnTo>
                          <a:pt x="264" y="385"/>
                        </a:lnTo>
                        <a:lnTo>
                          <a:pt x="271" y="372"/>
                        </a:lnTo>
                        <a:lnTo>
                          <a:pt x="282" y="361"/>
                        </a:lnTo>
                        <a:lnTo>
                          <a:pt x="281" y="350"/>
                        </a:lnTo>
                        <a:lnTo>
                          <a:pt x="287" y="342"/>
                        </a:lnTo>
                        <a:lnTo>
                          <a:pt x="294" y="332"/>
                        </a:lnTo>
                        <a:lnTo>
                          <a:pt x="297" y="323"/>
                        </a:lnTo>
                        <a:lnTo>
                          <a:pt x="306" y="303"/>
                        </a:lnTo>
                        <a:lnTo>
                          <a:pt x="315" y="284"/>
                        </a:lnTo>
                        <a:lnTo>
                          <a:pt x="326" y="266"/>
                        </a:lnTo>
                        <a:lnTo>
                          <a:pt x="339" y="249"/>
                        </a:lnTo>
                        <a:lnTo>
                          <a:pt x="352" y="230"/>
                        </a:lnTo>
                        <a:lnTo>
                          <a:pt x="365" y="213"/>
                        </a:lnTo>
                        <a:lnTo>
                          <a:pt x="379" y="195"/>
                        </a:lnTo>
                        <a:lnTo>
                          <a:pt x="393" y="179"/>
                        </a:lnTo>
                        <a:lnTo>
                          <a:pt x="407" y="154"/>
                        </a:lnTo>
                        <a:lnTo>
                          <a:pt x="425" y="134"/>
                        </a:lnTo>
                        <a:lnTo>
                          <a:pt x="444" y="113"/>
                        </a:lnTo>
                        <a:lnTo>
                          <a:pt x="467" y="96"/>
                        </a:lnTo>
                        <a:lnTo>
                          <a:pt x="489" y="79"/>
                        </a:lnTo>
                        <a:lnTo>
                          <a:pt x="513" y="64"/>
                        </a:lnTo>
                        <a:lnTo>
                          <a:pt x="536" y="48"/>
                        </a:lnTo>
                        <a:lnTo>
                          <a:pt x="560" y="34"/>
                        </a:lnTo>
                        <a:lnTo>
                          <a:pt x="575" y="25"/>
                        </a:lnTo>
                        <a:lnTo>
                          <a:pt x="590" y="20"/>
                        </a:lnTo>
                        <a:lnTo>
                          <a:pt x="606" y="14"/>
                        </a:lnTo>
                        <a:lnTo>
                          <a:pt x="623" y="10"/>
                        </a:lnTo>
                        <a:lnTo>
                          <a:pt x="639" y="5"/>
                        </a:lnTo>
                        <a:lnTo>
                          <a:pt x="656" y="3"/>
                        </a:lnTo>
                        <a:lnTo>
                          <a:pt x="674" y="0"/>
                        </a:lnTo>
                        <a:lnTo>
                          <a:pt x="692" y="0"/>
                        </a:lnTo>
                        <a:lnTo>
                          <a:pt x="687" y="6"/>
                        </a:lnTo>
                        <a:lnTo>
                          <a:pt x="684" y="14"/>
                        </a:lnTo>
                        <a:lnTo>
                          <a:pt x="682" y="21"/>
                        </a:lnTo>
                        <a:lnTo>
                          <a:pt x="686" y="30"/>
                        </a:lnTo>
                        <a:lnTo>
                          <a:pt x="692" y="36"/>
                        </a:lnTo>
                        <a:lnTo>
                          <a:pt x="698" y="44"/>
                        </a:lnTo>
                        <a:lnTo>
                          <a:pt x="705" y="50"/>
                        </a:lnTo>
                        <a:lnTo>
                          <a:pt x="711" y="58"/>
                        </a:lnTo>
                        <a:lnTo>
                          <a:pt x="718" y="63"/>
                        </a:lnTo>
                        <a:lnTo>
                          <a:pt x="725" y="67"/>
                        </a:lnTo>
                        <a:lnTo>
                          <a:pt x="734" y="69"/>
                        </a:lnTo>
                        <a:lnTo>
                          <a:pt x="744" y="71"/>
                        </a:lnTo>
                        <a:lnTo>
                          <a:pt x="761" y="71"/>
                        </a:lnTo>
                        <a:lnTo>
                          <a:pt x="781" y="71"/>
                        </a:lnTo>
                        <a:lnTo>
                          <a:pt x="800" y="71"/>
                        </a:lnTo>
                        <a:lnTo>
                          <a:pt x="820" y="73"/>
                        </a:lnTo>
                        <a:lnTo>
                          <a:pt x="840" y="69"/>
                        </a:lnTo>
                        <a:lnTo>
                          <a:pt x="860" y="66"/>
                        </a:lnTo>
                        <a:lnTo>
                          <a:pt x="878" y="61"/>
                        </a:lnTo>
                        <a:lnTo>
                          <a:pt x="897" y="54"/>
                        </a:lnTo>
                        <a:lnTo>
                          <a:pt x="905" y="49"/>
                        </a:lnTo>
                        <a:lnTo>
                          <a:pt x="915" y="44"/>
                        </a:lnTo>
                        <a:lnTo>
                          <a:pt x="923" y="38"/>
                        </a:lnTo>
                        <a:lnTo>
                          <a:pt x="933" y="33"/>
                        </a:lnTo>
                        <a:lnTo>
                          <a:pt x="942" y="26"/>
                        </a:lnTo>
                        <a:lnTo>
                          <a:pt x="951" y="21"/>
                        </a:lnTo>
                        <a:lnTo>
                          <a:pt x="961" y="15"/>
                        </a:lnTo>
                        <a:lnTo>
                          <a:pt x="971" y="9"/>
                        </a:lnTo>
                        <a:lnTo>
                          <a:pt x="1027" y="23"/>
                        </a:lnTo>
                        <a:lnTo>
                          <a:pt x="1022" y="35"/>
                        </a:lnTo>
                        <a:lnTo>
                          <a:pt x="1014" y="44"/>
                        </a:lnTo>
                        <a:lnTo>
                          <a:pt x="1003" y="49"/>
                        </a:lnTo>
                        <a:lnTo>
                          <a:pt x="991" y="53"/>
                        </a:lnTo>
                        <a:lnTo>
                          <a:pt x="978" y="55"/>
                        </a:lnTo>
                        <a:lnTo>
                          <a:pt x="965" y="59"/>
                        </a:lnTo>
                        <a:lnTo>
                          <a:pt x="952" y="63"/>
                        </a:lnTo>
                        <a:lnTo>
                          <a:pt x="944" y="71"/>
                        </a:lnTo>
                        <a:lnTo>
                          <a:pt x="938" y="63"/>
                        </a:lnTo>
                        <a:lnTo>
                          <a:pt x="933" y="59"/>
                        </a:lnTo>
                        <a:lnTo>
                          <a:pt x="927" y="58"/>
                        </a:lnTo>
                        <a:lnTo>
                          <a:pt x="920" y="59"/>
                        </a:lnTo>
                        <a:lnTo>
                          <a:pt x="912" y="60"/>
                        </a:lnTo>
                        <a:lnTo>
                          <a:pt x="903" y="62"/>
                        </a:lnTo>
                        <a:lnTo>
                          <a:pt x="896" y="64"/>
                        </a:lnTo>
                        <a:lnTo>
                          <a:pt x="890" y="66"/>
                        </a:lnTo>
                        <a:lnTo>
                          <a:pt x="881" y="69"/>
                        </a:lnTo>
                        <a:lnTo>
                          <a:pt x="872" y="74"/>
                        </a:lnTo>
                        <a:lnTo>
                          <a:pt x="863" y="77"/>
                        </a:lnTo>
                        <a:lnTo>
                          <a:pt x="855" y="81"/>
                        </a:lnTo>
                        <a:lnTo>
                          <a:pt x="846" y="84"/>
                        </a:lnTo>
                        <a:lnTo>
                          <a:pt x="838" y="90"/>
                        </a:lnTo>
                        <a:lnTo>
                          <a:pt x="829" y="95"/>
                        </a:lnTo>
                        <a:lnTo>
                          <a:pt x="823" y="103"/>
                        </a:lnTo>
                        <a:lnTo>
                          <a:pt x="809" y="97"/>
                        </a:lnTo>
                        <a:lnTo>
                          <a:pt x="796" y="94"/>
                        </a:lnTo>
                        <a:lnTo>
                          <a:pt x="782" y="91"/>
                        </a:lnTo>
                        <a:lnTo>
                          <a:pt x="768" y="90"/>
                        </a:lnTo>
                        <a:lnTo>
                          <a:pt x="753" y="89"/>
                        </a:lnTo>
                        <a:lnTo>
                          <a:pt x="739" y="89"/>
                        </a:lnTo>
                        <a:lnTo>
                          <a:pt x="725" y="91"/>
                        </a:lnTo>
                        <a:lnTo>
                          <a:pt x="713" y="95"/>
                        </a:lnTo>
                        <a:lnTo>
                          <a:pt x="696" y="106"/>
                        </a:lnTo>
                        <a:lnTo>
                          <a:pt x="682" y="120"/>
                        </a:lnTo>
                        <a:lnTo>
                          <a:pt x="668" y="135"/>
                        </a:lnTo>
                        <a:lnTo>
                          <a:pt x="657" y="152"/>
                        </a:lnTo>
                        <a:lnTo>
                          <a:pt x="645" y="167"/>
                        </a:lnTo>
                        <a:lnTo>
                          <a:pt x="633" y="182"/>
                        </a:lnTo>
                        <a:lnTo>
                          <a:pt x="617" y="194"/>
                        </a:lnTo>
                        <a:lnTo>
                          <a:pt x="598" y="203"/>
                        </a:lnTo>
                        <a:lnTo>
                          <a:pt x="574" y="222"/>
                        </a:lnTo>
                        <a:lnTo>
                          <a:pt x="547" y="241"/>
                        </a:lnTo>
                        <a:lnTo>
                          <a:pt x="520" y="261"/>
                        </a:lnTo>
                        <a:lnTo>
                          <a:pt x="497" y="285"/>
                        </a:lnTo>
                        <a:lnTo>
                          <a:pt x="474" y="309"/>
                        </a:lnTo>
                        <a:lnTo>
                          <a:pt x="459" y="335"/>
                        </a:lnTo>
                        <a:lnTo>
                          <a:pt x="450" y="366"/>
                        </a:lnTo>
                        <a:lnTo>
                          <a:pt x="453" y="399"/>
                        </a:lnTo>
                        <a:lnTo>
                          <a:pt x="454" y="411"/>
                        </a:lnTo>
                        <a:lnTo>
                          <a:pt x="456" y="423"/>
                        </a:lnTo>
                        <a:lnTo>
                          <a:pt x="458" y="435"/>
                        </a:lnTo>
                        <a:lnTo>
                          <a:pt x="462" y="448"/>
                        </a:lnTo>
                        <a:lnTo>
                          <a:pt x="467" y="459"/>
                        </a:lnTo>
                        <a:lnTo>
                          <a:pt x="474" y="471"/>
                        </a:lnTo>
                        <a:lnTo>
                          <a:pt x="482" y="479"/>
                        </a:lnTo>
                        <a:lnTo>
                          <a:pt x="492" y="489"/>
                        </a:lnTo>
                        <a:lnTo>
                          <a:pt x="500" y="493"/>
                        </a:lnTo>
                        <a:lnTo>
                          <a:pt x="508" y="496"/>
                        </a:lnTo>
                        <a:lnTo>
                          <a:pt x="517" y="499"/>
                        </a:lnTo>
                        <a:lnTo>
                          <a:pt x="527" y="501"/>
                        </a:lnTo>
                        <a:lnTo>
                          <a:pt x="535" y="500"/>
                        </a:lnTo>
                        <a:lnTo>
                          <a:pt x="545" y="500"/>
                        </a:lnTo>
                        <a:lnTo>
                          <a:pt x="555" y="499"/>
                        </a:lnTo>
                        <a:lnTo>
                          <a:pt x="564" y="499"/>
                        </a:lnTo>
                        <a:lnTo>
                          <a:pt x="587" y="485"/>
                        </a:lnTo>
                        <a:lnTo>
                          <a:pt x="609" y="471"/>
                        </a:lnTo>
                        <a:lnTo>
                          <a:pt x="631" y="455"/>
                        </a:lnTo>
                        <a:lnTo>
                          <a:pt x="652" y="438"/>
                        </a:lnTo>
                        <a:lnTo>
                          <a:pt x="672" y="420"/>
                        </a:lnTo>
                        <a:lnTo>
                          <a:pt x="693" y="402"/>
                        </a:lnTo>
                        <a:lnTo>
                          <a:pt x="713" y="383"/>
                        </a:lnTo>
                        <a:lnTo>
                          <a:pt x="734" y="366"/>
                        </a:lnTo>
                        <a:lnTo>
                          <a:pt x="748" y="364"/>
                        </a:lnTo>
                        <a:lnTo>
                          <a:pt x="763" y="364"/>
                        </a:lnTo>
                        <a:lnTo>
                          <a:pt x="777" y="362"/>
                        </a:lnTo>
                        <a:lnTo>
                          <a:pt x="792" y="361"/>
                        </a:lnTo>
                        <a:lnTo>
                          <a:pt x="804" y="357"/>
                        </a:lnTo>
                        <a:lnTo>
                          <a:pt x="818" y="354"/>
                        </a:lnTo>
                        <a:lnTo>
                          <a:pt x="831" y="346"/>
                        </a:lnTo>
                        <a:lnTo>
                          <a:pt x="844" y="340"/>
                        </a:lnTo>
                        <a:lnTo>
                          <a:pt x="861" y="344"/>
                        </a:lnTo>
                        <a:lnTo>
                          <a:pt x="879" y="346"/>
                        </a:lnTo>
                        <a:lnTo>
                          <a:pt x="898" y="344"/>
                        </a:lnTo>
                        <a:lnTo>
                          <a:pt x="916" y="340"/>
                        </a:lnTo>
                        <a:lnTo>
                          <a:pt x="933" y="332"/>
                        </a:lnTo>
                        <a:lnTo>
                          <a:pt x="950" y="325"/>
                        </a:lnTo>
                        <a:lnTo>
                          <a:pt x="967" y="316"/>
                        </a:lnTo>
                        <a:lnTo>
                          <a:pt x="985" y="309"/>
                        </a:lnTo>
                        <a:lnTo>
                          <a:pt x="988" y="303"/>
                        </a:lnTo>
                        <a:lnTo>
                          <a:pt x="992" y="298"/>
                        </a:lnTo>
                        <a:lnTo>
                          <a:pt x="995" y="291"/>
                        </a:lnTo>
                        <a:lnTo>
                          <a:pt x="1001" y="286"/>
                        </a:lnTo>
                        <a:lnTo>
                          <a:pt x="1005" y="280"/>
                        </a:lnTo>
                        <a:lnTo>
                          <a:pt x="1009" y="274"/>
                        </a:lnTo>
                        <a:lnTo>
                          <a:pt x="1012" y="268"/>
                        </a:lnTo>
                        <a:lnTo>
                          <a:pt x="1017" y="262"/>
                        </a:lnTo>
                        <a:lnTo>
                          <a:pt x="1041" y="255"/>
                        </a:lnTo>
                        <a:lnTo>
                          <a:pt x="1066" y="247"/>
                        </a:lnTo>
                        <a:lnTo>
                          <a:pt x="1090" y="238"/>
                        </a:lnTo>
                        <a:lnTo>
                          <a:pt x="1114" y="227"/>
                        </a:lnTo>
                        <a:lnTo>
                          <a:pt x="1136" y="213"/>
                        </a:lnTo>
                        <a:lnTo>
                          <a:pt x="1157" y="198"/>
                        </a:lnTo>
                        <a:lnTo>
                          <a:pt x="1178" y="181"/>
                        </a:lnTo>
                        <a:lnTo>
                          <a:pt x="1198" y="163"/>
                        </a:lnTo>
                        <a:lnTo>
                          <a:pt x="1198" y="169"/>
                        </a:lnTo>
                        <a:lnTo>
                          <a:pt x="1200" y="176"/>
                        </a:lnTo>
                        <a:lnTo>
                          <a:pt x="1203" y="182"/>
                        </a:lnTo>
                        <a:lnTo>
                          <a:pt x="1209" y="188"/>
                        </a:lnTo>
                        <a:lnTo>
                          <a:pt x="1213" y="194"/>
                        </a:lnTo>
                        <a:lnTo>
                          <a:pt x="1219" y="199"/>
                        </a:lnTo>
                        <a:lnTo>
                          <a:pt x="1226" y="205"/>
                        </a:lnTo>
                        <a:lnTo>
                          <a:pt x="1232" y="210"/>
                        </a:lnTo>
                        <a:lnTo>
                          <a:pt x="1242" y="207"/>
                        </a:lnTo>
                        <a:lnTo>
                          <a:pt x="1252" y="205"/>
                        </a:lnTo>
                        <a:lnTo>
                          <a:pt x="1261" y="203"/>
                        </a:lnTo>
                        <a:lnTo>
                          <a:pt x="1271" y="203"/>
                        </a:lnTo>
                        <a:lnTo>
                          <a:pt x="1281" y="202"/>
                        </a:lnTo>
                        <a:lnTo>
                          <a:pt x="1290" y="202"/>
                        </a:lnTo>
                        <a:lnTo>
                          <a:pt x="1301" y="202"/>
                        </a:lnTo>
                        <a:lnTo>
                          <a:pt x="1312" y="203"/>
                        </a:lnTo>
                        <a:lnTo>
                          <a:pt x="1318" y="205"/>
                        </a:lnTo>
                        <a:lnTo>
                          <a:pt x="1327" y="206"/>
                        </a:lnTo>
                        <a:lnTo>
                          <a:pt x="1334" y="205"/>
                        </a:lnTo>
                        <a:lnTo>
                          <a:pt x="1344" y="203"/>
                        </a:lnTo>
                        <a:lnTo>
                          <a:pt x="1351" y="200"/>
                        </a:lnTo>
                        <a:lnTo>
                          <a:pt x="1360" y="197"/>
                        </a:lnTo>
                        <a:lnTo>
                          <a:pt x="1367" y="194"/>
                        </a:lnTo>
                        <a:lnTo>
                          <a:pt x="1376" y="192"/>
                        </a:lnTo>
                        <a:lnTo>
                          <a:pt x="1379" y="186"/>
                        </a:lnTo>
                        <a:lnTo>
                          <a:pt x="1386" y="186"/>
                        </a:lnTo>
                        <a:lnTo>
                          <a:pt x="1392" y="188"/>
                        </a:lnTo>
                        <a:lnTo>
                          <a:pt x="1400" y="192"/>
                        </a:lnTo>
                        <a:lnTo>
                          <a:pt x="1415" y="196"/>
                        </a:lnTo>
                        <a:lnTo>
                          <a:pt x="1431" y="200"/>
                        </a:lnTo>
                        <a:lnTo>
                          <a:pt x="1448" y="202"/>
                        </a:lnTo>
                        <a:lnTo>
                          <a:pt x="1466" y="205"/>
                        </a:lnTo>
                        <a:lnTo>
                          <a:pt x="1483" y="205"/>
                        </a:lnTo>
                        <a:lnTo>
                          <a:pt x="1502" y="206"/>
                        </a:lnTo>
                        <a:lnTo>
                          <a:pt x="1519" y="206"/>
                        </a:lnTo>
                        <a:lnTo>
                          <a:pt x="1537" y="208"/>
                        </a:lnTo>
                        <a:lnTo>
                          <a:pt x="1568" y="198"/>
                        </a:lnTo>
                        <a:lnTo>
                          <a:pt x="1600" y="190"/>
                        </a:lnTo>
                        <a:lnTo>
                          <a:pt x="1631" y="181"/>
                        </a:lnTo>
                        <a:lnTo>
                          <a:pt x="1663" y="172"/>
                        </a:lnTo>
                        <a:lnTo>
                          <a:pt x="1693" y="162"/>
                        </a:lnTo>
                        <a:lnTo>
                          <a:pt x="1725" y="150"/>
                        </a:lnTo>
                        <a:lnTo>
                          <a:pt x="1754" y="135"/>
                        </a:lnTo>
                        <a:lnTo>
                          <a:pt x="1783" y="118"/>
                        </a:lnTo>
                        <a:lnTo>
                          <a:pt x="1790" y="142"/>
                        </a:lnTo>
                        <a:lnTo>
                          <a:pt x="1801" y="168"/>
                        </a:lnTo>
                        <a:lnTo>
                          <a:pt x="1814" y="193"/>
                        </a:lnTo>
                        <a:lnTo>
                          <a:pt x="1830" y="216"/>
                        </a:lnTo>
                        <a:lnTo>
                          <a:pt x="1847" y="238"/>
                        </a:lnTo>
                        <a:lnTo>
                          <a:pt x="1868" y="258"/>
                        </a:lnTo>
                        <a:lnTo>
                          <a:pt x="1891" y="275"/>
                        </a:lnTo>
                        <a:lnTo>
                          <a:pt x="1917" y="290"/>
                        </a:lnTo>
                        <a:lnTo>
                          <a:pt x="1918" y="300"/>
                        </a:lnTo>
                        <a:lnTo>
                          <a:pt x="1919" y="311"/>
                        </a:lnTo>
                        <a:lnTo>
                          <a:pt x="1922" y="319"/>
                        </a:lnTo>
                        <a:lnTo>
                          <a:pt x="1931" y="327"/>
                        </a:lnTo>
                        <a:lnTo>
                          <a:pt x="1938" y="328"/>
                        </a:lnTo>
                        <a:lnTo>
                          <a:pt x="1947" y="333"/>
                        </a:lnTo>
                        <a:lnTo>
                          <a:pt x="1953" y="339"/>
                        </a:lnTo>
                        <a:lnTo>
                          <a:pt x="1959" y="346"/>
                        </a:lnTo>
                        <a:lnTo>
                          <a:pt x="1966" y="352"/>
                        </a:lnTo>
                        <a:lnTo>
                          <a:pt x="1972" y="357"/>
                        </a:lnTo>
                        <a:lnTo>
                          <a:pt x="1981" y="358"/>
                        </a:lnTo>
                        <a:lnTo>
                          <a:pt x="1993" y="357"/>
                        </a:lnTo>
                        <a:lnTo>
                          <a:pt x="2005" y="378"/>
                        </a:lnTo>
                        <a:lnTo>
                          <a:pt x="2021" y="398"/>
                        </a:lnTo>
                        <a:lnTo>
                          <a:pt x="2039" y="414"/>
                        </a:lnTo>
                        <a:lnTo>
                          <a:pt x="2061" y="428"/>
                        </a:lnTo>
                        <a:lnTo>
                          <a:pt x="2083" y="438"/>
                        </a:lnTo>
                        <a:lnTo>
                          <a:pt x="2107" y="449"/>
                        </a:lnTo>
                        <a:lnTo>
                          <a:pt x="2132" y="457"/>
                        </a:lnTo>
                        <a:lnTo>
                          <a:pt x="2157" y="464"/>
                        </a:lnTo>
                        <a:lnTo>
                          <a:pt x="2173" y="461"/>
                        </a:lnTo>
                        <a:lnTo>
                          <a:pt x="2190" y="458"/>
                        </a:lnTo>
                        <a:lnTo>
                          <a:pt x="2207" y="452"/>
                        </a:lnTo>
                        <a:lnTo>
                          <a:pt x="2224" y="447"/>
                        </a:lnTo>
                        <a:lnTo>
                          <a:pt x="2238" y="437"/>
                        </a:lnTo>
                        <a:lnTo>
                          <a:pt x="2252" y="428"/>
                        </a:lnTo>
                        <a:lnTo>
                          <a:pt x="2264" y="415"/>
                        </a:lnTo>
                        <a:lnTo>
                          <a:pt x="2276" y="400"/>
                        </a:lnTo>
                        <a:lnTo>
                          <a:pt x="2279" y="389"/>
                        </a:lnTo>
                        <a:lnTo>
                          <a:pt x="2282" y="379"/>
                        </a:lnTo>
                        <a:lnTo>
                          <a:pt x="2284" y="370"/>
                        </a:lnTo>
                        <a:lnTo>
                          <a:pt x="2287" y="360"/>
                        </a:lnTo>
                        <a:lnTo>
                          <a:pt x="2286" y="349"/>
                        </a:lnTo>
                        <a:lnTo>
                          <a:pt x="2284" y="339"/>
                        </a:lnTo>
                        <a:lnTo>
                          <a:pt x="2281" y="329"/>
                        </a:lnTo>
                        <a:lnTo>
                          <a:pt x="2277" y="320"/>
                        </a:lnTo>
                        <a:lnTo>
                          <a:pt x="2213" y="264"/>
                        </a:lnTo>
                        <a:lnTo>
                          <a:pt x="2220" y="259"/>
                        </a:lnTo>
                        <a:lnTo>
                          <a:pt x="2230" y="257"/>
                        </a:lnTo>
                        <a:lnTo>
                          <a:pt x="2239" y="254"/>
                        </a:lnTo>
                        <a:lnTo>
                          <a:pt x="2249" y="252"/>
                        </a:lnTo>
                        <a:lnTo>
                          <a:pt x="2258" y="247"/>
                        </a:lnTo>
                        <a:lnTo>
                          <a:pt x="2265" y="242"/>
                        </a:lnTo>
                        <a:lnTo>
                          <a:pt x="2269" y="235"/>
                        </a:lnTo>
                        <a:lnTo>
                          <a:pt x="2273" y="225"/>
                        </a:lnTo>
                        <a:lnTo>
                          <a:pt x="2273" y="218"/>
                        </a:lnTo>
                        <a:lnTo>
                          <a:pt x="2308" y="257"/>
                        </a:lnTo>
                        <a:lnTo>
                          <a:pt x="2341" y="299"/>
                        </a:lnTo>
                        <a:lnTo>
                          <a:pt x="2371" y="342"/>
                        </a:lnTo>
                        <a:lnTo>
                          <a:pt x="2400" y="387"/>
                        </a:lnTo>
                        <a:lnTo>
                          <a:pt x="2426" y="432"/>
                        </a:lnTo>
                        <a:lnTo>
                          <a:pt x="2449" y="479"/>
                        </a:lnTo>
                        <a:lnTo>
                          <a:pt x="2469" y="526"/>
                        </a:lnTo>
                        <a:lnTo>
                          <a:pt x="2488" y="576"/>
                        </a:lnTo>
                        <a:lnTo>
                          <a:pt x="2504" y="636"/>
                        </a:lnTo>
                        <a:lnTo>
                          <a:pt x="2511" y="699"/>
                        </a:lnTo>
                        <a:lnTo>
                          <a:pt x="2510" y="763"/>
                        </a:lnTo>
                        <a:lnTo>
                          <a:pt x="2502" y="826"/>
                        </a:lnTo>
                        <a:lnTo>
                          <a:pt x="2488" y="888"/>
                        </a:lnTo>
                        <a:lnTo>
                          <a:pt x="2471" y="951"/>
                        </a:lnTo>
                        <a:lnTo>
                          <a:pt x="2452" y="1012"/>
                        </a:lnTo>
                        <a:lnTo>
                          <a:pt x="2431" y="1072"/>
                        </a:lnTo>
                        <a:lnTo>
                          <a:pt x="2428" y="1083"/>
                        </a:lnTo>
                        <a:lnTo>
                          <a:pt x="2425" y="1096"/>
                        </a:lnTo>
                        <a:lnTo>
                          <a:pt x="2422" y="1109"/>
                        </a:lnTo>
                        <a:lnTo>
                          <a:pt x="2418" y="1122"/>
                        </a:lnTo>
                        <a:lnTo>
                          <a:pt x="2413" y="1134"/>
                        </a:lnTo>
                        <a:lnTo>
                          <a:pt x="2410" y="1147"/>
                        </a:lnTo>
                        <a:lnTo>
                          <a:pt x="2406" y="1160"/>
                        </a:lnTo>
                        <a:lnTo>
                          <a:pt x="2402" y="1173"/>
                        </a:lnTo>
                        <a:lnTo>
                          <a:pt x="2395" y="1180"/>
                        </a:lnTo>
                        <a:lnTo>
                          <a:pt x="2392" y="1189"/>
                        </a:lnTo>
                        <a:lnTo>
                          <a:pt x="2388" y="1197"/>
                        </a:lnTo>
                        <a:lnTo>
                          <a:pt x="2387" y="1207"/>
                        </a:lnTo>
                        <a:lnTo>
                          <a:pt x="2384" y="1215"/>
                        </a:lnTo>
                        <a:lnTo>
                          <a:pt x="2382" y="1224"/>
                        </a:lnTo>
                        <a:lnTo>
                          <a:pt x="2378" y="1233"/>
                        </a:lnTo>
                        <a:lnTo>
                          <a:pt x="2371" y="1241"/>
                        </a:lnTo>
                        <a:lnTo>
                          <a:pt x="2375" y="1251"/>
                        </a:lnTo>
                        <a:lnTo>
                          <a:pt x="2377" y="1261"/>
                        </a:lnTo>
                        <a:lnTo>
                          <a:pt x="2376" y="1270"/>
                        </a:lnTo>
                        <a:lnTo>
                          <a:pt x="2375" y="1280"/>
                        </a:lnTo>
                        <a:lnTo>
                          <a:pt x="2371" y="1289"/>
                        </a:lnTo>
                        <a:lnTo>
                          <a:pt x="2368" y="1300"/>
                        </a:lnTo>
                        <a:lnTo>
                          <a:pt x="2366" y="1310"/>
                        </a:lnTo>
                        <a:lnTo>
                          <a:pt x="2365" y="1322"/>
                        </a:lnTo>
                        <a:lnTo>
                          <a:pt x="2349" y="1360"/>
                        </a:lnTo>
                        <a:lnTo>
                          <a:pt x="2334" y="1400"/>
                        </a:lnTo>
                        <a:lnTo>
                          <a:pt x="2319" y="1440"/>
                        </a:lnTo>
                        <a:lnTo>
                          <a:pt x="2305" y="1481"/>
                        </a:lnTo>
                        <a:lnTo>
                          <a:pt x="2290" y="1519"/>
                        </a:lnTo>
                        <a:lnTo>
                          <a:pt x="2275" y="1559"/>
                        </a:lnTo>
                        <a:lnTo>
                          <a:pt x="2260" y="1599"/>
                        </a:lnTo>
                        <a:lnTo>
                          <a:pt x="2246" y="1638"/>
                        </a:lnTo>
                        <a:lnTo>
                          <a:pt x="2235" y="1638"/>
                        </a:lnTo>
                        <a:lnTo>
                          <a:pt x="2225" y="1640"/>
                        </a:lnTo>
                        <a:lnTo>
                          <a:pt x="2216" y="1643"/>
                        </a:lnTo>
                        <a:lnTo>
                          <a:pt x="2207" y="1648"/>
                        </a:lnTo>
                        <a:lnTo>
                          <a:pt x="2199" y="1652"/>
                        </a:lnTo>
                        <a:lnTo>
                          <a:pt x="2191" y="1659"/>
                        </a:lnTo>
                        <a:lnTo>
                          <a:pt x="2185" y="1665"/>
                        </a:lnTo>
                        <a:lnTo>
                          <a:pt x="2178" y="1673"/>
                        </a:lnTo>
                        <a:lnTo>
                          <a:pt x="2181" y="1677"/>
                        </a:lnTo>
                        <a:lnTo>
                          <a:pt x="2196" y="1666"/>
                        </a:lnTo>
                        <a:lnTo>
                          <a:pt x="2213" y="1661"/>
                        </a:lnTo>
                        <a:lnTo>
                          <a:pt x="2230" y="1659"/>
                        </a:lnTo>
                        <a:lnTo>
                          <a:pt x="2247" y="1660"/>
                        </a:lnTo>
                        <a:lnTo>
                          <a:pt x="2264" y="1662"/>
                        </a:lnTo>
                        <a:lnTo>
                          <a:pt x="2282" y="1665"/>
                        </a:lnTo>
                        <a:lnTo>
                          <a:pt x="2301" y="1667"/>
                        </a:lnTo>
                        <a:lnTo>
                          <a:pt x="2319" y="1670"/>
                        </a:lnTo>
                        <a:lnTo>
                          <a:pt x="2343" y="1680"/>
                        </a:lnTo>
                        <a:lnTo>
                          <a:pt x="2369" y="1691"/>
                        </a:lnTo>
                        <a:lnTo>
                          <a:pt x="2393" y="1703"/>
                        </a:lnTo>
                        <a:lnTo>
                          <a:pt x="2417" y="1717"/>
                        </a:lnTo>
                        <a:lnTo>
                          <a:pt x="2439" y="1732"/>
                        </a:lnTo>
                        <a:lnTo>
                          <a:pt x="2461" y="1749"/>
                        </a:lnTo>
                        <a:lnTo>
                          <a:pt x="2483" y="1768"/>
                        </a:lnTo>
                        <a:lnTo>
                          <a:pt x="2503" y="1792"/>
                        </a:lnTo>
                        <a:lnTo>
                          <a:pt x="2508" y="1799"/>
                        </a:lnTo>
                        <a:lnTo>
                          <a:pt x="2512" y="1810"/>
                        </a:lnTo>
                        <a:lnTo>
                          <a:pt x="2514" y="1820"/>
                        </a:lnTo>
                        <a:lnTo>
                          <a:pt x="2517" y="1831"/>
                        </a:lnTo>
                        <a:lnTo>
                          <a:pt x="2517" y="1841"/>
                        </a:lnTo>
                        <a:lnTo>
                          <a:pt x="2517" y="1853"/>
                        </a:lnTo>
                        <a:lnTo>
                          <a:pt x="2517" y="1863"/>
                        </a:lnTo>
                        <a:lnTo>
                          <a:pt x="2518" y="1874"/>
                        </a:lnTo>
                        <a:lnTo>
                          <a:pt x="2514" y="1885"/>
                        </a:lnTo>
                        <a:lnTo>
                          <a:pt x="2510" y="1897"/>
                        </a:lnTo>
                        <a:lnTo>
                          <a:pt x="2502" y="1907"/>
                        </a:lnTo>
                        <a:lnTo>
                          <a:pt x="2495" y="1916"/>
                        </a:lnTo>
                        <a:lnTo>
                          <a:pt x="2485" y="1924"/>
                        </a:lnTo>
                        <a:lnTo>
                          <a:pt x="2476" y="1931"/>
                        </a:lnTo>
                        <a:lnTo>
                          <a:pt x="2466" y="1938"/>
                        </a:lnTo>
                        <a:lnTo>
                          <a:pt x="2456" y="1944"/>
                        </a:lnTo>
                        <a:lnTo>
                          <a:pt x="2427" y="1953"/>
                        </a:lnTo>
                        <a:lnTo>
                          <a:pt x="2439" y="1941"/>
                        </a:lnTo>
                        <a:lnTo>
                          <a:pt x="2449" y="1929"/>
                        </a:lnTo>
                        <a:lnTo>
                          <a:pt x="2454" y="1915"/>
                        </a:lnTo>
                        <a:lnTo>
                          <a:pt x="2457" y="1901"/>
                        </a:lnTo>
                        <a:lnTo>
                          <a:pt x="2457" y="1885"/>
                        </a:lnTo>
                        <a:lnTo>
                          <a:pt x="2457" y="1870"/>
                        </a:lnTo>
                        <a:lnTo>
                          <a:pt x="2455" y="1856"/>
                        </a:lnTo>
                        <a:lnTo>
                          <a:pt x="2454" y="1843"/>
                        </a:lnTo>
                        <a:lnTo>
                          <a:pt x="2447" y="1826"/>
                        </a:lnTo>
                        <a:lnTo>
                          <a:pt x="2439" y="1811"/>
                        </a:lnTo>
                        <a:lnTo>
                          <a:pt x="2427" y="1796"/>
                        </a:lnTo>
                        <a:lnTo>
                          <a:pt x="2414" y="1784"/>
                        </a:lnTo>
                        <a:lnTo>
                          <a:pt x="2398" y="1772"/>
                        </a:lnTo>
                        <a:lnTo>
                          <a:pt x="2383" y="1763"/>
                        </a:lnTo>
                        <a:lnTo>
                          <a:pt x="2367" y="1755"/>
                        </a:lnTo>
                        <a:lnTo>
                          <a:pt x="2352" y="1751"/>
                        </a:lnTo>
                        <a:lnTo>
                          <a:pt x="2343" y="1750"/>
                        </a:lnTo>
                        <a:lnTo>
                          <a:pt x="2336" y="1749"/>
                        </a:lnTo>
                        <a:lnTo>
                          <a:pt x="2329" y="1750"/>
                        </a:lnTo>
                        <a:lnTo>
                          <a:pt x="2326" y="1756"/>
                        </a:lnTo>
                        <a:lnTo>
                          <a:pt x="2337" y="1762"/>
                        </a:lnTo>
                        <a:lnTo>
                          <a:pt x="2349" y="1767"/>
                        </a:lnTo>
                        <a:lnTo>
                          <a:pt x="2361" y="1771"/>
                        </a:lnTo>
                        <a:lnTo>
                          <a:pt x="2372" y="1778"/>
                        </a:lnTo>
                        <a:lnTo>
                          <a:pt x="2383" y="1784"/>
                        </a:lnTo>
                        <a:lnTo>
                          <a:pt x="2394" y="1791"/>
                        </a:lnTo>
                        <a:lnTo>
                          <a:pt x="2402" y="1799"/>
                        </a:lnTo>
                        <a:lnTo>
                          <a:pt x="2412" y="1810"/>
                        </a:lnTo>
                        <a:lnTo>
                          <a:pt x="2417" y="1823"/>
                        </a:lnTo>
                        <a:lnTo>
                          <a:pt x="2424" y="1839"/>
                        </a:lnTo>
                        <a:lnTo>
                          <a:pt x="2429" y="1854"/>
                        </a:lnTo>
                        <a:lnTo>
                          <a:pt x="2436" y="1870"/>
                        </a:lnTo>
                        <a:lnTo>
                          <a:pt x="2439" y="1885"/>
                        </a:lnTo>
                        <a:lnTo>
                          <a:pt x="2439" y="1901"/>
                        </a:lnTo>
                        <a:lnTo>
                          <a:pt x="2435" y="1916"/>
                        </a:lnTo>
                        <a:lnTo>
                          <a:pt x="2427" y="1931"/>
                        </a:lnTo>
                        <a:lnTo>
                          <a:pt x="2416" y="1936"/>
                        </a:lnTo>
                        <a:lnTo>
                          <a:pt x="2409" y="1942"/>
                        </a:lnTo>
                        <a:lnTo>
                          <a:pt x="2401" y="1948"/>
                        </a:lnTo>
                        <a:lnTo>
                          <a:pt x="2395" y="1956"/>
                        </a:lnTo>
                        <a:lnTo>
                          <a:pt x="2387" y="1961"/>
                        </a:lnTo>
                        <a:lnTo>
                          <a:pt x="2380" y="1967"/>
                        </a:lnTo>
                        <a:lnTo>
                          <a:pt x="2371" y="1971"/>
                        </a:lnTo>
                        <a:lnTo>
                          <a:pt x="2362" y="1975"/>
                        </a:lnTo>
                        <a:lnTo>
                          <a:pt x="2302" y="1986"/>
                        </a:lnTo>
                        <a:lnTo>
                          <a:pt x="2308" y="1972"/>
                        </a:lnTo>
                        <a:lnTo>
                          <a:pt x="2314" y="1958"/>
                        </a:lnTo>
                        <a:lnTo>
                          <a:pt x="2319" y="1942"/>
                        </a:lnTo>
                        <a:lnTo>
                          <a:pt x="2322" y="1927"/>
                        </a:lnTo>
                        <a:lnTo>
                          <a:pt x="2322" y="1911"/>
                        </a:lnTo>
                        <a:lnTo>
                          <a:pt x="2321" y="1895"/>
                        </a:lnTo>
                        <a:lnTo>
                          <a:pt x="2317" y="1880"/>
                        </a:lnTo>
                        <a:lnTo>
                          <a:pt x="2310" y="1867"/>
                        </a:lnTo>
                        <a:lnTo>
                          <a:pt x="2294" y="1852"/>
                        </a:lnTo>
                        <a:lnTo>
                          <a:pt x="2279" y="1837"/>
                        </a:lnTo>
                        <a:lnTo>
                          <a:pt x="2262" y="1823"/>
                        </a:lnTo>
                        <a:lnTo>
                          <a:pt x="2246" y="1811"/>
                        </a:lnTo>
                        <a:lnTo>
                          <a:pt x="2228" y="1801"/>
                        </a:lnTo>
                        <a:lnTo>
                          <a:pt x="2209" y="1795"/>
                        </a:lnTo>
                        <a:lnTo>
                          <a:pt x="2189" y="1792"/>
                        </a:lnTo>
                        <a:lnTo>
                          <a:pt x="2170" y="1795"/>
                        </a:lnTo>
                        <a:lnTo>
                          <a:pt x="2168" y="1802"/>
                        </a:lnTo>
                        <a:lnTo>
                          <a:pt x="2173" y="1808"/>
                        </a:lnTo>
                        <a:lnTo>
                          <a:pt x="2193" y="1809"/>
                        </a:lnTo>
                        <a:lnTo>
                          <a:pt x="2214" y="1814"/>
                        </a:lnTo>
                        <a:lnTo>
                          <a:pt x="2232" y="1824"/>
                        </a:lnTo>
                        <a:lnTo>
                          <a:pt x="2250" y="1837"/>
                        </a:lnTo>
                        <a:lnTo>
                          <a:pt x="2265" y="1851"/>
                        </a:lnTo>
                        <a:lnTo>
                          <a:pt x="2279" y="1867"/>
                        </a:lnTo>
                        <a:lnTo>
                          <a:pt x="2292" y="1884"/>
                        </a:lnTo>
                        <a:lnTo>
                          <a:pt x="2305" y="1902"/>
                        </a:lnTo>
                        <a:lnTo>
                          <a:pt x="2305" y="1911"/>
                        </a:lnTo>
                        <a:lnTo>
                          <a:pt x="2305" y="1921"/>
                        </a:lnTo>
                        <a:lnTo>
                          <a:pt x="2303" y="1929"/>
                        </a:lnTo>
                        <a:lnTo>
                          <a:pt x="2301" y="1939"/>
                        </a:lnTo>
                        <a:lnTo>
                          <a:pt x="2296" y="1947"/>
                        </a:lnTo>
                        <a:lnTo>
                          <a:pt x="2293" y="1957"/>
                        </a:lnTo>
                        <a:lnTo>
                          <a:pt x="2289" y="1966"/>
                        </a:lnTo>
                        <a:lnTo>
                          <a:pt x="2284" y="1975"/>
                        </a:lnTo>
                        <a:lnTo>
                          <a:pt x="2259" y="1992"/>
                        </a:lnTo>
                        <a:lnTo>
                          <a:pt x="2231" y="2003"/>
                        </a:lnTo>
                        <a:lnTo>
                          <a:pt x="2200" y="2010"/>
                        </a:lnTo>
                        <a:lnTo>
                          <a:pt x="2169" y="2013"/>
                        </a:lnTo>
                        <a:lnTo>
                          <a:pt x="2136" y="2013"/>
                        </a:lnTo>
                        <a:lnTo>
                          <a:pt x="2104" y="2013"/>
                        </a:lnTo>
                        <a:lnTo>
                          <a:pt x="2072" y="2012"/>
                        </a:lnTo>
                        <a:lnTo>
                          <a:pt x="2044" y="2013"/>
                        </a:lnTo>
                        <a:lnTo>
                          <a:pt x="2028" y="2009"/>
                        </a:lnTo>
                        <a:lnTo>
                          <a:pt x="2012" y="2005"/>
                        </a:lnTo>
                        <a:lnTo>
                          <a:pt x="1996" y="2001"/>
                        </a:lnTo>
                        <a:lnTo>
                          <a:pt x="1981" y="1998"/>
                        </a:lnTo>
                        <a:lnTo>
                          <a:pt x="1966" y="1992"/>
                        </a:lnTo>
                        <a:lnTo>
                          <a:pt x="1951" y="1988"/>
                        </a:lnTo>
                        <a:lnTo>
                          <a:pt x="1936" y="1983"/>
                        </a:lnTo>
                        <a:lnTo>
                          <a:pt x="1922" y="1978"/>
                        </a:lnTo>
                        <a:lnTo>
                          <a:pt x="1918" y="1971"/>
                        </a:lnTo>
                        <a:lnTo>
                          <a:pt x="1912" y="1967"/>
                        </a:lnTo>
                        <a:lnTo>
                          <a:pt x="1905" y="1963"/>
                        </a:lnTo>
                        <a:lnTo>
                          <a:pt x="1899" y="1959"/>
                        </a:lnTo>
                        <a:lnTo>
                          <a:pt x="1891" y="1937"/>
                        </a:lnTo>
                        <a:lnTo>
                          <a:pt x="1885" y="1915"/>
                        </a:lnTo>
                        <a:lnTo>
                          <a:pt x="1880" y="1893"/>
                        </a:lnTo>
                        <a:lnTo>
                          <a:pt x="1878" y="1871"/>
                        </a:lnTo>
                        <a:lnTo>
                          <a:pt x="1875" y="1849"/>
                        </a:lnTo>
                        <a:lnTo>
                          <a:pt x="1874" y="1827"/>
                        </a:lnTo>
                        <a:lnTo>
                          <a:pt x="1873" y="1805"/>
                        </a:lnTo>
                        <a:lnTo>
                          <a:pt x="1873" y="1784"/>
                        </a:lnTo>
                        <a:lnTo>
                          <a:pt x="1874" y="1784"/>
                        </a:lnTo>
                        <a:lnTo>
                          <a:pt x="1882" y="1705"/>
                        </a:lnTo>
                        <a:lnTo>
                          <a:pt x="1897" y="1629"/>
                        </a:lnTo>
                        <a:lnTo>
                          <a:pt x="1917" y="1552"/>
                        </a:lnTo>
                        <a:lnTo>
                          <a:pt x="1941" y="1478"/>
                        </a:lnTo>
                        <a:lnTo>
                          <a:pt x="1968" y="1404"/>
                        </a:lnTo>
                        <a:lnTo>
                          <a:pt x="1999" y="1332"/>
                        </a:lnTo>
                        <a:lnTo>
                          <a:pt x="2032" y="1261"/>
                        </a:lnTo>
                        <a:lnTo>
                          <a:pt x="2068" y="1190"/>
                        </a:lnTo>
                        <a:lnTo>
                          <a:pt x="2070" y="1184"/>
                        </a:lnTo>
                        <a:lnTo>
                          <a:pt x="2073" y="1180"/>
                        </a:lnTo>
                        <a:lnTo>
                          <a:pt x="2066" y="1178"/>
                        </a:lnTo>
                        <a:lnTo>
                          <a:pt x="2059" y="1182"/>
                        </a:lnTo>
                        <a:lnTo>
                          <a:pt x="2047" y="1198"/>
                        </a:lnTo>
                        <a:lnTo>
                          <a:pt x="2038" y="1215"/>
                        </a:lnTo>
                        <a:lnTo>
                          <a:pt x="2029" y="1233"/>
                        </a:lnTo>
                        <a:lnTo>
                          <a:pt x="2022" y="1251"/>
                        </a:lnTo>
                        <a:lnTo>
                          <a:pt x="2012" y="1268"/>
                        </a:lnTo>
                        <a:lnTo>
                          <a:pt x="2002" y="1285"/>
                        </a:lnTo>
                        <a:lnTo>
                          <a:pt x="1992" y="1301"/>
                        </a:lnTo>
                        <a:lnTo>
                          <a:pt x="1979" y="1318"/>
                        </a:lnTo>
                        <a:lnTo>
                          <a:pt x="1937" y="1340"/>
                        </a:lnTo>
                        <a:lnTo>
                          <a:pt x="1894" y="1357"/>
                        </a:lnTo>
                        <a:lnTo>
                          <a:pt x="1849" y="1371"/>
                        </a:lnTo>
                        <a:lnTo>
                          <a:pt x="1805" y="1384"/>
                        </a:lnTo>
                        <a:lnTo>
                          <a:pt x="1758" y="1394"/>
                        </a:lnTo>
                        <a:lnTo>
                          <a:pt x="1712" y="1403"/>
                        </a:lnTo>
                        <a:lnTo>
                          <a:pt x="1666" y="1413"/>
                        </a:lnTo>
                        <a:lnTo>
                          <a:pt x="1621" y="1424"/>
                        </a:lnTo>
                        <a:lnTo>
                          <a:pt x="1574" y="1431"/>
                        </a:lnTo>
                        <a:lnTo>
                          <a:pt x="1529" y="1439"/>
                        </a:lnTo>
                        <a:lnTo>
                          <a:pt x="1482" y="1442"/>
                        </a:lnTo>
                        <a:lnTo>
                          <a:pt x="1437" y="1444"/>
                        </a:lnTo>
                        <a:lnTo>
                          <a:pt x="1390" y="1441"/>
                        </a:lnTo>
                        <a:lnTo>
                          <a:pt x="1345" y="1435"/>
                        </a:lnTo>
                        <a:lnTo>
                          <a:pt x="1301" y="1424"/>
                        </a:lnTo>
                        <a:lnTo>
                          <a:pt x="1260" y="1408"/>
                        </a:lnTo>
                        <a:lnTo>
                          <a:pt x="1256" y="1402"/>
                        </a:lnTo>
                        <a:lnTo>
                          <a:pt x="1252" y="1402"/>
                        </a:lnTo>
                        <a:lnTo>
                          <a:pt x="1246" y="1402"/>
                        </a:lnTo>
                        <a:lnTo>
                          <a:pt x="1242" y="1401"/>
                        </a:lnTo>
                        <a:lnTo>
                          <a:pt x="1230" y="1395"/>
                        </a:lnTo>
                        <a:lnTo>
                          <a:pt x="1218" y="1388"/>
                        </a:lnTo>
                        <a:lnTo>
                          <a:pt x="1207" y="1382"/>
                        </a:lnTo>
                        <a:lnTo>
                          <a:pt x="1195" y="1376"/>
                        </a:lnTo>
                        <a:lnTo>
                          <a:pt x="1183" y="1371"/>
                        </a:lnTo>
                        <a:lnTo>
                          <a:pt x="1171" y="1367"/>
                        </a:lnTo>
                        <a:lnTo>
                          <a:pt x="1159" y="1362"/>
                        </a:lnTo>
                        <a:lnTo>
                          <a:pt x="1149" y="1360"/>
                        </a:lnTo>
                        <a:lnTo>
                          <a:pt x="1134" y="1354"/>
                        </a:lnTo>
                        <a:lnTo>
                          <a:pt x="1120" y="1349"/>
                        </a:lnTo>
                        <a:lnTo>
                          <a:pt x="1105" y="1344"/>
                        </a:lnTo>
                        <a:lnTo>
                          <a:pt x="1091" y="1341"/>
                        </a:lnTo>
                        <a:lnTo>
                          <a:pt x="1076" y="1337"/>
                        </a:lnTo>
                        <a:lnTo>
                          <a:pt x="1062" y="1332"/>
                        </a:lnTo>
                        <a:lnTo>
                          <a:pt x="1047" y="1328"/>
                        </a:lnTo>
                        <a:lnTo>
                          <a:pt x="1034" y="1325"/>
                        </a:lnTo>
                        <a:lnTo>
                          <a:pt x="1018" y="1316"/>
                        </a:lnTo>
                        <a:lnTo>
                          <a:pt x="1002" y="1309"/>
                        </a:lnTo>
                        <a:lnTo>
                          <a:pt x="986" y="1302"/>
                        </a:lnTo>
                        <a:lnTo>
                          <a:pt x="970" y="1297"/>
                        </a:lnTo>
                        <a:lnTo>
                          <a:pt x="953" y="1291"/>
                        </a:lnTo>
                        <a:lnTo>
                          <a:pt x="937" y="1284"/>
                        </a:lnTo>
                        <a:lnTo>
                          <a:pt x="922" y="1276"/>
                        </a:lnTo>
                        <a:lnTo>
                          <a:pt x="908" y="1267"/>
                        </a:lnTo>
                        <a:lnTo>
                          <a:pt x="929" y="1230"/>
                        </a:lnTo>
                        <a:lnTo>
                          <a:pt x="944" y="1193"/>
                        </a:lnTo>
                        <a:lnTo>
                          <a:pt x="953" y="1153"/>
                        </a:lnTo>
                        <a:lnTo>
                          <a:pt x="959" y="1113"/>
                        </a:lnTo>
                        <a:lnTo>
                          <a:pt x="959" y="1072"/>
                        </a:lnTo>
                        <a:lnTo>
                          <a:pt x="957" y="1031"/>
                        </a:lnTo>
                        <a:lnTo>
                          <a:pt x="952" y="989"/>
                        </a:lnTo>
                        <a:lnTo>
                          <a:pt x="948" y="947"/>
                        </a:lnTo>
                        <a:lnTo>
                          <a:pt x="944" y="924"/>
                        </a:lnTo>
                        <a:lnTo>
                          <a:pt x="941" y="901"/>
                        </a:lnTo>
                        <a:lnTo>
                          <a:pt x="937" y="878"/>
                        </a:lnTo>
                        <a:lnTo>
                          <a:pt x="935" y="856"/>
                        </a:lnTo>
                        <a:lnTo>
                          <a:pt x="931" y="833"/>
                        </a:lnTo>
                        <a:lnTo>
                          <a:pt x="927" y="811"/>
                        </a:lnTo>
                        <a:lnTo>
                          <a:pt x="920" y="788"/>
                        </a:lnTo>
                        <a:lnTo>
                          <a:pt x="912" y="768"/>
                        </a:lnTo>
                        <a:lnTo>
                          <a:pt x="905" y="755"/>
                        </a:lnTo>
                        <a:lnTo>
                          <a:pt x="900" y="744"/>
                        </a:lnTo>
                        <a:lnTo>
                          <a:pt x="894" y="734"/>
                        </a:lnTo>
                        <a:lnTo>
                          <a:pt x="889" y="723"/>
                        </a:lnTo>
                        <a:lnTo>
                          <a:pt x="883" y="712"/>
                        </a:lnTo>
                        <a:lnTo>
                          <a:pt x="876" y="702"/>
                        </a:lnTo>
                        <a:lnTo>
                          <a:pt x="869" y="692"/>
                        </a:lnTo>
                        <a:lnTo>
                          <a:pt x="862" y="682"/>
                        </a:lnTo>
                        <a:lnTo>
                          <a:pt x="863" y="690"/>
                        </a:lnTo>
                        <a:lnTo>
                          <a:pt x="868" y="697"/>
                        </a:lnTo>
                        <a:lnTo>
                          <a:pt x="884" y="729"/>
                        </a:lnTo>
                        <a:lnTo>
                          <a:pt x="897" y="765"/>
                        </a:lnTo>
                        <a:lnTo>
                          <a:pt x="906" y="800"/>
                        </a:lnTo>
                        <a:lnTo>
                          <a:pt x="914" y="839"/>
                        </a:lnTo>
                        <a:lnTo>
                          <a:pt x="919" y="876"/>
                        </a:lnTo>
                        <a:lnTo>
                          <a:pt x="925" y="914"/>
                        </a:lnTo>
                        <a:lnTo>
                          <a:pt x="931" y="951"/>
                        </a:lnTo>
                        <a:lnTo>
                          <a:pt x="938" y="988"/>
                        </a:lnTo>
                        <a:lnTo>
                          <a:pt x="938" y="1004"/>
                        </a:lnTo>
                        <a:lnTo>
                          <a:pt x="940" y="1022"/>
                        </a:lnTo>
                        <a:lnTo>
                          <a:pt x="940" y="1041"/>
                        </a:lnTo>
                        <a:lnTo>
                          <a:pt x="941" y="1059"/>
                        </a:lnTo>
                        <a:lnTo>
                          <a:pt x="938" y="1076"/>
                        </a:lnTo>
                        <a:lnTo>
                          <a:pt x="936" y="1094"/>
                        </a:lnTo>
                        <a:lnTo>
                          <a:pt x="933" y="1112"/>
                        </a:lnTo>
                        <a:lnTo>
                          <a:pt x="930" y="1131"/>
                        </a:lnTo>
                        <a:lnTo>
                          <a:pt x="926" y="1144"/>
                        </a:lnTo>
                        <a:lnTo>
                          <a:pt x="922" y="1156"/>
                        </a:lnTo>
                        <a:lnTo>
                          <a:pt x="918" y="1169"/>
                        </a:lnTo>
                        <a:lnTo>
                          <a:pt x="915" y="1183"/>
                        </a:lnTo>
                        <a:lnTo>
                          <a:pt x="909" y="1196"/>
                        </a:lnTo>
                        <a:lnTo>
                          <a:pt x="904" y="1209"/>
                        </a:lnTo>
                        <a:lnTo>
                          <a:pt x="899" y="1222"/>
                        </a:lnTo>
                        <a:lnTo>
                          <a:pt x="893" y="1235"/>
                        </a:lnTo>
                        <a:lnTo>
                          <a:pt x="887" y="1244"/>
                        </a:lnTo>
                        <a:lnTo>
                          <a:pt x="881" y="1254"/>
                        </a:lnTo>
                        <a:lnTo>
                          <a:pt x="874" y="1265"/>
                        </a:lnTo>
                        <a:lnTo>
                          <a:pt x="868" y="1276"/>
                        </a:lnTo>
                        <a:lnTo>
                          <a:pt x="860" y="1284"/>
                        </a:lnTo>
                        <a:lnTo>
                          <a:pt x="853" y="1294"/>
                        </a:lnTo>
                        <a:lnTo>
                          <a:pt x="844" y="1303"/>
                        </a:lnTo>
                        <a:lnTo>
                          <a:pt x="835" y="1313"/>
                        </a:lnTo>
                        <a:lnTo>
                          <a:pt x="818" y="1335"/>
                        </a:lnTo>
                        <a:lnTo>
                          <a:pt x="800" y="1357"/>
                        </a:lnTo>
                        <a:lnTo>
                          <a:pt x="780" y="1379"/>
                        </a:lnTo>
                        <a:lnTo>
                          <a:pt x="759" y="1400"/>
                        </a:lnTo>
                        <a:lnTo>
                          <a:pt x="737" y="1419"/>
                        </a:lnTo>
                        <a:lnTo>
                          <a:pt x="714" y="1439"/>
                        </a:lnTo>
                        <a:lnTo>
                          <a:pt x="692" y="1457"/>
                        </a:lnTo>
                        <a:lnTo>
                          <a:pt x="670" y="1475"/>
                        </a:lnTo>
                        <a:lnTo>
                          <a:pt x="663" y="1482"/>
                        </a:lnTo>
                        <a:lnTo>
                          <a:pt x="656" y="1488"/>
                        </a:lnTo>
                        <a:lnTo>
                          <a:pt x="649" y="1493"/>
                        </a:lnTo>
                        <a:lnTo>
                          <a:pt x="642" y="1500"/>
                        </a:lnTo>
                        <a:lnTo>
                          <a:pt x="634" y="1505"/>
                        </a:lnTo>
                        <a:lnTo>
                          <a:pt x="627" y="1511"/>
                        </a:lnTo>
                        <a:lnTo>
                          <a:pt x="619" y="1517"/>
                        </a:lnTo>
                        <a:lnTo>
                          <a:pt x="612" y="1523"/>
                        </a:lnTo>
                        <a:lnTo>
                          <a:pt x="595" y="1531"/>
                        </a:lnTo>
                        <a:lnTo>
                          <a:pt x="579" y="1542"/>
                        </a:lnTo>
                        <a:lnTo>
                          <a:pt x="564" y="1555"/>
                        </a:lnTo>
                        <a:lnTo>
                          <a:pt x="549" y="1567"/>
                        </a:lnTo>
                        <a:lnTo>
                          <a:pt x="533" y="1580"/>
                        </a:lnTo>
                        <a:lnTo>
                          <a:pt x="518" y="1593"/>
                        </a:lnTo>
                        <a:lnTo>
                          <a:pt x="501" y="1604"/>
                        </a:lnTo>
                        <a:lnTo>
                          <a:pt x="485" y="1614"/>
                        </a:lnTo>
                        <a:lnTo>
                          <a:pt x="476" y="1619"/>
                        </a:lnTo>
                        <a:lnTo>
                          <a:pt x="468" y="1624"/>
                        </a:lnTo>
                        <a:lnTo>
                          <a:pt x="459" y="1631"/>
                        </a:lnTo>
                        <a:lnTo>
                          <a:pt x="454" y="1639"/>
                        </a:lnTo>
                        <a:lnTo>
                          <a:pt x="445" y="1641"/>
                        </a:lnTo>
                        <a:lnTo>
                          <a:pt x="437" y="1648"/>
                        </a:lnTo>
                        <a:lnTo>
                          <a:pt x="428" y="1653"/>
                        </a:lnTo>
                        <a:lnTo>
                          <a:pt x="419" y="1660"/>
                        </a:lnTo>
                        <a:lnTo>
                          <a:pt x="412" y="1662"/>
                        </a:lnTo>
                        <a:lnTo>
                          <a:pt x="405" y="1664"/>
                        </a:lnTo>
                        <a:lnTo>
                          <a:pt x="398" y="1665"/>
                        </a:lnTo>
                        <a:lnTo>
                          <a:pt x="391" y="1667"/>
                        </a:lnTo>
                        <a:lnTo>
                          <a:pt x="384" y="1668"/>
                        </a:lnTo>
                        <a:lnTo>
                          <a:pt x="378" y="1673"/>
                        </a:lnTo>
                        <a:lnTo>
                          <a:pt x="372" y="1677"/>
                        </a:lnTo>
                        <a:lnTo>
                          <a:pt x="370" y="1684"/>
                        </a:lnTo>
                        <a:lnTo>
                          <a:pt x="374" y="1689"/>
                        </a:lnTo>
                        <a:lnTo>
                          <a:pt x="384" y="1683"/>
                        </a:lnTo>
                        <a:lnTo>
                          <a:pt x="394" y="1679"/>
                        </a:lnTo>
                        <a:lnTo>
                          <a:pt x="399" y="1676"/>
                        </a:lnTo>
                        <a:lnTo>
                          <a:pt x="404" y="1675"/>
                        </a:lnTo>
                        <a:lnTo>
                          <a:pt x="411" y="1675"/>
                        </a:lnTo>
                        <a:lnTo>
                          <a:pt x="417" y="1675"/>
                        </a:lnTo>
                        <a:lnTo>
                          <a:pt x="418" y="1677"/>
                        </a:lnTo>
                        <a:lnTo>
                          <a:pt x="419" y="1680"/>
                        </a:lnTo>
                        <a:lnTo>
                          <a:pt x="430" y="1676"/>
                        </a:lnTo>
                        <a:lnTo>
                          <a:pt x="442" y="1674"/>
                        </a:lnTo>
                        <a:lnTo>
                          <a:pt x="455" y="1674"/>
                        </a:lnTo>
                        <a:lnTo>
                          <a:pt x="468" y="1674"/>
                        </a:lnTo>
                        <a:lnTo>
                          <a:pt x="479" y="1673"/>
                        </a:lnTo>
                        <a:lnTo>
                          <a:pt x="492" y="1673"/>
                        </a:lnTo>
                        <a:lnTo>
                          <a:pt x="505" y="1670"/>
                        </a:lnTo>
                        <a:lnTo>
                          <a:pt x="518" y="1667"/>
                        </a:lnTo>
                        <a:lnTo>
                          <a:pt x="547" y="1676"/>
                        </a:lnTo>
                        <a:lnTo>
                          <a:pt x="577" y="1687"/>
                        </a:lnTo>
                        <a:lnTo>
                          <a:pt x="606" y="1698"/>
                        </a:lnTo>
                        <a:lnTo>
                          <a:pt x="635" y="1713"/>
                        </a:lnTo>
                        <a:lnTo>
                          <a:pt x="661" y="1731"/>
                        </a:lnTo>
                        <a:lnTo>
                          <a:pt x="686" y="1751"/>
                        </a:lnTo>
                        <a:lnTo>
                          <a:pt x="709" y="1773"/>
                        </a:lnTo>
                        <a:lnTo>
                          <a:pt x="730" y="1802"/>
                        </a:lnTo>
                        <a:lnTo>
                          <a:pt x="737" y="1813"/>
                        </a:lnTo>
                        <a:lnTo>
                          <a:pt x="741" y="1826"/>
                        </a:lnTo>
                        <a:lnTo>
                          <a:pt x="744" y="1839"/>
                        </a:lnTo>
                        <a:lnTo>
                          <a:pt x="746" y="1853"/>
                        </a:lnTo>
                        <a:lnTo>
                          <a:pt x="745" y="1867"/>
                        </a:lnTo>
                        <a:lnTo>
                          <a:pt x="743" y="1881"/>
                        </a:lnTo>
                        <a:lnTo>
                          <a:pt x="740" y="1895"/>
                        </a:lnTo>
                        <a:lnTo>
                          <a:pt x="738" y="1909"/>
                        </a:lnTo>
                        <a:lnTo>
                          <a:pt x="730" y="1921"/>
                        </a:lnTo>
                        <a:lnTo>
                          <a:pt x="722" y="1932"/>
                        </a:lnTo>
                        <a:lnTo>
                          <a:pt x="711" y="1941"/>
                        </a:lnTo>
                        <a:lnTo>
                          <a:pt x="700" y="1949"/>
                        </a:lnTo>
                        <a:lnTo>
                          <a:pt x="687" y="1955"/>
                        </a:lnTo>
                        <a:lnTo>
                          <a:pt x="675" y="1960"/>
                        </a:lnTo>
                        <a:lnTo>
                          <a:pt x="661" y="1963"/>
                        </a:lnTo>
                        <a:lnTo>
                          <a:pt x="648" y="1967"/>
                        </a:lnTo>
                        <a:lnTo>
                          <a:pt x="630" y="1967"/>
                        </a:lnTo>
                        <a:lnTo>
                          <a:pt x="633" y="1955"/>
                        </a:lnTo>
                        <a:lnTo>
                          <a:pt x="637" y="1944"/>
                        </a:lnTo>
                        <a:lnTo>
                          <a:pt x="638" y="1932"/>
                        </a:lnTo>
                        <a:lnTo>
                          <a:pt x="639" y="1922"/>
                        </a:lnTo>
                        <a:lnTo>
                          <a:pt x="638" y="1910"/>
                        </a:lnTo>
                        <a:lnTo>
                          <a:pt x="637" y="1898"/>
                        </a:lnTo>
                        <a:lnTo>
                          <a:pt x="634" y="1886"/>
                        </a:lnTo>
                        <a:lnTo>
                          <a:pt x="632" y="1874"/>
                        </a:lnTo>
                        <a:lnTo>
                          <a:pt x="625" y="1861"/>
                        </a:lnTo>
                        <a:lnTo>
                          <a:pt x="620" y="1850"/>
                        </a:lnTo>
                        <a:lnTo>
                          <a:pt x="612" y="1837"/>
                        </a:lnTo>
                        <a:lnTo>
                          <a:pt x="606" y="1825"/>
                        </a:lnTo>
                        <a:lnTo>
                          <a:pt x="596" y="1812"/>
                        </a:lnTo>
                        <a:lnTo>
                          <a:pt x="588" y="1800"/>
                        </a:lnTo>
                        <a:lnTo>
                          <a:pt x="578" y="1790"/>
                        </a:lnTo>
                        <a:lnTo>
                          <a:pt x="568" y="1780"/>
                        </a:lnTo>
                        <a:lnTo>
                          <a:pt x="562" y="1775"/>
                        </a:lnTo>
                        <a:lnTo>
                          <a:pt x="557" y="1773"/>
                        </a:lnTo>
                        <a:lnTo>
                          <a:pt x="553" y="1780"/>
                        </a:lnTo>
                        <a:lnTo>
                          <a:pt x="557" y="1787"/>
                        </a:lnTo>
                        <a:lnTo>
                          <a:pt x="573" y="1805"/>
                        </a:lnTo>
                        <a:lnTo>
                          <a:pt x="589" y="1824"/>
                        </a:lnTo>
                        <a:lnTo>
                          <a:pt x="602" y="1844"/>
                        </a:lnTo>
                        <a:lnTo>
                          <a:pt x="612" y="1867"/>
                        </a:lnTo>
                        <a:lnTo>
                          <a:pt x="619" y="1888"/>
                        </a:lnTo>
                        <a:lnTo>
                          <a:pt x="622" y="1911"/>
                        </a:lnTo>
                        <a:lnTo>
                          <a:pt x="621" y="1934"/>
                        </a:lnTo>
                        <a:lnTo>
                          <a:pt x="617" y="1959"/>
                        </a:lnTo>
                        <a:lnTo>
                          <a:pt x="605" y="1963"/>
                        </a:lnTo>
                        <a:lnTo>
                          <a:pt x="593" y="1968"/>
                        </a:lnTo>
                        <a:lnTo>
                          <a:pt x="581" y="1972"/>
                        </a:lnTo>
                        <a:lnTo>
                          <a:pt x="571" y="1976"/>
                        </a:lnTo>
                        <a:lnTo>
                          <a:pt x="558" y="1978"/>
                        </a:lnTo>
                        <a:lnTo>
                          <a:pt x="546" y="1982"/>
                        </a:lnTo>
                        <a:lnTo>
                          <a:pt x="534" y="1984"/>
                        </a:lnTo>
                        <a:lnTo>
                          <a:pt x="522" y="1987"/>
                        </a:lnTo>
                        <a:lnTo>
                          <a:pt x="515" y="1983"/>
                        </a:lnTo>
                        <a:lnTo>
                          <a:pt x="508" y="1982"/>
                        </a:lnTo>
                        <a:lnTo>
                          <a:pt x="501" y="1982"/>
                        </a:lnTo>
                        <a:lnTo>
                          <a:pt x="494" y="1983"/>
                        </a:lnTo>
                        <a:lnTo>
                          <a:pt x="487" y="1983"/>
                        </a:lnTo>
                        <a:lnTo>
                          <a:pt x="481" y="1983"/>
                        </a:lnTo>
                        <a:lnTo>
                          <a:pt x="474" y="1982"/>
                        </a:lnTo>
                        <a:lnTo>
                          <a:pt x="468" y="1982"/>
                        </a:lnTo>
                        <a:lnTo>
                          <a:pt x="461" y="1983"/>
                        </a:lnTo>
                        <a:lnTo>
                          <a:pt x="468" y="1969"/>
                        </a:lnTo>
                        <a:lnTo>
                          <a:pt x="473" y="1955"/>
                        </a:lnTo>
                        <a:lnTo>
                          <a:pt x="474" y="1939"/>
                        </a:lnTo>
                        <a:lnTo>
                          <a:pt x="475" y="1924"/>
                        </a:lnTo>
                        <a:lnTo>
                          <a:pt x="473" y="1907"/>
                        </a:lnTo>
                        <a:lnTo>
                          <a:pt x="470" y="1890"/>
                        </a:lnTo>
                        <a:lnTo>
                          <a:pt x="465" y="1874"/>
                        </a:lnTo>
                        <a:lnTo>
                          <a:pt x="462" y="1861"/>
                        </a:lnTo>
                        <a:lnTo>
                          <a:pt x="455" y="1854"/>
                        </a:lnTo>
                        <a:lnTo>
                          <a:pt x="450" y="1848"/>
                        </a:lnTo>
                        <a:lnTo>
                          <a:pt x="445" y="1841"/>
                        </a:lnTo>
                        <a:lnTo>
                          <a:pt x="442" y="1835"/>
                        </a:lnTo>
                        <a:lnTo>
                          <a:pt x="437" y="1827"/>
                        </a:lnTo>
                        <a:lnTo>
                          <a:pt x="432" y="1822"/>
                        </a:lnTo>
                        <a:lnTo>
                          <a:pt x="425" y="1817"/>
                        </a:lnTo>
                        <a:lnTo>
                          <a:pt x="418" y="1815"/>
                        </a:lnTo>
                        <a:lnTo>
                          <a:pt x="414" y="1822"/>
                        </a:lnTo>
                        <a:lnTo>
                          <a:pt x="425" y="1835"/>
                        </a:lnTo>
                        <a:lnTo>
                          <a:pt x="435" y="1851"/>
                        </a:lnTo>
                        <a:lnTo>
                          <a:pt x="444" y="1866"/>
                        </a:lnTo>
                        <a:lnTo>
                          <a:pt x="452" y="1883"/>
                        </a:lnTo>
                        <a:lnTo>
                          <a:pt x="457" y="1899"/>
                        </a:lnTo>
                        <a:lnTo>
                          <a:pt x="460" y="1917"/>
                        </a:lnTo>
                        <a:lnTo>
                          <a:pt x="461" y="1936"/>
                        </a:lnTo>
                        <a:lnTo>
                          <a:pt x="461" y="1955"/>
                        </a:lnTo>
                        <a:lnTo>
                          <a:pt x="456" y="1962"/>
                        </a:lnTo>
                        <a:lnTo>
                          <a:pt x="450" y="1971"/>
                        </a:lnTo>
                        <a:lnTo>
                          <a:pt x="444" y="1978"/>
                        </a:lnTo>
                        <a:lnTo>
                          <a:pt x="438" y="1986"/>
                        </a:lnTo>
                        <a:lnTo>
                          <a:pt x="429" y="1991"/>
                        </a:lnTo>
                        <a:lnTo>
                          <a:pt x="422" y="1996"/>
                        </a:lnTo>
                        <a:lnTo>
                          <a:pt x="413" y="1999"/>
                        </a:lnTo>
                        <a:lnTo>
                          <a:pt x="404" y="2003"/>
                        </a:lnTo>
                        <a:lnTo>
                          <a:pt x="379" y="2006"/>
                        </a:lnTo>
                        <a:lnTo>
                          <a:pt x="353" y="2009"/>
                        </a:lnTo>
                        <a:lnTo>
                          <a:pt x="328" y="2007"/>
                        </a:lnTo>
                        <a:lnTo>
                          <a:pt x="305" y="2005"/>
                        </a:lnTo>
                        <a:lnTo>
                          <a:pt x="279" y="2001"/>
                        </a:lnTo>
                        <a:lnTo>
                          <a:pt x="255" y="1996"/>
                        </a:lnTo>
                        <a:lnTo>
                          <a:pt x="230" y="1990"/>
                        </a:lnTo>
                        <a:lnTo>
                          <a:pt x="206" y="1987"/>
                        </a:lnTo>
                        <a:lnTo>
                          <a:pt x="189" y="1983"/>
                        </a:lnTo>
                        <a:lnTo>
                          <a:pt x="174" y="1977"/>
                        </a:lnTo>
                        <a:lnTo>
                          <a:pt x="160" y="1969"/>
                        </a:lnTo>
                        <a:lnTo>
                          <a:pt x="146" y="1961"/>
                        </a:lnTo>
                        <a:lnTo>
                          <a:pt x="131" y="1953"/>
                        </a:lnTo>
                        <a:lnTo>
                          <a:pt x="117" y="1946"/>
                        </a:lnTo>
                        <a:lnTo>
                          <a:pt x="101" y="1941"/>
                        </a:lnTo>
                        <a:lnTo>
                          <a:pt x="86" y="1940"/>
                        </a:lnTo>
                        <a:lnTo>
                          <a:pt x="75" y="1928"/>
                        </a:lnTo>
                        <a:lnTo>
                          <a:pt x="64" y="1918"/>
                        </a:lnTo>
                        <a:lnTo>
                          <a:pt x="54" y="1908"/>
                        </a:lnTo>
                        <a:lnTo>
                          <a:pt x="44" y="1897"/>
                        </a:lnTo>
                        <a:lnTo>
                          <a:pt x="33" y="1885"/>
                        </a:lnTo>
                        <a:lnTo>
                          <a:pt x="26" y="1873"/>
                        </a:lnTo>
                        <a:lnTo>
                          <a:pt x="18" y="1860"/>
                        </a:lnTo>
                        <a:lnTo>
                          <a:pt x="14" y="1848"/>
                        </a:lnTo>
                        <a:lnTo>
                          <a:pt x="8" y="1837"/>
                        </a:lnTo>
                        <a:lnTo>
                          <a:pt x="4" y="1826"/>
                        </a:lnTo>
                        <a:lnTo>
                          <a:pt x="1" y="1814"/>
                        </a:lnTo>
                        <a:lnTo>
                          <a:pt x="1" y="1804"/>
                        </a:lnTo>
                        <a:lnTo>
                          <a:pt x="0" y="1792"/>
                        </a:lnTo>
                        <a:lnTo>
                          <a:pt x="2" y="1780"/>
                        </a:lnTo>
                        <a:lnTo>
                          <a:pt x="3" y="1769"/>
                        </a:lnTo>
                        <a:lnTo>
                          <a:pt x="6" y="1760"/>
                        </a:lnTo>
                        <a:lnTo>
                          <a:pt x="9" y="1738"/>
                        </a:lnTo>
                        <a:lnTo>
                          <a:pt x="13" y="1718"/>
                        </a:lnTo>
                        <a:lnTo>
                          <a:pt x="19" y="1697"/>
                        </a:lnTo>
                        <a:lnTo>
                          <a:pt x="26" y="1677"/>
                        </a:lnTo>
                        <a:lnTo>
                          <a:pt x="32" y="1657"/>
                        </a:lnTo>
                        <a:lnTo>
                          <a:pt x="40" y="1636"/>
                        </a:lnTo>
                        <a:lnTo>
                          <a:pt x="46" y="1617"/>
                        </a:lnTo>
                        <a:lnTo>
                          <a:pt x="53" y="15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46"/>
                  <p:cNvSpPr/>
                  <p:nvPr/>
                </p:nvSpPr>
                <p:spPr>
                  <a:xfrm>
                    <a:off x="3971880" y="1378080"/>
                    <a:ext cx="41400" cy="745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132" h="234">
                        <a:moveTo>
                          <a:pt x="80" y="18"/>
                        </a:moveTo>
                        <a:lnTo>
                          <a:pt x="84" y="12"/>
                        </a:lnTo>
                        <a:lnTo>
                          <a:pt x="90" y="8"/>
                        </a:lnTo>
                        <a:lnTo>
                          <a:pt x="95" y="5"/>
                        </a:lnTo>
                        <a:lnTo>
                          <a:pt x="103" y="3"/>
                        </a:lnTo>
                        <a:lnTo>
                          <a:pt x="109" y="1"/>
                        </a:lnTo>
                        <a:lnTo>
                          <a:pt x="117" y="1"/>
                        </a:lnTo>
                        <a:lnTo>
                          <a:pt x="123" y="0"/>
                        </a:lnTo>
                        <a:lnTo>
                          <a:pt x="132" y="0"/>
                        </a:lnTo>
                        <a:lnTo>
                          <a:pt x="117" y="27"/>
                        </a:lnTo>
                        <a:lnTo>
                          <a:pt x="105" y="56"/>
                        </a:lnTo>
                        <a:lnTo>
                          <a:pt x="93" y="85"/>
                        </a:lnTo>
                        <a:lnTo>
                          <a:pt x="85" y="115"/>
                        </a:lnTo>
                        <a:lnTo>
                          <a:pt x="75" y="144"/>
                        </a:lnTo>
                        <a:lnTo>
                          <a:pt x="68" y="174"/>
                        </a:lnTo>
                        <a:lnTo>
                          <a:pt x="60" y="204"/>
                        </a:lnTo>
                        <a:lnTo>
                          <a:pt x="54" y="234"/>
                        </a:lnTo>
                        <a:lnTo>
                          <a:pt x="41" y="230"/>
                        </a:lnTo>
                        <a:lnTo>
                          <a:pt x="31" y="223"/>
                        </a:lnTo>
                        <a:lnTo>
                          <a:pt x="23" y="215"/>
                        </a:lnTo>
                        <a:lnTo>
                          <a:pt x="17" y="205"/>
                        </a:lnTo>
                        <a:lnTo>
                          <a:pt x="11" y="193"/>
                        </a:lnTo>
                        <a:lnTo>
                          <a:pt x="8" y="183"/>
                        </a:lnTo>
                        <a:lnTo>
                          <a:pt x="4" y="170"/>
                        </a:lnTo>
                        <a:lnTo>
                          <a:pt x="1" y="160"/>
                        </a:lnTo>
                        <a:lnTo>
                          <a:pt x="0" y="145"/>
                        </a:lnTo>
                        <a:lnTo>
                          <a:pt x="1" y="131"/>
                        </a:lnTo>
                        <a:lnTo>
                          <a:pt x="2" y="117"/>
                        </a:lnTo>
                        <a:lnTo>
                          <a:pt x="6" y="104"/>
                        </a:lnTo>
                        <a:lnTo>
                          <a:pt x="10" y="91"/>
                        </a:lnTo>
                        <a:lnTo>
                          <a:pt x="15" y="79"/>
                        </a:lnTo>
                        <a:lnTo>
                          <a:pt x="20" y="67"/>
                        </a:lnTo>
                        <a:lnTo>
                          <a:pt x="29" y="56"/>
                        </a:lnTo>
                        <a:lnTo>
                          <a:pt x="33" y="50"/>
                        </a:lnTo>
                        <a:lnTo>
                          <a:pt x="39" y="44"/>
                        </a:lnTo>
                        <a:lnTo>
                          <a:pt x="45" y="39"/>
                        </a:lnTo>
                        <a:lnTo>
                          <a:pt x="53" y="35"/>
                        </a:lnTo>
                        <a:lnTo>
                          <a:pt x="59" y="30"/>
                        </a:lnTo>
                        <a:lnTo>
                          <a:pt x="65" y="26"/>
                        </a:lnTo>
                        <a:lnTo>
                          <a:pt x="73" y="22"/>
                        </a:lnTo>
                        <a:lnTo>
                          <a:pt x="8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47"/>
                  <p:cNvSpPr/>
                  <p:nvPr/>
                </p:nvSpPr>
                <p:spPr>
                  <a:xfrm>
                    <a:off x="4086360" y="1289160"/>
                    <a:ext cx="166680" cy="128520"/>
                  </a:xfrm>
                  <a:custGeom>
                    <a:avLst/>
                    <a:gdLst>
                      <a:gd name="textAreaLeft" fmla="*/ 0 w 166680"/>
                      <a:gd name="textAreaRight" fmla="*/ 167040 w 166680"/>
                      <a:gd name="textAreaTop" fmla="*/ 0 h 128520"/>
                      <a:gd name="textAreaBottom" fmla="*/ 128880 h 128520"/>
                    </a:gdLst>
                    <a:ahLst/>
                    <a:rect l="textAreaLeft" t="textAreaTop" r="textAreaRight" b="textAreaBottom"/>
                    <a:pathLst>
                      <a:path w="528" h="405">
                        <a:moveTo>
                          <a:pt x="200" y="74"/>
                        </a:moveTo>
                        <a:lnTo>
                          <a:pt x="236" y="32"/>
                        </a:lnTo>
                        <a:lnTo>
                          <a:pt x="246" y="28"/>
                        </a:lnTo>
                        <a:lnTo>
                          <a:pt x="259" y="26"/>
                        </a:lnTo>
                        <a:lnTo>
                          <a:pt x="272" y="25"/>
                        </a:lnTo>
                        <a:lnTo>
                          <a:pt x="285" y="26"/>
                        </a:lnTo>
                        <a:lnTo>
                          <a:pt x="296" y="27"/>
                        </a:lnTo>
                        <a:lnTo>
                          <a:pt x="308" y="31"/>
                        </a:lnTo>
                        <a:lnTo>
                          <a:pt x="319" y="37"/>
                        </a:lnTo>
                        <a:lnTo>
                          <a:pt x="330" y="45"/>
                        </a:lnTo>
                        <a:lnTo>
                          <a:pt x="335" y="45"/>
                        </a:lnTo>
                        <a:lnTo>
                          <a:pt x="326" y="49"/>
                        </a:lnTo>
                        <a:lnTo>
                          <a:pt x="321" y="56"/>
                        </a:lnTo>
                        <a:lnTo>
                          <a:pt x="318" y="65"/>
                        </a:lnTo>
                        <a:lnTo>
                          <a:pt x="321" y="74"/>
                        </a:lnTo>
                        <a:lnTo>
                          <a:pt x="324" y="76"/>
                        </a:lnTo>
                        <a:lnTo>
                          <a:pt x="330" y="74"/>
                        </a:lnTo>
                        <a:lnTo>
                          <a:pt x="335" y="63"/>
                        </a:lnTo>
                        <a:lnTo>
                          <a:pt x="344" y="56"/>
                        </a:lnTo>
                        <a:lnTo>
                          <a:pt x="352" y="49"/>
                        </a:lnTo>
                        <a:lnTo>
                          <a:pt x="362" y="45"/>
                        </a:lnTo>
                        <a:lnTo>
                          <a:pt x="361" y="40"/>
                        </a:lnTo>
                        <a:lnTo>
                          <a:pt x="370" y="31"/>
                        </a:lnTo>
                        <a:lnTo>
                          <a:pt x="381" y="25"/>
                        </a:lnTo>
                        <a:lnTo>
                          <a:pt x="391" y="17"/>
                        </a:lnTo>
                        <a:lnTo>
                          <a:pt x="403" y="11"/>
                        </a:lnTo>
                        <a:lnTo>
                          <a:pt x="413" y="4"/>
                        </a:lnTo>
                        <a:lnTo>
                          <a:pt x="425" y="2"/>
                        </a:lnTo>
                        <a:lnTo>
                          <a:pt x="437" y="0"/>
                        </a:lnTo>
                        <a:lnTo>
                          <a:pt x="451" y="1"/>
                        </a:lnTo>
                        <a:lnTo>
                          <a:pt x="453" y="11"/>
                        </a:lnTo>
                        <a:lnTo>
                          <a:pt x="452" y="22"/>
                        </a:lnTo>
                        <a:lnTo>
                          <a:pt x="450" y="27"/>
                        </a:lnTo>
                        <a:lnTo>
                          <a:pt x="449" y="32"/>
                        </a:lnTo>
                        <a:lnTo>
                          <a:pt x="448" y="39"/>
                        </a:lnTo>
                        <a:lnTo>
                          <a:pt x="449" y="45"/>
                        </a:lnTo>
                        <a:lnTo>
                          <a:pt x="448" y="61"/>
                        </a:lnTo>
                        <a:lnTo>
                          <a:pt x="454" y="77"/>
                        </a:lnTo>
                        <a:lnTo>
                          <a:pt x="463" y="90"/>
                        </a:lnTo>
                        <a:lnTo>
                          <a:pt x="475" y="104"/>
                        </a:lnTo>
                        <a:lnTo>
                          <a:pt x="488" y="116"/>
                        </a:lnTo>
                        <a:lnTo>
                          <a:pt x="502" y="129"/>
                        </a:lnTo>
                        <a:lnTo>
                          <a:pt x="515" y="143"/>
                        </a:lnTo>
                        <a:lnTo>
                          <a:pt x="528" y="158"/>
                        </a:lnTo>
                        <a:lnTo>
                          <a:pt x="527" y="165"/>
                        </a:lnTo>
                        <a:lnTo>
                          <a:pt x="525" y="173"/>
                        </a:lnTo>
                        <a:lnTo>
                          <a:pt x="521" y="179"/>
                        </a:lnTo>
                        <a:lnTo>
                          <a:pt x="517" y="187"/>
                        </a:lnTo>
                        <a:lnTo>
                          <a:pt x="512" y="193"/>
                        </a:lnTo>
                        <a:lnTo>
                          <a:pt x="507" y="200"/>
                        </a:lnTo>
                        <a:lnTo>
                          <a:pt x="501" y="206"/>
                        </a:lnTo>
                        <a:lnTo>
                          <a:pt x="497" y="214"/>
                        </a:lnTo>
                        <a:lnTo>
                          <a:pt x="481" y="220"/>
                        </a:lnTo>
                        <a:lnTo>
                          <a:pt x="465" y="229"/>
                        </a:lnTo>
                        <a:lnTo>
                          <a:pt x="448" y="236"/>
                        </a:lnTo>
                        <a:lnTo>
                          <a:pt x="431" y="243"/>
                        </a:lnTo>
                        <a:lnTo>
                          <a:pt x="413" y="246"/>
                        </a:lnTo>
                        <a:lnTo>
                          <a:pt x="396" y="247"/>
                        </a:lnTo>
                        <a:lnTo>
                          <a:pt x="379" y="244"/>
                        </a:lnTo>
                        <a:lnTo>
                          <a:pt x="362" y="238"/>
                        </a:lnTo>
                        <a:lnTo>
                          <a:pt x="349" y="248"/>
                        </a:lnTo>
                        <a:lnTo>
                          <a:pt x="337" y="254"/>
                        </a:lnTo>
                        <a:lnTo>
                          <a:pt x="322" y="259"/>
                        </a:lnTo>
                        <a:lnTo>
                          <a:pt x="308" y="262"/>
                        </a:lnTo>
                        <a:lnTo>
                          <a:pt x="292" y="263"/>
                        </a:lnTo>
                        <a:lnTo>
                          <a:pt x="277" y="264"/>
                        </a:lnTo>
                        <a:lnTo>
                          <a:pt x="262" y="265"/>
                        </a:lnTo>
                        <a:lnTo>
                          <a:pt x="249" y="266"/>
                        </a:lnTo>
                        <a:lnTo>
                          <a:pt x="226" y="286"/>
                        </a:lnTo>
                        <a:lnTo>
                          <a:pt x="204" y="307"/>
                        </a:lnTo>
                        <a:lnTo>
                          <a:pt x="182" y="329"/>
                        </a:lnTo>
                        <a:lnTo>
                          <a:pt x="159" y="349"/>
                        </a:lnTo>
                        <a:lnTo>
                          <a:pt x="135" y="366"/>
                        </a:lnTo>
                        <a:lnTo>
                          <a:pt x="111" y="382"/>
                        </a:lnTo>
                        <a:lnTo>
                          <a:pt x="84" y="395"/>
                        </a:lnTo>
                        <a:lnTo>
                          <a:pt x="56" y="405"/>
                        </a:lnTo>
                        <a:lnTo>
                          <a:pt x="49" y="403"/>
                        </a:lnTo>
                        <a:lnTo>
                          <a:pt x="43" y="400"/>
                        </a:lnTo>
                        <a:lnTo>
                          <a:pt x="38" y="395"/>
                        </a:lnTo>
                        <a:lnTo>
                          <a:pt x="35" y="391"/>
                        </a:lnTo>
                        <a:lnTo>
                          <a:pt x="30" y="385"/>
                        </a:lnTo>
                        <a:lnTo>
                          <a:pt x="27" y="380"/>
                        </a:lnTo>
                        <a:lnTo>
                          <a:pt x="23" y="374"/>
                        </a:lnTo>
                        <a:lnTo>
                          <a:pt x="20" y="370"/>
                        </a:lnTo>
                        <a:lnTo>
                          <a:pt x="11" y="354"/>
                        </a:lnTo>
                        <a:lnTo>
                          <a:pt x="6" y="338"/>
                        </a:lnTo>
                        <a:lnTo>
                          <a:pt x="1" y="321"/>
                        </a:lnTo>
                        <a:lnTo>
                          <a:pt x="0" y="304"/>
                        </a:lnTo>
                        <a:lnTo>
                          <a:pt x="0" y="286"/>
                        </a:lnTo>
                        <a:lnTo>
                          <a:pt x="5" y="268"/>
                        </a:lnTo>
                        <a:lnTo>
                          <a:pt x="11" y="252"/>
                        </a:lnTo>
                        <a:lnTo>
                          <a:pt x="22" y="238"/>
                        </a:lnTo>
                        <a:lnTo>
                          <a:pt x="39" y="216"/>
                        </a:lnTo>
                        <a:lnTo>
                          <a:pt x="60" y="197"/>
                        </a:lnTo>
                        <a:lnTo>
                          <a:pt x="82" y="177"/>
                        </a:lnTo>
                        <a:lnTo>
                          <a:pt x="105" y="161"/>
                        </a:lnTo>
                        <a:lnTo>
                          <a:pt x="128" y="143"/>
                        </a:lnTo>
                        <a:lnTo>
                          <a:pt x="151" y="126"/>
                        </a:lnTo>
                        <a:lnTo>
                          <a:pt x="172" y="107"/>
                        </a:lnTo>
                        <a:lnTo>
                          <a:pt x="192" y="88"/>
                        </a:lnTo>
                        <a:lnTo>
                          <a:pt x="200" y="74"/>
                        </a:lnTo>
                        <a:close/>
                      </a:path>
                    </a:pathLst>
                  </a:cu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48"/>
                  <p:cNvSpPr/>
                  <p:nvPr/>
                </p:nvSpPr>
                <p:spPr>
                  <a:xfrm>
                    <a:off x="4162320" y="1203480"/>
                    <a:ext cx="92160" cy="7308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294" h="229">
                        <a:moveTo>
                          <a:pt x="126" y="54"/>
                        </a:moveTo>
                        <a:lnTo>
                          <a:pt x="140" y="45"/>
                        </a:lnTo>
                        <a:lnTo>
                          <a:pt x="154" y="34"/>
                        </a:lnTo>
                        <a:lnTo>
                          <a:pt x="168" y="23"/>
                        </a:lnTo>
                        <a:lnTo>
                          <a:pt x="184" y="15"/>
                        </a:lnTo>
                        <a:lnTo>
                          <a:pt x="199" y="6"/>
                        </a:lnTo>
                        <a:lnTo>
                          <a:pt x="215" y="2"/>
                        </a:lnTo>
                        <a:lnTo>
                          <a:pt x="232" y="0"/>
                        </a:lnTo>
                        <a:lnTo>
                          <a:pt x="253" y="5"/>
                        </a:lnTo>
                        <a:lnTo>
                          <a:pt x="260" y="8"/>
                        </a:lnTo>
                        <a:lnTo>
                          <a:pt x="268" y="14"/>
                        </a:lnTo>
                        <a:lnTo>
                          <a:pt x="273" y="20"/>
                        </a:lnTo>
                        <a:lnTo>
                          <a:pt x="279" y="28"/>
                        </a:lnTo>
                        <a:lnTo>
                          <a:pt x="284" y="34"/>
                        </a:lnTo>
                        <a:lnTo>
                          <a:pt x="288" y="43"/>
                        </a:lnTo>
                        <a:lnTo>
                          <a:pt x="291" y="51"/>
                        </a:lnTo>
                        <a:lnTo>
                          <a:pt x="294" y="61"/>
                        </a:lnTo>
                        <a:lnTo>
                          <a:pt x="275" y="94"/>
                        </a:lnTo>
                        <a:lnTo>
                          <a:pt x="252" y="124"/>
                        </a:lnTo>
                        <a:lnTo>
                          <a:pt x="224" y="150"/>
                        </a:lnTo>
                        <a:lnTo>
                          <a:pt x="193" y="173"/>
                        </a:lnTo>
                        <a:lnTo>
                          <a:pt x="157" y="192"/>
                        </a:lnTo>
                        <a:lnTo>
                          <a:pt x="123" y="207"/>
                        </a:lnTo>
                        <a:lnTo>
                          <a:pt x="86" y="220"/>
                        </a:lnTo>
                        <a:lnTo>
                          <a:pt x="51" y="229"/>
                        </a:lnTo>
                        <a:lnTo>
                          <a:pt x="45" y="229"/>
                        </a:lnTo>
                        <a:lnTo>
                          <a:pt x="39" y="229"/>
                        </a:lnTo>
                        <a:lnTo>
                          <a:pt x="33" y="228"/>
                        </a:lnTo>
                        <a:lnTo>
                          <a:pt x="28" y="227"/>
                        </a:lnTo>
                        <a:lnTo>
                          <a:pt x="19" y="224"/>
                        </a:lnTo>
                        <a:lnTo>
                          <a:pt x="9" y="222"/>
                        </a:lnTo>
                        <a:lnTo>
                          <a:pt x="4" y="216"/>
                        </a:lnTo>
                        <a:lnTo>
                          <a:pt x="2" y="211"/>
                        </a:lnTo>
                        <a:lnTo>
                          <a:pt x="0" y="206"/>
                        </a:lnTo>
                        <a:lnTo>
                          <a:pt x="0" y="200"/>
                        </a:lnTo>
                        <a:lnTo>
                          <a:pt x="0" y="194"/>
                        </a:lnTo>
                        <a:lnTo>
                          <a:pt x="1" y="187"/>
                        </a:lnTo>
                        <a:lnTo>
                          <a:pt x="3" y="181"/>
                        </a:lnTo>
                        <a:lnTo>
                          <a:pt x="6" y="176"/>
                        </a:lnTo>
                        <a:lnTo>
                          <a:pt x="16" y="156"/>
                        </a:lnTo>
                        <a:lnTo>
                          <a:pt x="30" y="140"/>
                        </a:lnTo>
                        <a:lnTo>
                          <a:pt x="45" y="124"/>
                        </a:lnTo>
                        <a:lnTo>
                          <a:pt x="61" y="111"/>
                        </a:lnTo>
                        <a:lnTo>
                          <a:pt x="77" y="96"/>
                        </a:lnTo>
                        <a:lnTo>
                          <a:pt x="94" y="82"/>
                        </a:lnTo>
                        <a:lnTo>
                          <a:pt x="110" y="68"/>
                        </a:lnTo>
                        <a:lnTo>
                          <a:pt x="126" y="5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49"/>
                  <p:cNvSpPr/>
                  <p:nvPr/>
                </p:nvSpPr>
                <p:spPr>
                  <a:xfrm>
                    <a:off x="4187880" y="1225800"/>
                    <a:ext cx="77760" cy="5688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44" h="180">
                        <a:moveTo>
                          <a:pt x="39" y="166"/>
                        </a:moveTo>
                        <a:lnTo>
                          <a:pt x="66" y="152"/>
                        </a:lnTo>
                        <a:lnTo>
                          <a:pt x="95" y="137"/>
                        </a:lnTo>
                        <a:lnTo>
                          <a:pt x="121" y="119"/>
                        </a:lnTo>
                        <a:lnTo>
                          <a:pt x="149" y="101"/>
                        </a:lnTo>
                        <a:lnTo>
                          <a:pt x="173" y="79"/>
                        </a:lnTo>
                        <a:lnTo>
                          <a:pt x="195" y="56"/>
                        </a:lnTo>
                        <a:lnTo>
                          <a:pt x="213" y="29"/>
                        </a:lnTo>
                        <a:lnTo>
                          <a:pt x="226" y="0"/>
                        </a:lnTo>
                        <a:lnTo>
                          <a:pt x="231" y="5"/>
                        </a:lnTo>
                        <a:lnTo>
                          <a:pt x="236" y="11"/>
                        </a:lnTo>
                        <a:lnTo>
                          <a:pt x="239" y="17"/>
                        </a:lnTo>
                        <a:lnTo>
                          <a:pt x="244" y="25"/>
                        </a:lnTo>
                        <a:lnTo>
                          <a:pt x="241" y="38"/>
                        </a:lnTo>
                        <a:lnTo>
                          <a:pt x="240" y="52"/>
                        </a:lnTo>
                        <a:lnTo>
                          <a:pt x="239" y="65"/>
                        </a:lnTo>
                        <a:lnTo>
                          <a:pt x="239" y="79"/>
                        </a:lnTo>
                        <a:lnTo>
                          <a:pt x="237" y="92"/>
                        </a:lnTo>
                        <a:lnTo>
                          <a:pt x="235" y="104"/>
                        </a:lnTo>
                        <a:lnTo>
                          <a:pt x="232" y="117"/>
                        </a:lnTo>
                        <a:lnTo>
                          <a:pt x="230" y="131"/>
                        </a:lnTo>
                        <a:lnTo>
                          <a:pt x="218" y="127"/>
                        </a:lnTo>
                        <a:lnTo>
                          <a:pt x="207" y="123"/>
                        </a:lnTo>
                        <a:lnTo>
                          <a:pt x="195" y="117"/>
                        </a:lnTo>
                        <a:lnTo>
                          <a:pt x="184" y="114"/>
                        </a:lnTo>
                        <a:lnTo>
                          <a:pt x="172" y="112"/>
                        </a:lnTo>
                        <a:lnTo>
                          <a:pt x="161" y="113"/>
                        </a:lnTo>
                        <a:lnTo>
                          <a:pt x="151" y="117"/>
                        </a:lnTo>
                        <a:lnTo>
                          <a:pt x="143" y="129"/>
                        </a:lnTo>
                        <a:lnTo>
                          <a:pt x="126" y="139"/>
                        </a:lnTo>
                        <a:lnTo>
                          <a:pt x="110" y="148"/>
                        </a:lnTo>
                        <a:lnTo>
                          <a:pt x="91" y="157"/>
                        </a:lnTo>
                        <a:lnTo>
                          <a:pt x="74" y="164"/>
                        </a:lnTo>
                        <a:lnTo>
                          <a:pt x="56" y="170"/>
                        </a:lnTo>
                        <a:lnTo>
                          <a:pt x="38" y="175"/>
                        </a:lnTo>
                        <a:lnTo>
                          <a:pt x="18" y="177"/>
                        </a:lnTo>
                        <a:lnTo>
                          <a:pt x="0" y="180"/>
                        </a:lnTo>
                        <a:lnTo>
                          <a:pt x="8" y="172"/>
                        </a:lnTo>
                        <a:lnTo>
                          <a:pt x="18" y="170"/>
                        </a:lnTo>
                        <a:lnTo>
                          <a:pt x="29" y="168"/>
                        </a:lnTo>
                        <a:lnTo>
                          <a:pt x="39" y="166"/>
                        </a:lnTo>
                        <a:close/>
                      </a:path>
                    </a:pathLst>
                  </a:cu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50"/>
                  <p:cNvSpPr/>
                  <p:nvPr/>
                </p:nvSpPr>
                <p:spPr>
                  <a:xfrm>
                    <a:off x="4206960" y="1681200"/>
                    <a:ext cx="263520" cy="211320"/>
                  </a:xfrm>
                  <a:custGeom>
                    <a:avLst/>
                    <a:gdLst>
                      <a:gd name="textAreaLeft" fmla="*/ 0 w 263520"/>
                      <a:gd name="textAreaRight" fmla="*/ 263880 w 26352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831" h="663">
                        <a:moveTo>
                          <a:pt x="27" y="7"/>
                        </a:moveTo>
                        <a:lnTo>
                          <a:pt x="40" y="2"/>
                        </a:lnTo>
                        <a:lnTo>
                          <a:pt x="53" y="1"/>
                        </a:lnTo>
                        <a:lnTo>
                          <a:pt x="67" y="0"/>
                        </a:lnTo>
                        <a:lnTo>
                          <a:pt x="82" y="2"/>
                        </a:lnTo>
                        <a:lnTo>
                          <a:pt x="96" y="5"/>
                        </a:lnTo>
                        <a:lnTo>
                          <a:pt x="109" y="8"/>
                        </a:lnTo>
                        <a:lnTo>
                          <a:pt x="122" y="13"/>
                        </a:lnTo>
                        <a:lnTo>
                          <a:pt x="136" y="21"/>
                        </a:lnTo>
                        <a:lnTo>
                          <a:pt x="147" y="22"/>
                        </a:lnTo>
                        <a:lnTo>
                          <a:pt x="159" y="25"/>
                        </a:lnTo>
                        <a:lnTo>
                          <a:pt x="170" y="28"/>
                        </a:lnTo>
                        <a:lnTo>
                          <a:pt x="181" y="32"/>
                        </a:lnTo>
                        <a:lnTo>
                          <a:pt x="192" y="36"/>
                        </a:lnTo>
                        <a:lnTo>
                          <a:pt x="204" y="40"/>
                        </a:lnTo>
                        <a:lnTo>
                          <a:pt x="216" y="42"/>
                        </a:lnTo>
                        <a:lnTo>
                          <a:pt x="227" y="45"/>
                        </a:lnTo>
                        <a:lnTo>
                          <a:pt x="233" y="47"/>
                        </a:lnTo>
                        <a:lnTo>
                          <a:pt x="239" y="50"/>
                        </a:lnTo>
                        <a:lnTo>
                          <a:pt x="247" y="52"/>
                        </a:lnTo>
                        <a:lnTo>
                          <a:pt x="254" y="54"/>
                        </a:lnTo>
                        <a:lnTo>
                          <a:pt x="261" y="55"/>
                        </a:lnTo>
                        <a:lnTo>
                          <a:pt x="267" y="57"/>
                        </a:lnTo>
                        <a:lnTo>
                          <a:pt x="273" y="59"/>
                        </a:lnTo>
                        <a:lnTo>
                          <a:pt x="279" y="64"/>
                        </a:lnTo>
                        <a:lnTo>
                          <a:pt x="288" y="64"/>
                        </a:lnTo>
                        <a:lnTo>
                          <a:pt x="296" y="67"/>
                        </a:lnTo>
                        <a:lnTo>
                          <a:pt x="305" y="70"/>
                        </a:lnTo>
                        <a:lnTo>
                          <a:pt x="313" y="74"/>
                        </a:lnTo>
                        <a:lnTo>
                          <a:pt x="321" y="78"/>
                        </a:lnTo>
                        <a:lnTo>
                          <a:pt x="330" y="82"/>
                        </a:lnTo>
                        <a:lnTo>
                          <a:pt x="339" y="85"/>
                        </a:lnTo>
                        <a:lnTo>
                          <a:pt x="349" y="89"/>
                        </a:lnTo>
                        <a:lnTo>
                          <a:pt x="355" y="97"/>
                        </a:lnTo>
                        <a:lnTo>
                          <a:pt x="365" y="101"/>
                        </a:lnTo>
                        <a:lnTo>
                          <a:pt x="368" y="102"/>
                        </a:lnTo>
                        <a:lnTo>
                          <a:pt x="372" y="105"/>
                        </a:lnTo>
                        <a:lnTo>
                          <a:pt x="374" y="109"/>
                        </a:lnTo>
                        <a:lnTo>
                          <a:pt x="374" y="116"/>
                        </a:lnTo>
                        <a:lnTo>
                          <a:pt x="383" y="132"/>
                        </a:lnTo>
                        <a:lnTo>
                          <a:pt x="392" y="150"/>
                        </a:lnTo>
                        <a:lnTo>
                          <a:pt x="399" y="168"/>
                        </a:lnTo>
                        <a:lnTo>
                          <a:pt x="408" y="186"/>
                        </a:lnTo>
                        <a:lnTo>
                          <a:pt x="415" y="203"/>
                        </a:lnTo>
                        <a:lnTo>
                          <a:pt x="425" y="221"/>
                        </a:lnTo>
                        <a:lnTo>
                          <a:pt x="434" y="238"/>
                        </a:lnTo>
                        <a:lnTo>
                          <a:pt x="446" y="257"/>
                        </a:lnTo>
                        <a:lnTo>
                          <a:pt x="449" y="265"/>
                        </a:lnTo>
                        <a:lnTo>
                          <a:pt x="454" y="275"/>
                        </a:lnTo>
                        <a:lnTo>
                          <a:pt x="458" y="284"/>
                        </a:lnTo>
                        <a:lnTo>
                          <a:pt x="463" y="293"/>
                        </a:lnTo>
                        <a:lnTo>
                          <a:pt x="468" y="302"/>
                        </a:lnTo>
                        <a:lnTo>
                          <a:pt x="473" y="310"/>
                        </a:lnTo>
                        <a:lnTo>
                          <a:pt x="478" y="320"/>
                        </a:lnTo>
                        <a:lnTo>
                          <a:pt x="485" y="330"/>
                        </a:lnTo>
                        <a:lnTo>
                          <a:pt x="418" y="355"/>
                        </a:lnTo>
                        <a:lnTo>
                          <a:pt x="418" y="359"/>
                        </a:lnTo>
                        <a:lnTo>
                          <a:pt x="416" y="359"/>
                        </a:lnTo>
                        <a:lnTo>
                          <a:pt x="415" y="360"/>
                        </a:lnTo>
                        <a:lnTo>
                          <a:pt x="427" y="357"/>
                        </a:lnTo>
                        <a:lnTo>
                          <a:pt x="439" y="353"/>
                        </a:lnTo>
                        <a:lnTo>
                          <a:pt x="452" y="350"/>
                        </a:lnTo>
                        <a:lnTo>
                          <a:pt x="464" y="348"/>
                        </a:lnTo>
                        <a:lnTo>
                          <a:pt x="477" y="345"/>
                        </a:lnTo>
                        <a:lnTo>
                          <a:pt x="490" y="343"/>
                        </a:lnTo>
                        <a:lnTo>
                          <a:pt x="503" y="343"/>
                        </a:lnTo>
                        <a:lnTo>
                          <a:pt x="517" y="344"/>
                        </a:lnTo>
                        <a:lnTo>
                          <a:pt x="522" y="339"/>
                        </a:lnTo>
                        <a:lnTo>
                          <a:pt x="529" y="338"/>
                        </a:lnTo>
                        <a:lnTo>
                          <a:pt x="535" y="338"/>
                        </a:lnTo>
                        <a:lnTo>
                          <a:pt x="543" y="339"/>
                        </a:lnTo>
                        <a:lnTo>
                          <a:pt x="549" y="339"/>
                        </a:lnTo>
                        <a:lnTo>
                          <a:pt x="556" y="340"/>
                        </a:lnTo>
                        <a:lnTo>
                          <a:pt x="562" y="340"/>
                        </a:lnTo>
                        <a:lnTo>
                          <a:pt x="570" y="342"/>
                        </a:lnTo>
                        <a:lnTo>
                          <a:pt x="594" y="347"/>
                        </a:lnTo>
                        <a:lnTo>
                          <a:pt x="619" y="354"/>
                        </a:lnTo>
                        <a:lnTo>
                          <a:pt x="643" y="362"/>
                        </a:lnTo>
                        <a:lnTo>
                          <a:pt x="667" y="373"/>
                        </a:lnTo>
                        <a:lnTo>
                          <a:pt x="690" y="383"/>
                        </a:lnTo>
                        <a:lnTo>
                          <a:pt x="712" y="396"/>
                        </a:lnTo>
                        <a:lnTo>
                          <a:pt x="734" y="410"/>
                        </a:lnTo>
                        <a:lnTo>
                          <a:pt x="754" y="427"/>
                        </a:lnTo>
                        <a:lnTo>
                          <a:pt x="769" y="443"/>
                        </a:lnTo>
                        <a:lnTo>
                          <a:pt x="785" y="462"/>
                        </a:lnTo>
                        <a:lnTo>
                          <a:pt x="801" y="480"/>
                        </a:lnTo>
                        <a:lnTo>
                          <a:pt x="816" y="499"/>
                        </a:lnTo>
                        <a:lnTo>
                          <a:pt x="826" y="519"/>
                        </a:lnTo>
                        <a:lnTo>
                          <a:pt x="831" y="540"/>
                        </a:lnTo>
                        <a:lnTo>
                          <a:pt x="830" y="563"/>
                        </a:lnTo>
                        <a:lnTo>
                          <a:pt x="823" y="587"/>
                        </a:lnTo>
                        <a:lnTo>
                          <a:pt x="815" y="593"/>
                        </a:lnTo>
                        <a:lnTo>
                          <a:pt x="808" y="599"/>
                        </a:lnTo>
                        <a:lnTo>
                          <a:pt x="799" y="602"/>
                        </a:lnTo>
                        <a:lnTo>
                          <a:pt x="792" y="606"/>
                        </a:lnTo>
                        <a:lnTo>
                          <a:pt x="789" y="588"/>
                        </a:lnTo>
                        <a:lnTo>
                          <a:pt x="789" y="572"/>
                        </a:lnTo>
                        <a:lnTo>
                          <a:pt x="788" y="555"/>
                        </a:lnTo>
                        <a:lnTo>
                          <a:pt x="788" y="539"/>
                        </a:lnTo>
                        <a:lnTo>
                          <a:pt x="785" y="523"/>
                        </a:lnTo>
                        <a:lnTo>
                          <a:pt x="779" y="509"/>
                        </a:lnTo>
                        <a:lnTo>
                          <a:pt x="768" y="497"/>
                        </a:lnTo>
                        <a:lnTo>
                          <a:pt x="753" y="490"/>
                        </a:lnTo>
                        <a:lnTo>
                          <a:pt x="744" y="480"/>
                        </a:lnTo>
                        <a:lnTo>
                          <a:pt x="736" y="474"/>
                        </a:lnTo>
                        <a:lnTo>
                          <a:pt x="725" y="469"/>
                        </a:lnTo>
                        <a:lnTo>
                          <a:pt x="715" y="468"/>
                        </a:lnTo>
                        <a:lnTo>
                          <a:pt x="719" y="478"/>
                        </a:lnTo>
                        <a:lnTo>
                          <a:pt x="727" y="487"/>
                        </a:lnTo>
                        <a:lnTo>
                          <a:pt x="732" y="491"/>
                        </a:lnTo>
                        <a:lnTo>
                          <a:pt x="737" y="495"/>
                        </a:lnTo>
                        <a:lnTo>
                          <a:pt x="742" y="498"/>
                        </a:lnTo>
                        <a:lnTo>
                          <a:pt x="747" y="504"/>
                        </a:lnTo>
                        <a:lnTo>
                          <a:pt x="750" y="508"/>
                        </a:lnTo>
                        <a:lnTo>
                          <a:pt x="750" y="513"/>
                        </a:lnTo>
                        <a:lnTo>
                          <a:pt x="751" y="519"/>
                        </a:lnTo>
                        <a:lnTo>
                          <a:pt x="757" y="522"/>
                        </a:lnTo>
                        <a:lnTo>
                          <a:pt x="760" y="531"/>
                        </a:lnTo>
                        <a:lnTo>
                          <a:pt x="765" y="543"/>
                        </a:lnTo>
                        <a:lnTo>
                          <a:pt x="766" y="554"/>
                        </a:lnTo>
                        <a:lnTo>
                          <a:pt x="767" y="566"/>
                        </a:lnTo>
                        <a:lnTo>
                          <a:pt x="766" y="577"/>
                        </a:lnTo>
                        <a:lnTo>
                          <a:pt x="766" y="588"/>
                        </a:lnTo>
                        <a:lnTo>
                          <a:pt x="765" y="600"/>
                        </a:lnTo>
                        <a:lnTo>
                          <a:pt x="765" y="612"/>
                        </a:lnTo>
                        <a:lnTo>
                          <a:pt x="758" y="621"/>
                        </a:lnTo>
                        <a:lnTo>
                          <a:pt x="750" y="631"/>
                        </a:lnTo>
                        <a:lnTo>
                          <a:pt x="740" y="640"/>
                        </a:lnTo>
                        <a:lnTo>
                          <a:pt x="729" y="647"/>
                        </a:lnTo>
                        <a:lnTo>
                          <a:pt x="710" y="653"/>
                        </a:lnTo>
                        <a:lnTo>
                          <a:pt x="691" y="656"/>
                        </a:lnTo>
                        <a:lnTo>
                          <a:pt x="670" y="657"/>
                        </a:lnTo>
                        <a:lnTo>
                          <a:pt x="650" y="657"/>
                        </a:lnTo>
                        <a:lnTo>
                          <a:pt x="629" y="654"/>
                        </a:lnTo>
                        <a:lnTo>
                          <a:pt x="608" y="651"/>
                        </a:lnTo>
                        <a:lnTo>
                          <a:pt x="588" y="647"/>
                        </a:lnTo>
                        <a:lnTo>
                          <a:pt x="569" y="644"/>
                        </a:lnTo>
                        <a:lnTo>
                          <a:pt x="578" y="629"/>
                        </a:lnTo>
                        <a:lnTo>
                          <a:pt x="584" y="614"/>
                        </a:lnTo>
                        <a:lnTo>
                          <a:pt x="585" y="598"/>
                        </a:lnTo>
                        <a:lnTo>
                          <a:pt x="584" y="582"/>
                        </a:lnTo>
                        <a:lnTo>
                          <a:pt x="578" y="564"/>
                        </a:lnTo>
                        <a:lnTo>
                          <a:pt x="574" y="548"/>
                        </a:lnTo>
                        <a:lnTo>
                          <a:pt x="569" y="530"/>
                        </a:lnTo>
                        <a:lnTo>
                          <a:pt x="564" y="515"/>
                        </a:lnTo>
                        <a:lnTo>
                          <a:pt x="557" y="505"/>
                        </a:lnTo>
                        <a:lnTo>
                          <a:pt x="549" y="498"/>
                        </a:lnTo>
                        <a:lnTo>
                          <a:pt x="540" y="492"/>
                        </a:lnTo>
                        <a:lnTo>
                          <a:pt x="531" y="489"/>
                        </a:lnTo>
                        <a:lnTo>
                          <a:pt x="520" y="484"/>
                        </a:lnTo>
                        <a:lnTo>
                          <a:pt x="511" y="482"/>
                        </a:lnTo>
                        <a:lnTo>
                          <a:pt x="501" y="479"/>
                        </a:lnTo>
                        <a:lnTo>
                          <a:pt x="491" y="477"/>
                        </a:lnTo>
                        <a:lnTo>
                          <a:pt x="488" y="480"/>
                        </a:lnTo>
                        <a:lnTo>
                          <a:pt x="495" y="486"/>
                        </a:lnTo>
                        <a:lnTo>
                          <a:pt x="504" y="493"/>
                        </a:lnTo>
                        <a:lnTo>
                          <a:pt x="514" y="498"/>
                        </a:lnTo>
                        <a:lnTo>
                          <a:pt x="523" y="504"/>
                        </a:lnTo>
                        <a:lnTo>
                          <a:pt x="521" y="507"/>
                        </a:lnTo>
                        <a:lnTo>
                          <a:pt x="527" y="512"/>
                        </a:lnTo>
                        <a:lnTo>
                          <a:pt x="535" y="511"/>
                        </a:lnTo>
                        <a:lnTo>
                          <a:pt x="543" y="518"/>
                        </a:lnTo>
                        <a:lnTo>
                          <a:pt x="548" y="525"/>
                        </a:lnTo>
                        <a:lnTo>
                          <a:pt x="555" y="534"/>
                        </a:lnTo>
                        <a:lnTo>
                          <a:pt x="559" y="545"/>
                        </a:lnTo>
                        <a:lnTo>
                          <a:pt x="561" y="558"/>
                        </a:lnTo>
                        <a:lnTo>
                          <a:pt x="561" y="572"/>
                        </a:lnTo>
                        <a:lnTo>
                          <a:pt x="560" y="586"/>
                        </a:lnTo>
                        <a:lnTo>
                          <a:pt x="557" y="599"/>
                        </a:lnTo>
                        <a:lnTo>
                          <a:pt x="555" y="612"/>
                        </a:lnTo>
                        <a:lnTo>
                          <a:pt x="551" y="624"/>
                        </a:lnTo>
                        <a:lnTo>
                          <a:pt x="550" y="637"/>
                        </a:lnTo>
                        <a:lnTo>
                          <a:pt x="544" y="640"/>
                        </a:lnTo>
                        <a:lnTo>
                          <a:pt x="537" y="644"/>
                        </a:lnTo>
                        <a:lnTo>
                          <a:pt x="531" y="647"/>
                        </a:lnTo>
                        <a:lnTo>
                          <a:pt x="525" y="652"/>
                        </a:lnTo>
                        <a:lnTo>
                          <a:pt x="517" y="654"/>
                        </a:lnTo>
                        <a:lnTo>
                          <a:pt x="510" y="656"/>
                        </a:lnTo>
                        <a:lnTo>
                          <a:pt x="502" y="656"/>
                        </a:lnTo>
                        <a:lnTo>
                          <a:pt x="496" y="657"/>
                        </a:lnTo>
                        <a:lnTo>
                          <a:pt x="474" y="659"/>
                        </a:lnTo>
                        <a:lnTo>
                          <a:pt x="453" y="661"/>
                        </a:lnTo>
                        <a:lnTo>
                          <a:pt x="430" y="662"/>
                        </a:lnTo>
                        <a:lnTo>
                          <a:pt x="409" y="663"/>
                        </a:lnTo>
                        <a:lnTo>
                          <a:pt x="386" y="662"/>
                        </a:lnTo>
                        <a:lnTo>
                          <a:pt x="365" y="662"/>
                        </a:lnTo>
                        <a:lnTo>
                          <a:pt x="342" y="661"/>
                        </a:lnTo>
                        <a:lnTo>
                          <a:pt x="321" y="660"/>
                        </a:lnTo>
                        <a:lnTo>
                          <a:pt x="298" y="651"/>
                        </a:lnTo>
                        <a:lnTo>
                          <a:pt x="283" y="639"/>
                        </a:lnTo>
                        <a:lnTo>
                          <a:pt x="269" y="627"/>
                        </a:lnTo>
                        <a:lnTo>
                          <a:pt x="256" y="614"/>
                        </a:lnTo>
                        <a:lnTo>
                          <a:pt x="245" y="602"/>
                        </a:lnTo>
                        <a:lnTo>
                          <a:pt x="232" y="588"/>
                        </a:lnTo>
                        <a:lnTo>
                          <a:pt x="221" y="574"/>
                        </a:lnTo>
                        <a:lnTo>
                          <a:pt x="211" y="559"/>
                        </a:lnTo>
                        <a:lnTo>
                          <a:pt x="203" y="545"/>
                        </a:lnTo>
                        <a:lnTo>
                          <a:pt x="186" y="529"/>
                        </a:lnTo>
                        <a:lnTo>
                          <a:pt x="173" y="513"/>
                        </a:lnTo>
                        <a:lnTo>
                          <a:pt x="161" y="496"/>
                        </a:lnTo>
                        <a:lnTo>
                          <a:pt x="151" y="479"/>
                        </a:lnTo>
                        <a:lnTo>
                          <a:pt x="142" y="461"/>
                        </a:lnTo>
                        <a:lnTo>
                          <a:pt x="133" y="442"/>
                        </a:lnTo>
                        <a:lnTo>
                          <a:pt x="125" y="424"/>
                        </a:lnTo>
                        <a:lnTo>
                          <a:pt x="118" y="406"/>
                        </a:lnTo>
                        <a:lnTo>
                          <a:pt x="108" y="369"/>
                        </a:lnTo>
                        <a:lnTo>
                          <a:pt x="97" y="334"/>
                        </a:lnTo>
                        <a:lnTo>
                          <a:pt x="84" y="300"/>
                        </a:lnTo>
                        <a:lnTo>
                          <a:pt x="72" y="265"/>
                        </a:lnTo>
                        <a:lnTo>
                          <a:pt x="59" y="229"/>
                        </a:lnTo>
                        <a:lnTo>
                          <a:pt x="47" y="193"/>
                        </a:lnTo>
                        <a:lnTo>
                          <a:pt x="37" y="157"/>
                        </a:lnTo>
                        <a:lnTo>
                          <a:pt x="29" y="122"/>
                        </a:lnTo>
                        <a:lnTo>
                          <a:pt x="24" y="110"/>
                        </a:lnTo>
                        <a:lnTo>
                          <a:pt x="19" y="99"/>
                        </a:lnTo>
                        <a:lnTo>
                          <a:pt x="16" y="87"/>
                        </a:lnTo>
                        <a:lnTo>
                          <a:pt x="14" y="76"/>
                        </a:lnTo>
                        <a:lnTo>
                          <a:pt x="11" y="64"/>
                        </a:lnTo>
                        <a:lnTo>
                          <a:pt x="9" y="53"/>
                        </a:lnTo>
                        <a:lnTo>
                          <a:pt x="4" y="41"/>
                        </a:lnTo>
                        <a:lnTo>
                          <a:pt x="0" y="31"/>
                        </a:lnTo>
                        <a:lnTo>
                          <a:pt x="3" y="23"/>
                        </a:lnTo>
                        <a:lnTo>
                          <a:pt x="10" y="16"/>
                        </a:lnTo>
                        <a:lnTo>
                          <a:pt x="18" y="10"/>
                        </a:lnTo>
                        <a:lnTo>
                          <a:pt x="27" y="7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51"/>
                  <p:cNvSpPr/>
                  <p:nvPr/>
                </p:nvSpPr>
                <p:spPr>
                  <a:xfrm>
                    <a:off x="4232160" y="1192320"/>
                    <a:ext cx="101880" cy="147600"/>
                  </a:xfrm>
                  <a:custGeom>
                    <a:avLst/>
                    <a:gdLst>
                      <a:gd name="textAreaLeft" fmla="*/ 0 w 101880"/>
                      <a:gd name="textAreaRight" fmla="*/ 102240 w 10188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319" h="464">
                        <a:moveTo>
                          <a:pt x="9" y="321"/>
                        </a:moveTo>
                        <a:lnTo>
                          <a:pt x="7" y="320"/>
                        </a:lnTo>
                        <a:lnTo>
                          <a:pt x="16" y="313"/>
                        </a:lnTo>
                        <a:lnTo>
                          <a:pt x="25" y="307"/>
                        </a:lnTo>
                        <a:lnTo>
                          <a:pt x="35" y="302"/>
                        </a:lnTo>
                        <a:lnTo>
                          <a:pt x="46" y="299"/>
                        </a:lnTo>
                        <a:lnTo>
                          <a:pt x="56" y="294"/>
                        </a:lnTo>
                        <a:lnTo>
                          <a:pt x="67" y="291"/>
                        </a:lnTo>
                        <a:lnTo>
                          <a:pt x="78" y="288"/>
                        </a:lnTo>
                        <a:lnTo>
                          <a:pt x="89" y="285"/>
                        </a:lnTo>
                        <a:lnTo>
                          <a:pt x="92" y="277"/>
                        </a:lnTo>
                        <a:lnTo>
                          <a:pt x="95" y="271"/>
                        </a:lnTo>
                        <a:lnTo>
                          <a:pt x="97" y="264"/>
                        </a:lnTo>
                        <a:lnTo>
                          <a:pt x="100" y="258"/>
                        </a:lnTo>
                        <a:lnTo>
                          <a:pt x="101" y="250"/>
                        </a:lnTo>
                        <a:lnTo>
                          <a:pt x="105" y="244"/>
                        </a:lnTo>
                        <a:lnTo>
                          <a:pt x="107" y="238"/>
                        </a:lnTo>
                        <a:lnTo>
                          <a:pt x="111" y="231"/>
                        </a:lnTo>
                        <a:lnTo>
                          <a:pt x="109" y="226"/>
                        </a:lnTo>
                        <a:lnTo>
                          <a:pt x="109" y="220"/>
                        </a:lnTo>
                        <a:lnTo>
                          <a:pt x="109" y="214"/>
                        </a:lnTo>
                        <a:lnTo>
                          <a:pt x="111" y="209"/>
                        </a:lnTo>
                        <a:lnTo>
                          <a:pt x="111" y="202"/>
                        </a:lnTo>
                        <a:lnTo>
                          <a:pt x="113" y="197"/>
                        </a:lnTo>
                        <a:lnTo>
                          <a:pt x="114" y="190"/>
                        </a:lnTo>
                        <a:lnTo>
                          <a:pt x="115" y="186"/>
                        </a:lnTo>
                        <a:lnTo>
                          <a:pt x="113" y="174"/>
                        </a:lnTo>
                        <a:lnTo>
                          <a:pt x="114" y="165"/>
                        </a:lnTo>
                        <a:lnTo>
                          <a:pt x="115" y="155"/>
                        </a:lnTo>
                        <a:lnTo>
                          <a:pt x="119" y="146"/>
                        </a:lnTo>
                        <a:lnTo>
                          <a:pt x="122" y="138"/>
                        </a:lnTo>
                        <a:lnTo>
                          <a:pt x="125" y="129"/>
                        </a:lnTo>
                        <a:lnTo>
                          <a:pt x="128" y="119"/>
                        </a:lnTo>
                        <a:lnTo>
                          <a:pt x="132" y="111"/>
                        </a:lnTo>
                        <a:lnTo>
                          <a:pt x="144" y="88"/>
                        </a:lnTo>
                        <a:lnTo>
                          <a:pt x="162" y="67"/>
                        </a:lnTo>
                        <a:lnTo>
                          <a:pt x="181" y="48"/>
                        </a:lnTo>
                        <a:lnTo>
                          <a:pt x="202" y="30"/>
                        </a:lnTo>
                        <a:lnTo>
                          <a:pt x="224" y="15"/>
                        </a:lnTo>
                        <a:lnTo>
                          <a:pt x="249" y="6"/>
                        </a:lnTo>
                        <a:lnTo>
                          <a:pt x="274" y="0"/>
                        </a:lnTo>
                        <a:lnTo>
                          <a:pt x="303" y="1"/>
                        </a:lnTo>
                        <a:lnTo>
                          <a:pt x="319" y="8"/>
                        </a:lnTo>
                        <a:lnTo>
                          <a:pt x="312" y="19"/>
                        </a:lnTo>
                        <a:lnTo>
                          <a:pt x="304" y="29"/>
                        </a:lnTo>
                        <a:lnTo>
                          <a:pt x="301" y="34"/>
                        </a:lnTo>
                        <a:lnTo>
                          <a:pt x="300" y="39"/>
                        </a:lnTo>
                        <a:lnTo>
                          <a:pt x="300" y="45"/>
                        </a:lnTo>
                        <a:lnTo>
                          <a:pt x="303" y="53"/>
                        </a:lnTo>
                        <a:lnTo>
                          <a:pt x="297" y="67"/>
                        </a:lnTo>
                        <a:lnTo>
                          <a:pt x="290" y="81"/>
                        </a:lnTo>
                        <a:lnTo>
                          <a:pt x="283" y="95"/>
                        </a:lnTo>
                        <a:lnTo>
                          <a:pt x="276" y="109"/>
                        </a:lnTo>
                        <a:lnTo>
                          <a:pt x="269" y="123"/>
                        </a:lnTo>
                        <a:lnTo>
                          <a:pt x="261" y="138"/>
                        </a:lnTo>
                        <a:lnTo>
                          <a:pt x="255" y="152"/>
                        </a:lnTo>
                        <a:lnTo>
                          <a:pt x="251" y="168"/>
                        </a:lnTo>
                        <a:lnTo>
                          <a:pt x="252" y="173"/>
                        </a:lnTo>
                        <a:lnTo>
                          <a:pt x="252" y="178"/>
                        </a:lnTo>
                        <a:lnTo>
                          <a:pt x="251" y="185"/>
                        </a:lnTo>
                        <a:lnTo>
                          <a:pt x="251" y="191"/>
                        </a:lnTo>
                        <a:lnTo>
                          <a:pt x="248" y="197"/>
                        </a:lnTo>
                        <a:lnTo>
                          <a:pt x="246" y="203"/>
                        </a:lnTo>
                        <a:lnTo>
                          <a:pt x="245" y="210"/>
                        </a:lnTo>
                        <a:lnTo>
                          <a:pt x="245" y="216"/>
                        </a:lnTo>
                        <a:lnTo>
                          <a:pt x="245" y="229"/>
                        </a:lnTo>
                        <a:lnTo>
                          <a:pt x="246" y="242"/>
                        </a:lnTo>
                        <a:lnTo>
                          <a:pt x="245" y="255"/>
                        </a:lnTo>
                        <a:lnTo>
                          <a:pt x="245" y="269"/>
                        </a:lnTo>
                        <a:lnTo>
                          <a:pt x="244" y="282"/>
                        </a:lnTo>
                        <a:lnTo>
                          <a:pt x="244" y="294"/>
                        </a:lnTo>
                        <a:lnTo>
                          <a:pt x="244" y="307"/>
                        </a:lnTo>
                        <a:lnTo>
                          <a:pt x="246" y="321"/>
                        </a:lnTo>
                        <a:lnTo>
                          <a:pt x="247" y="324"/>
                        </a:lnTo>
                        <a:lnTo>
                          <a:pt x="248" y="331"/>
                        </a:lnTo>
                        <a:lnTo>
                          <a:pt x="248" y="337"/>
                        </a:lnTo>
                        <a:lnTo>
                          <a:pt x="249" y="344"/>
                        </a:lnTo>
                        <a:lnTo>
                          <a:pt x="248" y="349"/>
                        </a:lnTo>
                        <a:lnTo>
                          <a:pt x="248" y="356"/>
                        </a:lnTo>
                        <a:lnTo>
                          <a:pt x="249" y="362"/>
                        </a:lnTo>
                        <a:lnTo>
                          <a:pt x="253" y="368"/>
                        </a:lnTo>
                        <a:lnTo>
                          <a:pt x="233" y="383"/>
                        </a:lnTo>
                        <a:lnTo>
                          <a:pt x="214" y="400"/>
                        </a:lnTo>
                        <a:lnTo>
                          <a:pt x="194" y="415"/>
                        </a:lnTo>
                        <a:lnTo>
                          <a:pt x="174" y="429"/>
                        </a:lnTo>
                        <a:lnTo>
                          <a:pt x="152" y="440"/>
                        </a:lnTo>
                        <a:lnTo>
                          <a:pt x="130" y="450"/>
                        </a:lnTo>
                        <a:lnTo>
                          <a:pt x="107" y="458"/>
                        </a:lnTo>
                        <a:lnTo>
                          <a:pt x="83" y="464"/>
                        </a:lnTo>
                        <a:lnTo>
                          <a:pt x="75" y="452"/>
                        </a:lnTo>
                        <a:lnTo>
                          <a:pt x="66" y="441"/>
                        </a:lnTo>
                        <a:lnTo>
                          <a:pt x="56" y="431"/>
                        </a:lnTo>
                        <a:lnTo>
                          <a:pt x="47" y="421"/>
                        </a:lnTo>
                        <a:lnTo>
                          <a:pt x="36" y="410"/>
                        </a:lnTo>
                        <a:lnTo>
                          <a:pt x="25" y="400"/>
                        </a:lnTo>
                        <a:lnTo>
                          <a:pt x="16" y="389"/>
                        </a:lnTo>
                        <a:lnTo>
                          <a:pt x="7" y="379"/>
                        </a:lnTo>
                        <a:lnTo>
                          <a:pt x="5" y="372"/>
                        </a:lnTo>
                        <a:lnTo>
                          <a:pt x="3" y="364"/>
                        </a:lnTo>
                        <a:lnTo>
                          <a:pt x="1" y="356"/>
                        </a:lnTo>
                        <a:lnTo>
                          <a:pt x="1" y="348"/>
                        </a:lnTo>
                        <a:lnTo>
                          <a:pt x="0" y="339"/>
                        </a:lnTo>
                        <a:lnTo>
                          <a:pt x="2" y="333"/>
                        </a:lnTo>
                        <a:lnTo>
                          <a:pt x="4" y="327"/>
                        </a:lnTo>
                        <a:lnTo>
                          <a:pt x="9" y="321"/>
                        </a:lnTo>
                        <a:close/>
                      </a:path>
                    </a:pathLst>
                  </a:cu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52"/>
                  <p:cNvSpPr/>
                  <p:nvPr/>
                </p:nvSpPr>
                <p:spPr>
                  <a:xfrm>
                    <a:off x="4314960" y="1181160"/>
                    <a:ext cx="77760" cy="14292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246" h="452">
                        <a:moveTo>
                          <a:pt x="6" y="272"/>
                        </a:moveTo>
                        <a:lnTo>
                          <a:pt x="2" y="260"/>
                        </a:lnTo>
                        <a:lnTo>
                          <a:pt x="2" y="247"/>
                        </a:lnTo>
                        <a:lnTo>
                          <a:pt x="3" y="234"/>
                        </a:lnTo>
                        <a:lnTo>
                          <a:pt x="7" y="221"/>
                        </a:lnTo>
                        <a:lnTo>
                          <a:pt x="10" y="207"/>
                        </a:lnTo>
                        <a:lnTo>
                          <a:pt x="14" y="194"/>
                        </a:lnTo>
                        <a:lnTo>
                          <a:pt x="17" y="181"/>
                        </a:lnTo>
                        <a:lnTo>
                          <a:pt x="22" y="169"/>
                        </a:lnTo>
                        <a:lnTo>
                          <a:pt x="32" y="149"/>
                        </a:lnTo>
                        <a:lnTo>
                          <a:pt x="43" y="129"/>
                        </a:lnTo>
                        <a:lnTo>
                          <a:pt x="52" y="107"/>
                        </a:lnTo>
                        <a:lnTo>
                          <a:pt x="61" y="86"/>
                        </a:lnTo>
                        <a:lnTo>
                          <a:pt x="71" y="64"/>
                        </a:lnTo>
                        <a:lnTo>
                          <a:pt x="82" y="45"/>
                        </a:lnTo>
                        <a:lnTo>
                          <a:pt x="95" y="26"/>
                        </a:lnTo>
                        <a:lnTo>
                          <a:pt x="112" y="10"/>
                        </a:lnTo>
                        <a:lnTo>
                          <a:pt x="118" y="6"/>
                        </a:lnTo>
                        <a:lnTo>
                          <a:pt x="126" y="4"/>
                        </a:lnTo>
                        <a:lnTo>
                          <a:pt x="133" y="2"/>
                        </a:lnTo>
                        <a:lnTo>
                          <a:pt x="142" y="1"/>
                        </a:lnTo>
                        <a:lnTo>
                          <a:pt x="149" y="0"/>
                        </a:lnTo>
                        <a:lnTo>
                          <a:pt x="158" y="0"/>
                        </a:lnTo>
                        <a:lnTo>
                          <a:pt x="166" y="0"/>
                        </a:lnTo>
                        <a:lnTo>
                          <a:pt x="175" y="1"/>
                        </a:lnTo>
                        <a:lnTo>
                          <a:pt x="182" y="0"/>
                        </a:lnTo>
                        <a:lnTo>
                          <a:pt x="189" y="2"/>
                        </a:lnTo>
                        <a:lnTo>
                          <a:pt x="195" y="4"/>
                        </a:lnTo>
                        <a:lnTo>
                          <a:pt x="204" y="5"/>
                        </a:lnTo>
                        <a:lnTo>
                          <a:pt x="210" y="8"/>
                        </a:lnTo>
                        <a:lnTo>
                          <a:pt x="215" y="14"/>
                        </a:lnTo>
                        <a:lnTo>
                          <a:pt x="217" y="19"/>
                        </a:lnTo>
                        <a:lnTo>
                          <a:pt x="223" y="26"/>
                        </a:lnTo>
                        <a:lnTo>
                          <a:pt x="246" y="27"/>
                        </a:lnTo>
                        <a:lnTo>
                          <a:pt x="237" y="35"/>
                        </a:lnTo>
                        <a:lnTo>
                          <a:pt x="229" y="44"/>
                        </a:lnTo>
                        <a:lnTo>
                          <a:pt x="219" y="54"/>
                        </a:lnTo>
                        <a:lnTo>
                          <a:pt x="210" y="63"/>
                        </a:lnTo>
                        <a:lnTo>
                          <a:pt x="201" y="73"/>
                        </a:lnTo>
                        <a:lnTo>
                          <a:pt x="194" y="84"/>
                        </a:lnTo>
                        <a:lnTo>
                          <a:pt x="190" y="95"/>
                        </a:lnTo>
                        <a:lnTo>
                          <a:pt x="189" y="108"/>
                        </a:lnTo>
                        <a:lnTo>
                          <a:pt x="185" y="115"/>
                        </a:lnTo>
                        <a:lnTo>
                          <a:pt x="181" y="123"/>
                        </a:lnTo>
                        <a:lnTo>
                          <a:pt x="178" y="131"/>
                        </a:lnTo>
                        <a:lnTo>
                          <a:pt x="175" y="140"/>
                        </a:lnTo>
                        <a:lnTo>
                          <a:pt x="172" y="149"/>
                        </a:lnTo>
                        <a:lnTo>
                          <a:pt x="169" y="158"/>
                        </a:lnTo>
                        <a:lnTo>
                          <a:pt x="165" y="166"/>
                        </a:lnTo>
                        <a:lnTo>
                          <a:pt x="162" y="176"/>
                        </a:lnTo>
                        <a:lnTo>
                          <a:pt x="156" y="195"/>
                        </a:lnTo>
                        <a:lnTo>
                          <a:pt x="155" y="216"/>
                        </a:lnTo>
                        <a:lnTo>
                          <a:pt x="155" y="235"/>
                        </a:lnTo>
                        <a:lnTo>
                          <a:pt x="158" y="255"/>
                        </a:lnTo>
                        <a:lnTo>
                          <a:pt x="160" y="275"/>
                        </a:lnTo>
                        <a:lnTo>
                          <a:pt x="162" y="295"/>
                        </a:lnTo>
                        <a:lnTo>
                          <a:pt x="162" y="313"/>
                        </a:lnTo>
                        <a:lnTo>
                          <a:pt x="161" y="333"/>
                        </a:lnTo>
                        <a:lnTo>
                          <a:pt x="163" y="342"/>
                        </a:lnTo>
                        <a:lnTo>
                          <a:pt x="165" y="352"/>
                        </a:lnTo>
                        <a:lnTo>
                          <a:pt x="166" y="363"/>
                        </a:lnTo>
                        <a:lnTo>
                          <a:pt x="167" y="374"/>
                        </a:lnTo>
                        <a:lnTo>
                          <a:pt x="167" y="385"/>
                        </a:lnTo>
                        <a:lnTo>
                          <a:pt x="169" y="396"/>
                        </a:lnTo>
                        <a:lnTo>
                          <a:pt x="171" y="406"/>
                        </a:lnTo>
                        <a:lnTo>
                          <a:pt x="175" y="416"/>
                        </a:lnTo>
                        <a:lnTo>
                          <a:pt x="170" y="419"/>
                        </a:lnTo>
                        <a:lnTo>
                          <a:pt x="170" y="425"/>
                        </a:lnTo>
                        <a:lnTo>
                          <a:pt x="170" y="430"/>
                        </a:lnTo>
                        <a:lnTo>
                          <a:pt x="169" y="437"/>
                        </a:lnTo>
                        <a:lnTo>
                          <a:pt x="160" y="439"/>
                        </a:lnTo>
                        <a:lnTo>
                          <a:pt x="152" y="442"/>
                        </a:lnTo>
                        <a:lnTo>
                          <a:pt x="144" y="445"/>
                        </a:lnTo>
                        <a:lnTo>
                          <a:pt x="136" y="448"/>
                        </a:lnTo>
                        <a:lnTo>
                          <a:pt x="128" y="451"/>
                        </a:lnTo>
                        <a:lnTo>
                          <a:pt x="120" y="451"/>
                        </a:lnTo>
                        <a:lnTo>
                          <a:pt x="112" y="448"/>
                        </a:lnTo>
                        <a:lnTo>
                          <a:pt x="105" y="444"/>
                        </a:lnTo>
                        <a:lnTo>
                          <a:pt x="96" y="444"/>
                        </a:lnTo>
                        <a:lnTo>
                          <a:pt x="87" y="445"/>
                        </a:lnTo>
                        <a:lnTo>
                          <a:pt x="78" y="445"/>
                        </a:lnTo>
                        <a:lnTo>
                          <a:pt x="70" y="446"/>
                        </a:lnTo>
                        <a:lnTo>
                          <a:pt x="60" y="446"/>
                        </a:lnTo>
                        <a:lnTo>
                          <a:pt x="53" y="447"/>
                        </a:lnTo>
                        <a:lnTo>
                          <a:pt x="44" y="448"/>
                        </a:lnTo>
                        <a:lnTo>
                          <a:pt x="37" y="452"/>
                        </a:lnTo>
                        <a:lnTo>
                          <a:pt x="25" y="443"/>
                        </a:lnTo>
                        <a:lnTo>
                          <a:pt x="18" y="433"/>
                        </a:lnTo>
                        <a:lnTo>
                          <a:pt x="15" y="423"/>
                        </a:lnTo>
                        <a:lnTo>
                          <a:pt x="15" y="412"/>
                        </a:lnTo>
                        <a:lnTo>
                          <a:pt x="14" y="400"/>
                        </a:lnTo>
                        <a:lnTo>
                          <a:pt x="14" y="388"/>
                        </a:lnTo>
                        <a:lnTo>
                          <a:pt x="11" y="375"/>
                        </a:lnTo>
                        <a:lnTo>
                          <a:pt x="6" y="365"/>
                        </a:lnTo>
                        <a:lnTo>
                          <a:pt x="2" y="353"/>
                        </a:lnTo>
                        <a:lnTo>
                          <a:pt x="1" y="341"/>
                        </a:lnTo>
                        <a:lnTo>
                          <a:pt x="0" y="329"/>
                        </a:lnTo>
                        <a:lnTo>
                          <a:pt x="1" y="319"/>
                        </a:lnTo>
                        <a:lnTo>
                          <a:pt x="1" y="306"/>
                        </a:lnTo>
                        <a:lnTo>
                          <a:pt x="3" y="295"/>
                        </a:lnTo>
                        <a:lnTo>
                          <a:pt x="3" y="283"/>
                        </a:lnTo>
                        <a:lnTo>
                          <a:pt x="6" y="272"/>
                        </a:lnTo>
                        <a:close/>
                      </a:path>
                    </a:pathLst>
                  </a:cu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53"/>
                  <p:cNvSpPr/>
                  <p:nvPr/>
                </p:nvSpPr>
                <p:spPr>
                  <a:xfrm>
                    <a:off x="4368960" y="1182600"/>
                    <a:ext cx="218880" cy="168480"/>
                  </a:xfrm>
                  <a:custGeom>
                    <a:avLst/>
                    <a:gdLst>
                      <a:gd name="textAreaLeft" fmla="*/ 0 w 218880"/>
                      <a:gd name="textAreaRight" fmla="*/ 219240 w 218880"/>
                      <a:gd name="textAreaTop" fmla="*/ 0 h 168480"/>
                      <a:gd name="textAreaBottom" fmla="*/ 168840 h 168480"/>
                    </a:gdLst>
                    <a:ahLst/>
                    <a:rect l="textAreaLeft" t="textAreaTop" r="textAreaRight" b="textAreaBottom"/>
                    <a:pathLst>
                      <a:path w="690" h="527">
                        <a:moveTo>
                          <a:pt x="31" y="117"/>
                        </a:moveTo>
                        <a:lnTo>
                          <a:pt x="33" y="103"/>
                        </a:lnTo>
                        <a:lnTo>
                          <a:pt x="37" y="92"/>
                        </a:lnTo>
                        <a:lnTo>
                          <a:pt x="42" y="79"/>
                        </a:lnTo>
                        <a:lnTo>
                          <a:pt x="50" y="69"/>
                        </a:lnTo>
                        <a:lnTo>
                          <a:pt x="57" y="58"/>
                        </a:lnTo>
                        <a:lnTo>
                          <a:pt x="68" y="50"/>
                        </a:lnTo>
                        <a:lnTo>
                          <a:pt x="78" y="41"/>
                        </a:lnTo>
                        <a:lnTo>
                          <a:pt x="90" y="35"/>
                        </a:lnTo>
                        <a:lnTo>
                          <a:pt x="139" y="46"/>
                        </a:lnTo>
                        <a:lnTo>
                          <a:pt x="128" y="54"/>
                        </a:lnTo>
                        <a:lnTo>
                          <a:pt x="119" y="63"/>
                        </a:lnTo>
                        <a:lnTo>
                          <a:pt x="113" y="66"/>
                        </a:lnTo>
                        <a:lnTo>
                          <a:pt x="109" y="70"/>
                        </a:lnTo>
                        <a:lnTo>
                          <a:pt x="106" y="74"/>
                        </a:lnTo>
                        <a:lnTo>
                          <a:pt x="104" y="81"/>
                        </a:lnTo>
                        <a:lnTo>
                          <a:pt x="114" y="76"/>
                        </a:lnTo>
                        <a:lnTo>
                          <a:pt x="125" y="71"/>
                        </a:lnTo>
                        <a:lnTo>
                          <a:pt x="130" y="68"/>
                        </a:lnTo>
                        <a:lnTo>
                          <a:pt x="137" y="67"/>
                        </a:lnTo>
                        <a:lnTo>
                          <a:pt x="143" y="65"/>
                        </a:lnTo>
                        <a:lnTo>
                          <a:pt x="151" y="66"/>
                        </a:lnTo>
                        <a:lnTo>
                          <a:pt x="170" y="52"/>
                        </a:lnTo>
                        <a:lnTo>
                          <a:pt x="193" y="41"/>
                        </a:lnTo>
                        <a:lnTo>
                          <a:pt x="215" y="34"/>
                        </a:lnTo>
                        <a:lnTo>
                          <a:pt x="240" y="28"/>
                        </a:lnTo>
                        <a:lnTo>
                          <a:pt x="264" y="23"/>
                        </a:lnTo>
                        <a:lnTo>
                          <a:pt x="290" y="20"/>
                        </a:lnTo>
                        <a:lnTo>
                          <a:pt x="315" y="17"/>
                        </a:lnTo>
                        <a:lnTo>
                          <a:pt x="341" y="15"/>
                        </a:lnTo>
                        <a:lnTo>
                          <a:pt x="346" y="12"/>
                        </a:lnTo>
                        <a:lnTo>
                          <a:pt x="351" y="9"/>
                        </a:lnTo>
                        <a:lnTo>
                          <a:pt x="357" y="5"/>
                        </a:lnTo>
                        <a:lnTo>
                          <a:pt x="363" y="0"/>
                        </a:lnTo>
                        <a:lnTo>
                          <a:pt x="375" y="10"/>
                        </a:lnTo>
                        <a:lnTo>
                          <a:pt x="371" y="20"/>
                        </a:lnTo>
                        <a:lnTo>
                          <a:pt x="368" y="30"/>
                        </a:lnTo>
                        <a:lnTo>
                          <a:pt x="367" y="40"/>
                        </a:lnTo>
                        <a:lnTo>
                          <a:pt x="370" y="50"/>
                        </a:lnTo>
                        <a:lnTo>
                          <a:pt x="372" y="58"/>
                        </a:lnTo>
                        <a:lnTo>
                          <a:pt x="376" y="68"/>
                        </a:lnTo>
                        <a:lnTo>
                          <a:pt x="382" y="76"/>
                        </a:lnTo>
                        <a:lnTo>
                          <a:pt x="390" y="86"/>
                        </a:lnTo>
                        <a:lnTo>
                          <a:pt x="392" y="95"/>
                        </a:lnTo>
                        <a:lnTo>
                          <a:pt x="398" y="102"/>
                        </a:lnTo>
                        <a:lnTo>
                          <a:pt x="405" y="109"/>
                        </a:lnTo>
                        <a:lnTo>
                          <a:pt x="414" y="115"/>
                        </a:lnTo>
                        <a:lnTo>
                          <a:pt x="422" y="120"/>
                        </a:lnTo>
                        <a:lnTo>
                          <a:pt x="431" y="127"/>
                        </a:lnTo>
                        <a:lnTo>
                          <a:pt x="439" y="133"/>
                        </a:lnTo>
                        <a:lnTo>
                          <a:pt x="448" y="141"/>
                        </a:lnTo>
                        <a:lnTo>
                          <a:pt x="459" y="145"/>
                        </a:lnTo>
                        <a:lnTo>
                          <a:pt x="471" y="149"/>
                        </a:lnTo>
                        <a:lnTo>
                          <a:pt x="485" y="151"/>
                        </a:lnTo>
                        <a:lnTo>
                          <a:pt x="499" y="152"/>
                        </a:lnTo>
                        <a:lnTo>
                          <a:pt x="512" y="152"/>
                        </a:lnTo>
                        <a:lnTo>
                          <a:pt x="526" y="154"/>
                        </a:lnTo>
                        <a:lnTo>
                          <a:pt x="538" y="158"/>
                        </a:lnTo>
                        <a:lnTo>
                          <a:pt x="551" y="167"/>
                        </a:lnTo>
                        <a:lnTo>
                          <a:pt x="557" y="162"/>
                        </a:lnTo>
                        <a:lnTo>
                          <a:pt x="565" y="162"/>
                        </a:lnTo>
                        <a:lnTo>
                          <a:pt x="571" y="163"/>
                        </a:lnTo>
                        <a:lnTo>
                          <a:pt x="579" y="167"/>
                        </a:lnTo>
                        <a:lnTo>
                          <a:pt x="585" y="168"/>
                        </a:lnTo>
                        <a:lnTo>
                          <a:pt x="592" y="170"/>
                        </a:lnTo>
                        <a:lnTo>
                          <a:pt x="599" y="169"/>
                        </a:lnTo>
                        <a:lnTo>
                          <a:pt x="607" y="166"/>
                        </a:lnTo>
                        <a:lnTo>
                          <a:pt x="614" y="167"/>
                        </a:lnTo>
                        <a:lnTo>
                          <a:pt x="624" y="168"/>
                        </a:lnTo>
                        <a:lnTo>
                          <a:pt x="631" y="167"/>
                        </a:lnTo>
                        <a:lnTo>
                          <a:pt x="641" y="167"/>
                        </a:lnTo>
                        <a:lnTo>
                          <a:pt x="648" y="164"/>
                        </a:lnTo>
                        <a:lnTo>
                          <a:pt x="658" y="163"/>
                        </a:lnTo>
                        <a:lnTo>
                          <a:pt x="666" y="162"/>
                        </a:lnTo>
                        <a:lnTo>
                          <a:pt x="675" y="163"/>
                        </a:lnTo>
                        <a:lnTo>
                          <a:pt x="689" y="156"/>
                        </a:lnTo>
                        <a:lnTo>
                          <a:pt x="689" y="162"/>
                        </a:lnTo>
                        <a:lnTo>
                          <a:pt x="690" y="171"/>
                        </a:lnTo>
                        <a:lnTo>
                          <a:pt x="689" y="178"/>
                        </a:lnTo>
                        <a:lnTo>
                          <a:pt x="688" y="187"/>
                        </a:lnTo>
                        <a:lnTo>
                          <a:pt x="685" y="193"/>
                        </a:lnTo>
                        <a:lnTo>
                          <a:pt x="683" y="201"/>
                        </a:lnTo>
                        <a:lnTo>
                          <a:pt x="678" y="207"/>
                        </a:lnTo>
                        <a:lnTo>
                          <a:pt x="675" y="215"/>
                        </a:lnTo>
                        <a:lnTo>
                          <a:pt x="668" y="221"/>
                        </a:lnTo>
                        <a:lnTo>
                          <a:pt x="661" y="228"/>
                        </a:lnTo>
                        <a:lnTo>
                          <a:pt x="654" y="232"/>
                        </a:lnTo>
                        <a:lnTo>
                          <a:pt x="647" y="237"/>
                        </a:lnTo>
                        <a:lnTo>
                          <a:pt x="639" y="241"/>
                        </a:lnTo>
                        <a:lnTo>
                          <a:pt x="631" y="244"/>
                        </a:lnTo>
                        <a:lnTo>
                          <a:pt x="624" y="247"/>
                        </a:lnTo>
                        <a:lnTo>
                          <a:pt x="616" y="250"/>
                        </a:lnTo>
                        <a:lnTo>
                          <a:pt x="618" y="244"/>
                        </a:lnTo>
                        <a:lnTo>
                          <a:pt x="623" y="237"/>
                        </a:lnTo>
                        <a:lnTo>
                          <a:pt x="624" y="231"/>
                        </a:lnTo>
                        <a:lnTo>
                          <a:pt x="623" y="226"/>
                        </a:lnTo>
                        <a:lnTo>
                          <a:pt x="612" y="232"/>
                        </a:lnTo>
                        <a:lnTo>
                          <a:pt x="605" y="241"/>
                        </a:lnTo>
                        <a:lnTo>
                          <a:pt x="599" y="250"/>
                        </a:lnTo>
                        <a:lnTo>
                          <a:pt x="596" y="261"/>
                        </a:lnTo>
                        <a:lnTo>
                          <a:pt x="592" y="272"/>
                        </a:lnTo>
                        <a:lnTo>
                          <a:pt x="589" y="284"/>
                        </a:lnTo>
                        <a:lnTo>
                          <a:pt x="586" y="295"/>
                        </a:lnTo>
                        <a:lnTo>
                          <a:pt x="585" y="307"/>
                        </a:lnTo>
                        <a:lnTo>
                          <a:pt x="588" y="321"/>
                        </a:lnTo>
                        <a:lnTo>
                          <a:pt x="595" y="335"/>
                        </a:lnTo>
                        <a:lnTo>
                          <a:pt x="602" y="348"/>
                        </a:lnTo>
                        <a:lnTo>
                          <a:pt x="612" y="362"/>
                        </a:lnTo>
                        <a:lnTo>
                          <a:pt x="622" y="374"/>
                        </a:lnTo>
                        <a:lnTo>
                          <a:pt x="632" y="387"/>
                        </a:lnTo>
                        <a:lnTo>
                          <a:pt x="644" y="398"/>
                        </a:lnTo>
                        <a:lnTo>
                          <a:pt x="657" y="410"/>
                        </a:lnTo>
                        <a:lnTo>
                          <a:pt x="642" y="422"/>
                        </a:lnTo>
                        <a:lnTo>
                          <a:pt x="628" y="435"/>
                        </a:lnTo>
                        <a:lnTo>
                          <a:pt x="615" y="449"/>
                        </a:lnTo>
                        <a:lnTo>
                          <a:pt x="602" y="464"/>
                        </a:lnTo>
                        <a:lnTo>
                          <a:pt x="589" y="478"/>
                        </a:lnTo>
                        <a:lnTo>
                          <a:pt x="578" y="494"/>
                        </a:lnTo>
                        <a:lnTo>
                          <a:pt x="567" y="510"/>
                        </a:lnTo>
                        <a:lnTo>
                          <a:pt x="557" y="527"/>
                        </a:lnTo>
                        <a:lnTo>
                          <a:pt x="530" y="511"/>
                        </a:lnTo>
                        <a:lnTo>
                          <a:pt x="506" y="493"/>
                        </a:lnTo>
                        <a:lnTo>
                          <a:pt x="483" y="470"/>
                        </a:lnTo>
                        <a:lnTo>
                          <a:pt x="464" y="447"/>
                        </a:lnTo>
                        <a:lnTo>
                          <a:pt x="448" y="419"/>
                        </a:lnTo>
                        <a:lnTo>
                          <a:pt x="436" y="391"/>
                        </a:lnTo>
                        <a:lnTo>
                          <a:pt x="429" y="362"/>
                        </a:lnTo>
                        <a:lnTo>
                          <a:pt x="427" y="333"/>
                        </a:lnTo>
                        <a:lnTo>
                          <a:pt x="429" y="321"/>
                        </a:lnTo>
                        <a:lnTo>
                          <a:pt x="431" y="310"/>
                        </a:lnTo>
                        <a:lnTo>
                          <a:pt x="433" y="299"/>
                        </a:lnTo>
                        <a:lnTo>
                          <a:pt x="435" y="288"/>
                        </a:lnTo>
                        <a:lnTo>
                          <a:pt x="435" y="276"/>
                        </a:lnTo>
                        <a:lnTo>
                          <a:pt x="435" y="265"/>
                        </a:lnTo>
                        <a:lnTo>
                          <a:pt x="435" y="254"/>
                        </a:lnTo>
                        <a:lnTo>
                          <a:pt x="436" y="243"/>
                        </a:lnTo>
                        <a:lnTo>
                          <a:pt x="432" y="241"/>
                        </a:lnTo>
                        <a:lnTo>
                          <a:pt x="429" y="241"/>
                        </a:lnTo>
                        <a:lnTo>
                          <a:pt x="427" y="246"/>
                        </a:lnTo>
                        <a:lnTo>
                          <a:pt x="426" y="251"/>
                        </a:lnTo>
                        <a:lnTo>
                          <a:pt x="425" y="258"/>
                        </a:lnTo>
                        <a:lnTo>
                          <a:pt x="425" y="264"/>
                        </a:lnTo>
                        <a:lnTo>
                          <a:pt x="424" y="271"/>
                        </a:lnTo>
                        <a:lnTo>
                          <a:pt x="424" y="277"/>
                        </a:lnTo>
                        <a:lnTo>
                          <a:pt x="423" y="284"/>
                        </a:lnTo>
                        <a:lnTo>
                          <a:pt x="422" y="291"/>
                        </a:lnTo>
                        <a:lnTo>
                          <a:pt x="411" y="351"/>
                        </a:lnTo>
                        <a:lnTo>
                          <a:pt x="385" y="368"/>
                        </a:lnTo>
                        <a:lnTo>
                          <a:pt x="357" y="383"/>
                        </a:lnTo>
                        <a:lnTo>
                          <a:pt x="328" y="395"/>
                        </a:lnTo>
                        <a:lnTo>
                          <a:pt x="299" y="406"/>
                        </a:lnTo>
                        <a:lnTo>
                          <a:pt x="268" y="415"/>
                        </a:lnTo>
                        <a:lnTo>
                          <a:pt x="239" y="423"/>
                        </a:lnTo>
                        <a:lnTo>
                          <a:pt x="209" y="432"/>
                        </a:lnTo>
                        <a:lnTo>
                          <a:pt x="180" y="441"/>
                        </a:lnTo>
                        <a:lnTo>
                          <a:pt x="160" y="441"/>
                        </a:lnTo>
                        <a:lnTo>
                          <a:pt x="141" y="442"/>
                        </a:lnTo>
                        <a:lnTo>
                          <a:pt x="122" y="442"/>
                        </a:lnTo>
                        <a:lnTo>
                          <a:pt x="104" y="442"/>
                        </a:lnTo>
                        <a:lnTo>
                          <a:pt x="84" y="440"/>
                        </a:lnTo>
                        <a:lnTo>
                          <a:pt x="67" y="437"/>
                        </a:lnTo>
                        <a:lnTo>
                          <a:pt x="50" y="433"/>
                        </a:lnTo>
                        <a:lnTo>
                          <a:pt x="34" y="426"/>
                        </a:lnTo>
                        <a:lnTo>
                          <a:pt x="25" y="416"/>
                        </a:lnTo>
                        <a:lnTo>
                          <a:pt x="20" y="405"/>
                        </a:lnTo>
                        <a:lnTo>
                          <a:pt x="16" y="393"/>
                        </a:lnTo>
                        <a:lnTo>
                          <a:pt x="15" y="381"/>
                        </a:lnTo>
                        <a:lnTo>
                          <a:pt x="12" y="368"/>
                        </a:lnTo>
                        <a:lnTo>
                          <a:pt x="11" y="356"/>
                        </a:lnTo>
                        <a:lnTo>
                          <a:pt x="10" y="343"/>
                        </a:lnTo>
                        <a:lnTo>
                          <a:pt x="9" y="332"/>
                        </a:lnTo>
                        <a:lnTo>
                          <a:pt x="6" y="318"/>
                        </a:lnTo>
                        <a:lnTo>
                          <a:pt x="5" y="305"/>
                        </a:lnTo>
                        <a:lnTo>
                          <a:pt x="4" y="292"/>
                        </a:lnTo>
                        <a:lnTo>
                          <a:pt x="4" y="279"/>
                        </a:lnTo>
                        <a:lnTo>
                          <a:pt x="3" y="265"/>
                        </a:lnTo>
                        <a:lnTo>
                          <a:pt x="3" y="252"/>
                        </a:lnTo>
                        <a:lnTo>
                          <a:pt x="2" y="240"/>
                        </a:lnTo>
                        <a:lnTo>
                          <a:pt x="0" y="228"/>
                        </a:lnTo>
                        <a:lnTo>
                          <a:pt x="0" y="212"/>
                        </a:lnTo>
                        <a:lnTo>
                          <a:pt x="2" y="197"/>
                        </a:lnTo>
                        <a:lnTo>
                          <a:pt x="4" y="182"/>
                        </a:lnTo>
                        <a:lnTo>
                          <a:pt x="8" y="169"/>
                        </a:lnTo>
                        <a:lnTo>
                          <a:pt x="11" y="156"/>
                        </a:lnTo>
                        <a:lnTo>
                          <a:pt x="18" y="143"/>
                        </a:lnTo>
                        <a:lnTo>
                          <a:pt x="23" y="130"/>
                        </a:lnTo>
                        <a:lnTo>
                          <a:pt x="31" y="117"/>
                        </a:lnTo>
                        <a:close/>
                      </a:path>
                    </a:pathLst>
                  </a:cu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54"/>
                  <p:cNvSpPr/>
                  <p:nvPr/>
                </p:nvSpPr>
                <p:spPr>
                  <a:xfrm>
                    <a:off x="4433760" y="1058760"/>
                    <a:ext cx="30240" cy="71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99" h="226">
                        <a:moveTo>
                          <a:pt x="80" y="8"/>
                        </a:moveTo>
                        <a:lnTo>
                          <a:pt x="99" y="0"/>
                        </a:lnTo>
                        <a:lnTo>
                          <a:pt x="90" y="9"/>
                        </a:lnTo>
                        <a:lnTo>
                          <a:pt x="83" y="20"/>
                        </a:lnTo>
                        <a:lnTo>
                          <a:pt x="80" y="25"/>
                        </a:lnTo>
                        <a:lnTo>
                          <a:pt x="79" y="32"/>
                        </a:lnTo>
                        <a:lnTo>
                          <a:pt x="79" y="37"/>
                        </a:lnTo>
                        <a:lnTo>
                          <a:pt x="82" y="44"/>
                        </a:lnTo>
                        <a:lnTo>
                          <a:pt x="84" y="44"/>
                        </a:lnTo>
                        <a:lnTo>
                          <a:pt x="80" y="50"/>
                        </a:lnTo>
                        <a:lnTo>
                          <a:pt x="75" y="58"/>
                        </a:lnTo>
                        <a:lnTo>
                          <a:pt x="71" y="65"/>
                        </a:lnTo>
                        <a:lnTo>
                          <a:pt x="68" y="73"/>
                        </a:lnTo>
                        <a:lnTo>
                          <a:pt x="64" y="79"/>
                        </a:lnTo>
                        <a:lnTo>
                          <a:pt x="62" y="88"/>
                        </a:lnTo>
                        <a:lnTo>
                          <a:pt x="59" y="96"/>
                        </a:lnTo>
                        <a:lnTo>
                          <a:pt x="60" y="106"/>
                        </a:lnTo>
                        <a:lnTo>
                          <a:pt x="65" y="107"/>
                        </a:lnTo>
                        <a:lnTo>
                          <a:pt x="67" y="110"/>
                        </a:lnTo>
                        <a:lnTo>
                          <a:pt x="67" y="113"/>
                        </a:lnTo>
                        <a:lnTo>
                          <a:pt x="67" y="119"/>
                        </a:lnTo>
                        <a:lnTo>
                          <a:pt x="63" y="127"/>
                        </a:lnTo>
                        <a:lnTo>
                          <a:pt x="62" y="136"/>
                        </a:lnTo>
                        <a:lnTo>
                          <a:pt x="59" y="147"/>
                        </a:lnTo>
                        <a:lnTo>
                          <a:pt x="60" y="158"/>
                        </a:lnTo>
                        <a:lnTo>
                          <a:pt x="62" y="168"/>
                        </a:lnTo>
                        <a:lnTo>
                          <a:pt x="66" y="179"/>
                        </a:lnTo>
                        <a:lnTo>
                          <a:pt x="64" y="190"/>
                        </a:lnTo>
                        <a:lnTo>
                          <a:pt x="62" y="201"/>
                        </a:lnTo>
                        <a:lnTo>
                          <a:pt x="60" y="207"/>
                        </a:lnTo>
                        <a:lnTo>
                          <a:pt x="59" y="213"/>
                        </a:lnTo>
                        <a:lnTo>
                          <a:pt x="59" y="220"/>
                        </a:lnTo>
                        <a:lnTo>
                          <a:pt x="60" y="226"/>
                        </a:lnTo>
                        <a:lnTo>
                          <a:pt x="46" y="214"/>
                        </a:lnTo>
                        <a:lnTo>
                          <a:pt x="34" y="201"/>
                        </a:lnTo>
                        <a:lnTo>
                          <a:pt x="22" y="187"/>
                        </a:lnTo>
                        <a:lnTo>
                          <a:pt x="13" y="172"/>
                        </a:lnTo>
                        <a:lnTo>
                          <a:pt x="6" y="155"/>
                        </a:lnTo>
                        <a:lnTo>
                          <a:pt x="1" y="138"/>
                        </a:lnTo>
                        <a:lnTo>
                          <a:pt x="0" y="119"/>
                        </a:lnTo>
                        <a:lnTo>
                          <a:pt x="5" y="100"/>
                        </a:lnTo>
                        <a:lnTo>
                          <a:pt x="10" y="85"/>
                        </a:lnTo>
                        <a:lnTo>
                          <a:pt x="18" y="73"/>
                        </a:lnTo>
                        <a:lnTo>
                          <a:pt x="26" y="60"/>
                        </a:lnTo>
                        <a:lnTo>
                          <a:pt x="36" y="49"/>
                        </a:lnTo>
                        <a:lnTo>
                          <a:pt x="45" y="36"/>
                        </a:lnTo>
                        <a:lnTo>
                          <a:pt x="56" y="26"/>
                        </a:lnTo>
                        <a:lnTo>
                          <a:pt x="68" y="17"/>
                        </a:lnTo>
                        <a:lnTo>
                          <a:pt x="80" y="8"/>
                        </a:lnTo>
                        <a:close/>
                      </a:path>
                    </a:pathLst>
                  </a:cu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55"/>
                  <p:cNvSpPr/>
                  <p:nvPr/>
                </p:nvSpPr>
                <p:spPr>
                  <a:xfrm>
                    <a:off x="4456080" y="1006560"/>
                    <a:ext cx="190440" cy="190440"/>
                  </a:xfrm>
                  <a:custGeom>
                    <a:avLst/>
                    <a:gdLst>
                      <a:gd name="textAreaLeft" fmla="*/ 0 w 190440"/>
                      <a:gd name="textAreaRight" fmla="*/ 190800 w 190440"/>
                      <a:gd name="textAreaTop" fmla="*/ 0 h 190440"/>
                      <a:gd name="textAreaBottom" fmla="*/ 190800 h 190440"/>
                    </a:gdLst>
                    <a:ahLst/>
                    <a:rect l="textAreaLeft" t="textAreaTop" r="textAreaRight" b="textAreaBottom"/>
                    <a:pathLst>
                      <a:path w="600" h="600">
                        <a:moveTo>
                          <a:pt x="6" y="326"/>
                        </a:moveTo>
                        <a:lnTo>
                          <a:pt x="3" y="316"/>
                        </a:lnTo>
                        <a:lnTo>
                          <a:pt x="3" y="307"/>
                        </a:lnTo>
                        <a:lnTo>
                          <a:pt x="4" y="299"/>
                        </a:lnTo>
                        <a:lnTo>
                          <a:pt x="7" y="291"/>
                        </a:lnTo>
                        <a:lnTo>
                          <a:pt x="9" y="283"/>
                        </a:lnTo>
                        <a:lnTo>
                          <a:pt x="12" y="275"/>
                        </a:lnTo>
                        <a:lnTo>
                          <a:pt x="15" y="267"/>
                        </a:lnTo>
                        <a:lnTo>
                          <a:pt x="19" y="259"/>
                        </a:lnTo>
                        <a:lnTo>
                          <a:pt x="12" y="255"/>
                        </a:lnTo>
                        <a:lnTo>
                          <a:pt x="7" y="255"/>
                        </a:lnTo>
                        <a:lnTo>
                          <a:pt x="6" y="257"/>
                        </a:lnTo>
                        <a:lnTo>
                          <a:pt x="7" y="247"/>
                        </a:lnTo>
                        <a:lnTo>
                          <a:pt x="10" y="239"/>
                        </a:lnTo>
                        <a:lnTo>
                          <a:pt x="13" y="231"/>
                        </a:lnTo>
                        <a:lnTo>
                          <a:pt x="18" y="224"/>
                        </a:lnTo>
                        <a:lnTo>
                          <a:pt x="22" y="216"/>
                        </a:lnTo>
                        <a:lnTo>
                          <a:pt x="27" y="209"/>
                        </a:lnTo>
                        <a:lnTo>
                          <a:pt x="31" y="201"/>
                        </a:lnTo>
                        <a:lnTo>
                          <a:pt x="36" y="194"/>
                        </a:lnTo>
                        <a:lnTo>
                          <a:pt x="31" y="189"/>
                        </a:lnTo>
                        <a:lnTo>
                          <a:pt x="26" y="189"/>
                        </a:lnTo>
                        <a:lnTo>
                          <a:pt x="31" y="179"/>
                        </a:lnTo>
                        <a:lnTo>
                          <a:pt x="41" y="169"/>
                        </a:lnTo>
                        <a:lnTo>
                          <a:pt x="51" y="158"/>
                        </a:lnTo>
                        <a:lnTo>
                          <a:pt x="60" y="149"/>
                        </a:lnTo>
                        <a:lnTo>
                          <a:pt x="57" y="143"/>
                        </a:lnTo>
                        <a:lnTo>
                          <a:pt x="53" y="140"/>
                        </a:lnTo>
                        <a:lnTo>
                          <a:pt x="62" y="132"/>
                        </a:lnTo>
                        <a:lnTo>
                          <a:pt x="72" y="127"/>
                        </a:lnTo>
                        <a:lnTo>
                          <a:pt x="77" y="123"/>
                        </a:lnTo>
                        <a:lnTo>
                          <a:pt x="81" y="120"/>
                        </a:lnTo>
                        <a:lnTo>
                          <a:pt x="83" y="114"/>
                        </a:lnTo>
                        <a:lnTo>
                          <a:pt x="85" y="109"/>
                        </a:lnTo>
                        <a:lnTo>
                          <a:pt x="75" y="101"/>
                        </a:lnTo>
                        <a:lnTo>
                          <a:pt x="87" y="92"/>
                        </a:lnTo>
                        <a:lnTo>
                          <a:pt x="99" y="83"/>
                        </a:lnTo>
                        <a:lnTo>
                          <a:pt x="111" y="73"/>
                        </a:lnTo>
                        <a:lnTo>
                          <a:pt x="123" y="65"/>
                        </a:lnTo>
                        <a:lnTo>
                          <a:pt x="133" y="55"/>
                        </a:lnTo>
                        <a:lnTo>
                          <a:pt x="146" y="46"/>
                        </a:lnTo>
                        <a:lnTo>
                          <a:pt x="158" y="36"/>
                        </a:lnTo>
                        <a:lnTo>
                          <a:pt x="171" y="29"/>
                        </a:lnTo>
                        <a:lnTo>
                          <a:pt x="173" y="34"/>
                        </a:lnTo>
                        <a:lnTo>
                          <a:pt x="177" y="38"/>
                        </a:lnTo>
                        <a:lnTo>
                          <a:pt x="223" y="19"/>
                        </a:lnTo>
                        <a:lnTo>
                          <a:pt x="227" y="24"/>
                        </a:lnTo>
                        <a:lnTo>
                          <a:pt x="232" y="26"/>
                        </a:lnTo>
                        <a:lnTo>
                          <a:pt x="237" y="24"/>
                        </a:lnTo>
                        <a:lnTo>
                          <a:pt x="244" y="22"/>
                        </a:lnTo>
                        <a:lnTo>
                          <a:pt x="250" y="17"/>
                        </a:lnTo>
                        <a:lnTo>
                          <a:pt x="258" y="13"/>
                        </a:lnTo>
                        <a:lnTo>
                          <a:pt x="264" y="9"/>
                        </a:lnTo>
                        <a:lnTo>
                          <a:pt x="272" y="9"/>
                        </a:lnTo>
                        <a:lnTo>
                          <a:pt x="281" y="6"/>
                        </a:lnTo>
                        <a:lnTo>
                          <a:pt x="293" y="7"/>
                        </a:lnTo>
                        <a:lnTo>
                          <a:pt x="303" y="11"/>
                        </a:lnTo>
                        <a:lnTo>
                          <a:pt x="314" y="8"/>
                        </a:lnTo>
                        <a:lnTo>
                          <a:pt x="319" y="5"/>
                        </a:lnTo>
                        <a:lnTo>
                          <a:pt x="324" y="3"/>
                        </a:lnTo>
                        <a:lnTo>
                          <a:pt x="331" y="0"/>
                        </a:lnTo>
                        <a:lnTo>
                          <a:pt x="338" y="3"/>
                        </a:lnTo>
                        <a:lnTo>
                          <a:pt x="338" y="8"/>
                        </a:lnTo>
                        <a:lnTo>
                          <a:pt x="345" y="12"/>
                        </a:lnTo>
                        <a:lnTo>
                          <a:pt x="351" y="8"/>
                        </a:lnTo>
                        <a:lnTo>
                          <a:pt x="358" y="6"/>
                        </a:lnTo>
                        <a:lnTo>
                          <a:pt x="365" y="5"/>
                        </a:lnTo>
                        <a:lnTo>
                          <a:pt x="373" y="6"/>
                        </a:lnTo>
                        <a:lnTo>
                          <a:pt x="380" y="6"/>
                        </a:lnTo>
                        <a:lnTo>
                          <a:pt x="388" y="9"/>
                        </a:lnTo>
                        <a:lnTo>
                          <a:pt x="394" y="12"/>
                        </a:lnTo>
                        <a:lnTo>
                          <a:pt x="401" y="15"/>
                        </a:lnTo>
                        <a:lnTo>
                          <a:pt x="409" y="13"/>
                        </a:lnTo>
                        <a:lnTo>
                          <a:pt x="419" y="13"/>
                        </a:lnTo>
                        <a:lnTo>
                          <a:pt x="427" y="14"/>
                        </a:lnTo>
                        <a:lnTo>
                          <a:pt x="435" y="19"/>
                        </a:lnTo>
                        <a:lnTo>
                          <a:pt x="438" y="21"/>
                        </a:lnTo>
                        <a:lnTo>
                          <a:pt x="443" y="23"/>
                        </a:lnTo>
                        <a:lnTo>
                          <a:pt x="449" y="24"/>
                        </a:lnTo>
                        <a:lnTo>
                          <a:pt x="455" y="25"/>
                        </a:lnTo>
                        <a:lnTo>
                          <a:pt x="460" y="25"/>
                        </a:lnTo>
                        <a:lnTo>
                          <a:pt x="467" y="26"/>
                        </a:lnTo>
                        <a:lnTo>
                          <a:pt x="472" y="27"/>
                        </a:lnTo>
                        <a:lnTo>
                          <a:pt x="479" y="31"/>
                        </a:lnTo>
                        <a:lnTo>
                          <a:pt x="490" y="36"/>
                        </a:lnTo>
                        <a:lnTo>
                          <a:pt x="502" y="42"/>
                        </a:lnTo>
                        <a:lnTo>
                          <a:pt x="513" y="50"/>
                        </a:lnTo>
                        <a:lnTo>
                          <a:pt x="524" y="59"/>
                        </a:lnTo>
                        <a:lnTo>
                          <a:pt x="533" y="69"/>
                        </a:lnTo>
                        <a:lnTo>
                          <a:pt x="543" y="80"/>
                        </a:lnTo>
                        <a:lnTo>
                          <a:pt x="552" y="91"/>
                        </a:lnTo>
                        <a:lnTo>
                          <a:pt x="560" y="102"/>
                        </a:lnTo>
                        <a:lnTo>
                          <a:pt x="562" y="112"/>
                        </a:lnTo>
                        <a:lnTo>
                          <a:pt x="569" y="123"/>
                        </a:lnTo>
                        <a:lnTo>
                          <a:pt x="575" y="131"/>
                        </a:lnTo>
                        <a:lnTo>
                          <a:pt x="575" y="141"/>
                        </a:lnTo>
                        <a:lnTo>
                          <a:pt x="592" y="179"/>
                        </a:lnTo>
                        <a:lnTo>
                          <a:pt x="589" y="183"/>
                        </a:lnTo>
                        <a:lnTo>
                          <a:pt x="589" y="189"/>
                        </a:lnTo>
                        <a:lnTo>
                          <a:pt x="590" y="196"/>
                        </a:lnTo>
                        <a:lnTo>
                          <a:pt x="593" y="202"/>
                        </a:lnTo>
                        <a:lnTo>
                          <a:pt x="595" y="209"/>
                        </a:lnTo>
                        <a:lnTo>
                          <a:pt x="596" y="215"/>
                        </a:lnTo>
                        <a:lnTo>
                          <a:pt x="595" y="222"/>
                        </a:lnTo>
                        <a:lnTo>
                          <a:pt x="592" y="228"/>
                        </a:lnTo>
                        <a:lnTo>
                          <a:pt x="596" y="234"/>
                        </a:lnTo>
                        <a:lnTo>
                          <a:pt x="596" y="242"/>
                        </a:lnTo>
                        <a:lnTo>
                          <a:pt x="593" y="249"/>
                        </a:lnTo>
                        <a:lnTo>
                          <a:pt x="591" y="257"/>
                        </a:lnTo>
                        <a:lnTo>
                          <a:pt x="588" y="263"/>
                        </a:lnTo>
                        <a:lnTo>
                          <a:pt x="589" y="270"/>
                        </a:lnTo>
                        <a:lnTo>
                          <a:pt x="591" y="276"/>
                        </a:lnTo>
                        <a:lnTo>
                          <a:pt x="600" y="284"/>
                        </a:lnTo>
                        <a:lnTo>
                          <a:pt x="597" y="287"/>
                        </a:lnTo>
                        <a:lnTo>
                          <a:pt x="595" y="293"/>
                        </a:lnTo>
                        <a:lnTo>
                          <a:pt x="592" y="300"/>
                        </a:lnTo>
                        <a:lnTo>
                          <a:pt x="590" y="306"/>
                        </a:lnTo>
                        <a:lnTo>
                          <a:pt x="588" y="312"/>
                        </a:lnTo>
                        <a:lnTo>
                          <a:pt x="587" y="318"/>
                        </a:lnTo>
                        <a:lnTo>
                          <a:pt x="587" y="325"/>
                        </a:lnTo>
                        <a:lnTo>
                          <a:pt x="587" y="331"/>
                        </a:lnTo>
                        <a:lnTo>
                          <a:pt x="582" y="334"/>
                        </a:lnTo>
                        <a:lnTo>
                          <a:pt x="580" y="341"/>
                        </a:lnTo>
                        <a:lnTo>
                          <a:pt x="577" y="347"/>
                        </a:lnTo>
                        <a:lnTo>
                          <a:pt x="576" y="354"/>
                        </a:lnTo>
                        <a:lnTo>
                          <a:pt x="573" y="359"/>
                        </a:lnTo>
                        <a:lnTo>
                          <a:pt x="571" y="364"/>
                        </a:lnTo>
                        <a:lnTo>
                          <a:pt x="567" y="370"/>
                        </a:lnTo>
                        <a:lnTo>
                          <a:pt x="562" y="376"/>
                        </a:lnTo>
                        <a:lnTo>
                          <a:pt x="564" y="387"/>
                        </a:lnTo>
                        <a:lnTo>
                          <a:pt x="557" y="395"/>
                        </a:lnTo>
                        <a:lnTo>
                          <a:pt x="551" y="405"/>
                        </a:lnTo>
                        <a:lnTo>
                          <a:pt x="544" y="415"/>
                        </a:lnTo>
                        <a:lnTo>
                          <a:pt x="539" y="424"/>
                        </a:lnTo>
                        <a:lnTo>
                          <a:pt x="536" y="415"/>
                        </a:lnTo>
                        <a:lnTo>
                          <a:pt x="534" y="406"/>
                        </a:lnTo>
                        <a:lnTo>
                          <a:pt x="532" y="395"/>
                        </a:lnTo>
                        <a:lnTo>
                          <a:pt x="527" y="388"/>
                        </a:lnTo>
                        <a:lnTo>
                          <a:pt x="523" y="378"/>
                        </a:lnTo>
                        <a:lnTo>
                          <a:pt x="519" y="370"/>
                        </a:lnTo>
                        <a:lnTo>
                          <a:pt x="515" y="360"/>
                        </a:lnTo>
                        <a:lnTo>
                          <a:pt x="512" y="351"/>
                        </a:lnTo>
                        <a:lnTo>
                          <a:pt x="509" y="341"/>
                        </a:lnTo>
                        <a:lnTo>
                          <a:pt x="507" y="331"/>
                        </a:lnTo>
                        <a:lnTo>
                          <a:pt x="504" y="320"/>
                        </a:lnTo>
                        <a:lnTo>
                          <a:pt x="506" y="311"/>
                        </a:lnTo>
                        <a:lnTo>
                          <a:pt x="508" y="312"/>
                        </a:lnTo>
                        <a:lnTo>
                          <a:pt x="510" y="312"/>
                        </a:lnTo>
                        <a:lnTo>
                          <a:pt x="513" y="301"/>
                        </a:lnTo>
                        <a:lnTo>
                          <a:pt x="514" y="291"/>
                        </a:lnTo>
                        <a:lnTo>
                          <a:pt x="513" y="281"/>
                        </a:lnTo>
                        <a:lnTo>
                          <a:pt x="512" y="270"/>
                        </a:lnTo>
                        <a:lnTo>
                          <a:pt x="506" y="256"/>
                        </a:lnTo>
                        <a:lnTo>
                          <a:pt x="497" y="245"/>
                        </a:lnTo>
                        <a:lnTo>
                          <a:pt x="486" y="235"/>
                        </a:lnTo>
                        <a:lnTo>
                          <a:pt x="475" y="229"/>
                        </a:lnTo>
                        <a:lnTo>
                          <a:pt x="463" y="222"/>
                        </a:lnTo>
                        <a:lnTo>
                          <a:pt x="451" y="214"/>
                        </a:lnTo>
                        <a:lnTo>
                          <a:pt x="439" y="207"/>
                        </a:lnTo>
                        <a:lnTo>
                          <a:pt x="429" y="198"/>
                        </a:lnTo>
                        <a:lnTo>
                          <a:pt x="430" y="198"/>
                        </a:lnTo>
                        <a:lnTo>
                          <a:pt x="433" y="197"/>
                        </a:lnTo>
                        <a:lnTo>
                          <a:pt x="415" y="188"/>
                        </a:lnTo>
                        <a:lnTo>
                          <a:pt x="399" y="184"/>
                        </a:lnTo>
                        <a:lnTo>
                          <a:pt x="381" y="180"/>
                        </a:lnTo>
                        <a:lnTo>
                          <a:pt x="364" y="178"/>
                        </a:lnTo>
                        <a:lnTo>
                          <a:pt x="345" y="175"/>
                        </a:lnTo>
                        <a:lnTo>
                          <a:pt x="327" y="175"/>
                        </a:lnTo>
                        <a:lnTo>
                          <a:pt x="310" y="175"/>
                        </a:lnTo>
                        <a:lnTo>
                          <a:pt x="295" y="175"/>
                        </a:lnTo>
                        <a:lnTo>
                          <a:pt x="303" y="169"/>
                        </a:lnTo>
                        <a:lnTo>
                          <a:pt x="293" y="169"/>
                        </a:lnTo>
                        <a:lnTo>
                          <a:pt x="286" y="173"/>
                        </a:lnTo>
                        <a:lnTo>
                          <a:pt x="279" y="178"/>
                        </a:lnTo>
                        <a:lnTo>
                          <a:pt x="273" y="182"/>
                        </a:lnTo>
                        <a:lnTo>
                          <a:pt x="246" y="187"/>
                        </a:lnTo>
                        <a:lnTo>
                          <a:pt x="223" y="199"/>
                        </a:lnTo>
                        <a:lnTo>
                          <a:pt x="203" y="214"/>
                        </a:lnTo>
                        <a:lnTo>
                          <a:pt x="186" y="233"/>
                        </a:lnTo>
                        <a:lnTo>
                          <a:pt x="170" y="254"/>
                        </a:lnTo>
                        <a:lnTo>
                          <a:pt x="157" y="276"/>
                        </a:lnTo>
                        <a:lnTo>
                          <a:pt x="146" y="300"/>
                        </a:lnTo>
                        <a:lnTo>
                          <a:pt x="140" y="325"/>
                        </a:lnTo>
                        <a:lnTo>
                          <a:pt x="138" y="329"/>
                        </a:lnTo>
                        <a:lnTo>
                          <a:pt x="138" y="335"/>
                        </a:lnTo>
                        <a:lnTo>
                          <a:pt x="137" y="342"/>
                        </a:lnTo>
                        <a:lnTo>
                          <a:pt x="137" y="348"/>
                        </a:lnTo>
                        <a:lnTo>
                          <a:pt x="134" y="354"/>
                        </a:lnTo>
                        <a:lnTo>
                          <a:pt x="132" y="360"/>
                        </a:lnTo>
                        <a:lnTo>
                          <a:pt x="129" y="364"/>
                        </a:lnTo>
                        <a:lnTo>
                          <a:pt x="126" y="369"/>
                        </a:lnTo>
                        <a:lnTo>
                          <a:pt x="129" y="376"/>
                        </a:lnTo>
                        <a:lnTo>
                          <a:pt x="131" y="386"/>
                        </a:lnTo>
                        <a:lnTo>
                          <a:pt x="131" y="395"/>
                        </a:lnTo>
                        <a:lnTo>
                          <a:pt x="131" y="406"/>
                        </a:lnTo>
                        <a:lnTo>
                          <a:pt x="130" y="416"/>
                        </a:lnTo>
                        <a:lnTo>
                          <a:pt x="130" y="428"/>
                        </a:lnTo>
                        <a:lnTo>
                          <a:pt x="131" y="437"/>
                        </a:lnTo>
                        <a:lnTo>
                          <a:pt x="137" y="449"/>
                        </a:lnTo>
                        <a:lnTo>
                          <a:pt x="141" y="460"/>
                        </a:lnTo>
                        <a:lnTo>
                          <a:pt x="145" y="473"/>
                        </a:lnTo>
                        <a:lnTo>
                          <a:pt x="147" y="486"/>
                        </a:lnTo>
                        <a:lnTo>
                          <a:pt x="151" y="499"/>
                        </a:lnTo>
                        <a:lnTo>
                          <a:pt x="153" y="512"/>
                        </a:lnTo>
                        <a:lnTo>
                          <a:pt x="157" y="526"/>
                        </a:lnTo>
                        <a:lnTo>
                          <a:pt x="162" y="538"/>
                        </a:lnTo>
                        <a:lnTo>
                          <a:pt x="171" y="551"/>
                        </a:lnTo>
                        <a:lnTo>
                          <a:pt x="175" y="557"/>
                        </a:lnTo>
                        <a:lnTo>
                          <a:pt x="179" y="564"/>
                        </a:lnTo>
                        <a:lnTo>
                          <a:pt x="184" y="570"/>
                        </a:lnTo>
                        <a:lnTo>
                          <a:pt x="190" y="577"/>
                        </a:lnTo>
                        <a:lnTo>
                          <a:pt x="194" y="582"/>
                        </a:lnTo>
                        <a:lnTo>
                          <a:pt x="200" y="589"/>
                        </a:lnTo>
                        <a:lnTo>
                          <a:pt x="206" y="594"/>
                        </a:lnTo>
                        <a:lnTo>
                          <a:pt x="214" y="599"/>
                        </a:lnTo>
                        <a:lnTo>
                          <a:pt x="203" y="600"/>
                        </a:lnTo>
                        <a:lnTo>
                          <a:pt x="193" y="600"/>
                        </a:lnTo>
                        <a:lnTo>
                          <a:pt x="184" y="599"/>
                        </a:lnTo>
                        <a:lnTo>
                          <a:pt x="175" y="597"/>
                        </a:lnTo>
                        <a:lnTo>
                          <a:pt x="166" y="593"/>
                        </a:lnTo>
                        <a:lnTo>
                          <a:pt x="157" y="590"/>
                        </a:lnTo>
                        <a:lnTo>
                          <a:pt x="148" y="585"/>
                        </a:lnTo>
                        <a:lnTo>
                          <a:pt x="142" y="582"/>
                        </a:lnTo>
                        <a:lnTo>
                          <a:pt x="134" y="570"/>
                        </a:lnTo>
                        <a:lnTo>
                          <a:pt x="127" y="561"/>
                        </a:lnTo>
                        <a:lnTo>
                          <a:pt x="117" y="552"/>
                        </a:lnTo>
                        <a:lnTo>
                          <a:pt x="108" y="550"/>
                        </a:lnTo>
                        <a:lnTo>
                          <a:pt x="104" y="554"/>
                        </a:lnTo>
                        <a:lnTo>
                          <a:pt x="99" y="547"/>
                        </a:lnTo>
                        <a:lnTo>
                          <a:pt x="94" y="541"/>
                        </a:lnTo>
                        <a:lnTo>
                          <a:pt x="87" y="536"/>
                        </a:lnTo>
                        <a:lnTo>
                          <a:pt x="81" y="533"/>
                        </a:lnTo>
                        <a:lnTo>
                          <a:pt x="73" y="528"/>
                        </a:lnTo>
                        <a:lnTo>
                          <a:pt x="67" y="524"/>
                        </a:lnTo>
                        <a:lnTo>
                          <a:pt x="60" y="519"/>
                        </a:lnTo>
                        <a:lnTo>
                          <a:pt x="55" y="513"/>
                        </a:lnTo>
                        <a:lnTo>
                          <a:pt x="49" y="511"/>
                        </a:lnTo>
                        <a:lnTo>
                          <a:pt x="45" y="508"/>
                        </a:lnTo>
                        <a:lnTo>
                          <a:pt x="42" y="504"/>
                        </a:lnTo>
                        <a:lnTo>
                          <a:pt x="40" y="501"/>
                        </a:lnTo>
                        <a:lnTo>
                          <a:pt x="38" y="493"/>
                        </a:lnTo>
                        <a:lnTo>
                          <a:pt x="38" y="487"/>
                        </a:lnTo>
                        <a:lnTo>
                          <a:pt x="36" y="480"/>
                        </a:lnTo>
                        <a:lnTo>
                          <a:pt x="33" y="478"/>
                        </a:lnTo>
                        <a:lnTo>
                          <a:pt x="29" y="472"/>
                        </a:lnTo>
                        <a:lnTo>
                          <a:pt x="28" y="465"/>
                        </a:lnTo>
                        <a:lnTo>
                          <a:pt x="27" y="459"/>
                        </a:lnTo>
                        <a:lnTo>
                          <a:pt x="27" y="452"/>
                        </a:lnTo>
                        <a:lnTo>
                          <a:pt x="25" y="446"/>
                        </a:lnTo>
                        <a:lnTo>
                          <a:pt x="23" y="440"/>
                        </a:lnTo>
                        <a:lnTo>
                          <a:pt x="19" y="436"/>
                        </a:lnTo>
                        <a:lnTo>
                          <a:pt x="13" y="434"/>
                        </a:lnTo>
                        <a:lnTo>
                          <a:pt x="13" y="427"/>
                        </a:lnTo>
                        <a:lnTo>
                          <a:pt x="13" y="420"/>
                        </a:lnTo>
                        <a:lnTo>
                          <a:pt x="13" y="414"/>
                        </a:lnTo>
                        <a:lnTo>
                          <a:pt x="13" y="407"/>
                        </a:lnTo>
                        <a:lnTo>
                          <a:pt x="12" y="401"/>
                        </a:lnTo>
                        <a:lnTo>
                          <a:pt x="10" y="395"/>
                        </a:lnTo>
                        <a:lnTo>
                          <a:pt x="6" y="391"/>
                        </a:lnTo>
                        <a:lnTo>
                          <a:pt x="1" y="388"/>
                        </a:lnTo>
                        <a:lnTo>
                          <a:pt x="0" y="378"/>
                        </a:lnTo>
                        <a:lnTo>
                          <a:pt x="1" y="371"/>
                        </a:lnTo>
                        <a:lnTo>
                          <a:pt x="4" y="362"/>
                        </a:lnTo>
                        <a:lnTo>
                          <a:pt x="7" y="355"/>
                        </a:lnTo>
                        <a:lnTo>
                          <a:pt x="8" y="347"/>
                        </a:lnTo>
                        <a:lnTo>
                          <a:pt x="9" y="340"/>
                        </a:lnTo>
                        <a:lnTo>
                          <a:pt x="9" y="332"/>
                        </a:lnTo>
                        <a:lnTo>
                          <a:pt x="6" y="326"/>
                        </a:lnTo>
                        <a:close/>
                      </a:path>
                    </a:pathLst>
                  </a:cu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56"/>
                  <p:cNvSpPr/>
                  <p:nvPr/>
                </p:nvSpPr>
                <p:spPr>
                  <a:xfrm>
                    <a:off x="4491000" y="1190520"/>
                    <a:ext cx="100080" cy="4140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316" h="131">
                        <a:moveTo>
                          <a:pt x="4" y="0"/>
                        </a:moveTo>
                        <a:lnTo>
                          <a:pt x="17" y="10"/>
                        </a:lnTo>
                        <a:lnTo>
                          <a:pt x="31" y="19"/>
                        </a:lnTo>
                        <a:lnTo>
                          <a:pt x="46" y="27"/>
                        </a:lnTo>
                        <a:lnTo>
                          <a:pt x="62" y="34"/>
                        </a:lnTo>
                        <a:lnTo>
                          <a:pt x="77" y="39"/>
                        </a:lnTo>
                        <a:lnTo>
                          <a:pt x="94" y="42"/>
                        </a:lnTo>
                        <a:lnTo>
                          <a:pt x="110" y="41"/>
                        </a:lnTo>
                        <a:lnTo>
                          <a:pt x="129" y="36"/>
                        </a:lnTo>
                        <a:lnTo>
                          <a:pt x="138" y="39"/>
                        </a:lnTo>
                        <a:lnTo>
                          <a:pt x="149" y="42"/>
                        </a:lnTo>
                        <a:lnTo>
                          <a:pt x="158" y="44"/>
                        </a:lnTo>
                        <a:lnTo>
                          <a:pt x="170" y="45"/>
                        </a:lnTo>
                        <a:lnTo>
                          <a:pt x="180" y="44"/>
                        </a:lnTo>
                        <a:lnTo>
                          <a:pt x="191" y="44"/>
                        </a:lnTo>
                        <a:lnTo>
                          <a:pt x="200" y="43"/>
                        </a:lnTo>
                        <a:lnTo>
                          <a:pt x="211" y="41"/>
                        </a:lnTo>
                        <a:lnTo>
                          <a:pt x="221" y="44"/>
                        </a:lnTo>
                        <a:lnTo>
                          <a:pt x="232" y="47"/>
                        </a:lnTo>
                        <a:lnTo>
                          <a:pt x="244" y="49"/>
                        </a:lnTo>
                        <a:lnTo>
                          <a:pt x="256" y="50"/>
                        </a:lnTo>
                        <a:lnTo>
                          <a:pt x="267" y="49"/>
                        </a:lnTo>
                        <a:lnTo>
                          <a:pt x="278" y="47"/>
                        </a:lnTo>
                        <a:lnTo>
                          <a:pt x="289" y="44"/>
                        </a:lnTo>
                        <a:lnTo>
                          <a:pt x="301" y="40"/>
                        </a:lnTo>
                        <a:lnTo>
                          <a:pt x="304" y="47"/>
                        </a:lnTo>
                        <a:lnTo>
                          <a:pt x="308" y="55"/>
                        </a:lnTo>
                        <a:lnTo>
                          <a:pt x="311" y="61"/>
                        </a:lnTo>
                        <a:lnTo>
                          <a:pt x="314" y="70"/>
                        </a:lnTo>
                        <a:lnTo>
                          <a:pt x="315" y="76"/>
                        </a:lnTo>
                        <a:lnTo>
                          <a:pt x="316" y="86"/>
                        </a:lnTo>
                        <a:lnTo>
                          <a:pt x="316" y="94"/>
                        </a:lnTo>
                        <a:lnTo>
                          <a:pt x="315" y="105"/>
                        </a:lnTo>
                        <a:lnTo>
                          <a:pt x="311" y="112"/>
                        </a:lnTo>
                        <a:lnTo>
                          <a:pt x="307" y="115"/>
                        </a:lnTo>
                        <a:lnTo>
                          <a:pt x="302" y="115"/>
                        </a:lnTo>
                        <a:lnTo>
                          <a:pt x="298" y="116"/>
                        </a:lnTo>
                        <a:lnTo>
                          <a:pt x="292" y="115"/>
                        </a:lnTo>
                        <a:lnTo>
                          <a:pt x="288" y="116"/>
                        </a:lnTo>
                        <a:lnTo>
                          <a:pt x="284" y="119"/>
                        </a:lnTo>
                        <a:lnTo>
                          <a:pt x="282" y="125"/>
                        </a:lnTo>
                        <a:lnTo>
                          <a:pt x="273" y="122"/>
                        </a:lnTo>
                        <a:lnTo>
                          <a:pt x="266" y="122"/>
                        </a:lnTo>
                        <a:lnTo>
                          <a:pt x="257" y="123"/>
                        </a:lnTo>
                        <a:lnTo>
                          <a:pt x="250" y="127"/>
                        </a:lnTo>
                        <a:lnTo>
                          <a:pt x="241" y="128"/>
                        </a:lnTo>
                        <a:lnTo>
                          <a:pt x="233" y="129"/>
                        </a:lnTo>
                        <a:lnTo>
                          <a:pt x="225" y="128"/>
                        </a:lnTo>
                        <a:lnTo>
                          <a:pt x="217" y="125"/>
                        </a:lnTo>
                        <a:lnTo>
                          <a:pt x="212" y="128"/>
                        </a:lnTo>
                        <a:lnTo>
                          <a:pt x="207" y="130"/>
                        </a:lnTo>
                        <a:lnTo>
                          <a:pt x="201" y="130"/>
                        </a:lnTo>
                        <a:lnTo>
                          <a:pt x="196" y="131"/>
                        </a:lnTo>
                        <a:lnTo>
                          <a:pt x="188" y="125"/>
                        </a:lnTo>
                        <a:lnTo>
                          <a:pt x="181" y="123"/>
                        </a:lnTo>
                        <a:lnTo>
                          <a:pt x="172" y="122"/>
                        </a:lnTo>
                        <a:lnTo>
                          <a:pt x="165" y="122"/>
                        </a:lnTo>
                        <a:lnTo>
                          <a:pt x="156" y="121"/>
                        </a:lnTo>
                        <a:lnTo>
                          <a:pt x="149" y="121"/>
                        </a:lnTo>
                        <a:lnTo>
                          <a:pt x="141" y="119"/>
                        </a:lnTo>
                        <a:lnTo>
                          <a:pt x="135" y="115"/>
                        </a:lnTo>
                        <a:lnTo>
                          <a:pt x="119" y="115"/>
                        </a:lnTo>
                        <a:lnTo>
                          <a:pt x="104" y="113"/>
                        </a:lnTo>
                        <a:lnTo>
                          <a:pt x="89" y="109"/>
                        </a:lnTo>
                        <a:lnTo>
                          <a:pt x="76" y="105"/>
                        </a:lnTo>
                        <a:lnTo>
                          <a:pt x="63" y="98"/>
                        </a:lnTo>
                        <a:lnTo>
                          <a:pt x="50" y="90"/>
                        </a:lnTo>
                        <a:lnTo>
                          <a:pt x="38" y="81"/>
                        </a:lnTo>
                        <a:lnTo>
                          <a:pt x="28" y="73"/>
                        </a:lnTo>
                        <a:lnTo>
                          <a:pt x="0" y="31"/>
                        </a:lnTo>
                        <a:lnTo>
                          <a:pt x="3" y="24"/>
                        </a:lnTo>
                        <a:lnTo>
                          <a:pt x="3" y="16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57"/>
                  <p:cNvSpPr/>
                  <p:nvPr/>
                </p:nvSpPr>
                <p:spPr>
                  <a:xfrm>
                    <a:off x="4506840" y="1087560"/>
                    <a:ext cx="108000" cy="11124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341" h="350">
                        <a:moveTo>
                          <a:pt x="13" y="111"/>
                        </a:moveTo>
                        <a:lnTo>
                          <a:pt x="17" y="102"/>
                        </a:lnTo>
                        <a:lnTo>
                          <a:pt x="19" y="93"/>
                        </a:lnTo>
                        <a:lnTo>
                          <a:pt x="24" y="91"/>
                        </a:lnTo>
                        <a:lnTo>
                          <a:pt x="29" y="88"/>
                        </a:lnTo>
                        <a:lnTo>
                          <a:pt x="29" y="82"/>
                        </a:lnTo>
                        <a:lnTo>
                          <a:pt x="37" y="84"/>
                        </a:lnTo>
                        <a:lnTo>
                          <a:pt x="38" y="77"/>
                        </a:lnTo>
                        <a:lnTo>
                          <a:pt x="39" y="72"/>
                        </a:lnTo>
                        <a:lnTo>
                          <a:pt x="40" y="66"/>
                        </a:lnTo>
                        <a:lnTo>
                          <a:pt x="44" y="63"/>
                        </a:lnTo>
                        <a:lnTo>
                          <a:pt x="52" y="63"/>
                        </a:lnTo>
                        <a:lnTo>
                          <a:pt x="57" y="57"/>
                        </a:lnTo>
                        <a:lnTo>
                          <a:pt x="57" y="51"/>
                        </a:lnTo>
                        <a:lnTo>
                          <a:pt x="60" y="45"/>
                        </a:lnTo>
                        <a:lnTo>
                          <a:pt x="66" y="37"/>
                        </a:lnTo>
                        <a:lnTo>
                          <a:pt x="71" y="34"/>
                        </a:lnTo>
                        <a:lnTo>
                          <a:pt x="72" y="37"/>
                        </a:lnTo>
                        <a:lnTo>
                          <a:pt x="76" y="42"/>
                        </a:lnTo>
                        <a:lnTo>
                          <a:pt x="81" y="36"/>
                        </a:lnTo>
                        <a:lnTo>
                          <a:pt x="82" y="31"/>
                        </a:lnTo>
                        <a:lnTo>
                          <a:pt x="82" y="24"/>
                        </a:lnTo>
                        <a:lnTo>
                          <a:pt x="88" y="22"/>
                        </a:lnTo>
                        <a:lnTo>
                          <a:pt x="90" y="24"/>
                        </a:lnTo>
                        <a:lnTo>
                          <a:pt x="93" y="24"/>
                        </a:lnTo>
                        <a:lnTo>
                          <a:pt x="100" y="17"/>
                        </a:lnTo>
                        <a:lnTo>
                          <a:pt x="101" y="21"/>
                        </a:lnTo>
                        <a:lnTo>
                          <a:pt x="105" y="26"/>
                        </a:lnTo>
                        <a:lnTo>
                          <a:pt x="109" y="22"/>
                        </a:lnTo>
                        <a:lnTo>
                          <a:pt x="116" y="19"/>
                        </a:lnTo>
                        <a:lnTo>
                          <a:pt x="122" y="16"/>
                        </a:lnTo>
                        <a:lnTo>
                          <a:pt x="129" y="14"/>
                        </a:lnTo>
                        <a:lnTo>
                          <a:pt x="134" y="9"/>
                        </a:lnTo>
                        <a:lnTo>
                          <a:pt x="140" y="6"/>
                        </a:lnTo>
                        <a:lnTo>
                          <a:pt x="144" y="3"/>
                        </a:lnTo>
                        <a:lnTo>
                          <a:pt x="148" y="0"/>
                        </a:lnTo>
                        <a:lnTo>
                          <a:pt x="152" y="11"/>
                        </a:lnTo>
                        <a:lnTo>
                          <a:pt x="161" y="8"/>
                        </a:lnTo>
                        <a:lnTo>
                          <a:pt x="171" y="7"/>
                        </a:lnTo>
                        <a:lnTo>
                          <a:pt x="180" y="6"/>
                        </a:lnTo>
                        <a:lnTo>
                          <a:pt x="190" y="6"/>
                        </a:lnTo>
                        <a:lnTo>
                          <a:pt x="200" y="6"/>
                        </a:lnTo>
                        <a:lnTo>
                          <a:pt x="209" y="8"/>
                        </a:lnTo>
                        <a:lnTo>
                          <a:pt x="219" y="12"/>
                        </a:lnTo>
                        <a:lnTo>
                          <a:pt x="229" y="17"/>
                        </a:lnTo>
                        <a:lnTo>
                          <a:pt x="226" y="20"/>
                        </a:lnTo>
                        <a:lnTo>
                          <a:pt x="230" y="23"/>
                        </a:lnTo>
                        <a:lnTo>
                          <a:pt x="234" y="26"/>
                        </a:lnTo>
                        <a:lnTo>
                          <a:pt x="238" y="28"/>
                        </a:lnTo>
                        <a:lnTo>
                          <a:pt x="241" y="27"/>
                        </a:lnTo>
                        <a:lnTo>
                          <a:pt x="247" y="28"/>
                        </a:lnTo>
                        <a:lnTo>
                          <a:pt x="251" y="27"/>
                        </a:lnTo>
                        <a:lnTo>
                          <a:pt x="254" y="24"/>
                        </a:lnTo>
                        <a:lnTo>
                          <a:pt x="260" y="30"/>
                        </a:lnTo>
                        <a:lnTo>
                          <a:pt x="265" y="36"/>
                        </a:lnTo>
                        <a:lnTo>
                          <a:pt x="269" y="43"/>
                        </a:lnTo>
                        <a:lnTo>
                          <a:pt x="278" y="48"/>
                        </a:lnTo>
                        <a:lnTo>
                          <a:pt x="289" y="49"/>
                        </a:lnTo>
                        <a:lnTo>
                          <a:pt x="300" y="48"/>
                        </a:lnTo>
                        <a:lnTo>
                          <a:pt x="305" y="52"/>
                        </a:lnTo>
                        <a:lnTo>
                          <a:pt x="311" y="56"/>
                        </a:lnTo>
                        <a:lnTo>
                          <a:pt x="318" y="57"/>
                        </a:lnTo>
                        <a:lnTo>
                          <a:pt x="326" y="59"/>
                        </a:lnTo>
                        <a:lnTo>
                          <a:pt x="335" y="82"/>
                        </a:lnTo>
                        <a:lnTo>
                          <a:pt x="340" y="108"/>
                        </a:lnTo>
                        <a:lnTo>
                          <a:pt x="341" y="133"/>
                        </a:lnTo>
                        <a:lnTo>
                          <a:pt x="340" y="159"/>
                        </a:lnTo>
                        <a:lnTo>
                          <a:pt x="336" y="183"/>
                        </a:lnTo>
                        <a:lnTo>
                          <a:pt x="331" y="209"/>
                        </a:lnTo>
                        <a:lnTo>
                          <a:pt x="326" y="233"/>
                        </a:lnTo>
                        <a:lnTo>
                          <a:pt x="323" y="257"/>
                        </a:lnTo>
                        <a:lnTo>
                          <a:pt x="320" y="264"/>
                        </a:lnTo>
                        <a:lnTo>
                          <a:pt x="314" y="272"/>
                        </a:lnTo>
                        <a:lnTo>
                          <a:pt x="308" y="280"/>
                        </a:lnTo>
                        <a:lnTo>
                          <a:pt x="303" y="287"/>
                        </a:lnTo>
                        <a:lnTo>
                          <a:pt x="295" y="293"/>
                        </a:lnTo>
                        <a:lnTo>
                          <a:pt x="286" y="298"/>
                        </a:lnTo>
                        <a:lnTo>
                          <a:pt x="278" y="302"/>
                        </a:lnTo>
                        <a:lnTo>
                          <a:pt x="270" y="308"/>
                        </a:lnTo>
                        <a:lnTo>
                          <a:pt x="261" y="311"/>
                        </a:lnTo>
                        <a:lnTo>
                          <a:pt x="254" y="317"/>
                        </a:lnTo>
                        <a:lnTo>
                          <a:pt x="249" y="325"/>
                        </a:lnTo>
                        <a:lnTo>
                          <a:pt x="247" y="337"/>
                        </a:lnTo>
                        <a:lnTo>
                          <a:pt x="232" y="344"/>
                        </a:lnTo>
                        <a:lnTo>
                          <a:pt x="217" y="349"/>
                        </a:lnTo>
                        <a:lnTo>
                          <a:pt x="201" y="350"/>
                        </a:lnTo>
                        <a:lnTo>
                          <a:pt x="186" y="349"/>
                        </a:lnTo>
                        <a:lnTo>
                          <a:pt x="168" y="345"/>
                        </a:lnTo>
                        <a:lnTo>
                          <a:pt x="152" y="343"/>
                        </a:lnTo>
                        <a:lnTo>
                          <a:pt x="135" y="343"/>
                        </a:lnTo>
                        <a:lnTo>
                          <a:pt x="118" y="346"/>
                        </a:lnTo>
                        <a:lnTo>
                          <a:pt x="108" y="345"/>
                        </a:lnTo>
                        <a:lnTo>
                          <a:pt x="100" y="344"/>
                        </a:lnTo>
                        <a:lnTo>
                          <a:pt x="91" y="342"/>
                        </a:lnTo>
                        <a:lnTo>
                          <a:pt x="84" y="340"/>
                        </a:lnTo>
                        <a:lnTo>
                          <a:pt x="75" y="336"/>
                        </a:lnTo>
                        <a:lnTo>
                          <a:pt x="68" y="332"/>
                        </a:lnTo>
                        <a:lnTo>
                          <a:pt x="60" y="329"/>
                        </a:lnTo>
                        <a:lnTo>
                          <a:pt x="54" y="326"/>
                        </a:lnTo>
                        <a:lnTo>
                          <a:pt x="45" y="314"/>
                        </a:lnTo>
                        <a:lnTo>
                          <a:pt x="37" y="304"/>
                        </a:lnTo>
                        <a:lnTo>
                          <a:pt x="28" y="292"/>
                        </a:lnTo>
                        <a:lnTo>
                          <a:pt x="20" y="281"/>
                        </a:lnTo>
                        <a:lnTo>
                          <a:pt x="12" y="268"/>
                        </a:lnTo>
                        <a:lnTo>
                          <a:pt x="7" y="256"/>
                        </a:lnTo>
                        <a:lnTo>
                          <a:pt x="3" y="243"/>
                        </a:lnTo>
                        <a:lnTo>
                          <a:pt x="3" y="231"/>
                        </a:lnTo>
                        <a:lnTo>
                          <a:pt x="12" y="227"/>
                        </a:lnTo>
                        <a:lnTo>
                          <a:pt x="23" y="228"/>
                        </a:lnTo>
                        <a:lnTo>
                          <a:pt x="23" y="221"/>
                        </a:lnTo>
                        <a:lnTo>
                          <a:pt x="19" y="214"/>
                        </a:lnTo>
                        <a:lnTo>
                          <a:pt x="14" y="208"/>
                        </a:lnTo>
                        <a:lnTo>
                          <a:pt x="13" y="202"/>
                        </a:lnTo>
                        <a:lnTo>
                          <a:pt x="10" y="193"/>
                        </a:lnTo>
                        <a:lnTo>
                          <a:pt x="7" y="185"/>
                        </a:lnTo>
                        <a:lnTo>
                          <a:pt x="3" y="177"/>
                        </a:lnTo>
                        <a:lnTo>
                          <a:pt x="2" y="168"/>
                        </a:lnTo>
                        <a:lnTo>
                          <a:pt x="0" y="160"/>
                        </a:lnTo>
                        <a:lnTo>
                          <a:pt x="0" y="152"/>
                        </a:lnTo>
                        <a:lnTo>
                          <a:pt x="0" y="145"/>
                        </a:lnTo>
                        <a:lnTo>
                          <a:pt x="3" y="139"/>
                        </a:lnTo>
                        <a:lnTo>
                          <a:pt x="3" y="132"/>
                        </a:lnTo>
                        <a:lnTo>
                          <a:pt x="7" y="125"/>
                        </a:lnTo>
                        <a:lnTo>
                          <a:pt x="9" y="118"/>
                        </a:lnTo>
                        <a:lnTo>
                          <a:pt x="13" y="111"/>
                        </a:lnTo>
                        <a:close/>
                      </a:path>
                    </a:pathLst>
                  </a:custGeom>
                  <a:solidFill>
                    <a:srgbClr val="ffe3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58"/>
                  <p:cNvSpPr/>
                  <p:nvPr/>
                </p:nvSpPr>
                <p:spPr>
                  <a:xfrm>
                    <a:off x="4527720" y="1111320"/>
                    <a:ext cx="14040" cy="1440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5" h="42">
                        <a:moveTo>
                          <a:pt x="32" y="0"/>
                        </a:moveTo>
                        <a:lnTo>
                          <a:pt x="45" y="3"/>
                        </a:lnTo>
                        <a:lnTo>
                          <a:pt x="42" y="6"/>
                        </a:lnTo>
                        <a:lnTo>
                          <a:pt x="38" y="9"/>
                        </a:lnTo>
                        <a:lnTo>
                          <a:pt x="33" y="10"/>
                        </a:lnTo>
                        <a:lnTo>
                          <a:pt x="29" y="14"/>
                        </a:lnTo>
                        <a:lnTo>
                          <a:pt x="22" y="21"/>
                        </a:lnTo>
                        <a:lnTo>
                          <a:pt x="18" y="29"/>
                        </a:lnTo>
                        <a:lnTo>
                          <a:pt x="11" y="35"/>
                        </a:lnTo>
                        <a:lnTo>
                          <a:pt x="4" y="42"/>
                        </a:lnTo>
                        <a:lnTo>
                          <a:pt x="0" y="35"/>
                        </a:lnTo>
                        <a:lnTo>
                          <a:pt x="7" y="25"/>
                        </a:lnTo>
                        <a:lnTo>
                          <a:pt x="14" y="16"/>
                        </a:lnTo>
                        <a:lnTo>
                          <a:pt x="22" y="8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59"/>
                  <p:cNvSpPr/>
                  <p:nvPr/>
                </p:nvSpPr>
                <p:spPr>
                  <a:xfrm>
                    <a:off x="4529160" y="1125720"/>
                    <a:ext cx="30240" cy="205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w="95" h="67">
                        <a:moveTo>
                          <a:pt x="61" y="3"/>
                        </a:moveTo>
                        <a:lnTo>
                          <a:pt x="67" y="0"/>
                        </a:lnTo>
                        <a:lnTo>
                          <a:pt x="74" y="2"/>
                        </a:lnTo>
                        <a:lnTo>
                          <a:pt x="79" y="4"/>
                        </a:lnTo>
                        <a:lnTo>
                          <a:pt x="84" y="10"/>
                        </a:lnTo>
                        <a:lnTo>
                          <a:pt x="90" y="18"/>
                        </a:lnTo>
                        <a:lnTo>
                          <a:pt x="94" y="30"/>
                        </a:lnTo>
                        <a:lnTo>
                          <a:pt x="95" y="41"/>
                        </a:lnTo>
                        <a:lnTo>
                          <a:pt x="92" y="52"/>
                        </a:lnTo>
                        <a:lnTo>
                          <a:pt x="81" y="59"/>
                        </a:lnTo>
                        <a:lnTo>
                          <a:pt x="70" y="63"/>
                        </a:lnTo>
                        <a:lnTo>
                          <a:pt x="59" y="65"/>
                        </a:lnTo>
                        <a:lnTo>
                          <a:pt x="47" y="67"/>
                        </a:lnTo>
                        <a:lnTo>
                          <a:pt x="34" y="66"/>
                        </a:lnTo>
                        <a:lnTo>
                          <a:pt x="21" y="65"/>
                        </a:lnTo>
                        <a:lnTo>
                          <a:pt x="9" y="63"/>
                        </a:lnTo>
                        <a:lnTo>
                          <a:pt x="0" y="61"/>
                        </a:lnTo>
                        <a:lnTo>
                          <a:pt x="3" y="50"/>
                        </a:lnTo>
                        <a:lnTo>
                          <a:pt x="9" y="42"/>
                        </a:lnTo>
                        <a:lnTo>
                          <a:pt x="16" y="33"/>
                        </a:lnTo>
                        <a:lnTo>
                          <a:pt x="24" y="27"/>
                        </a:lnTo>
                        <a:lnTo>
                          <a:pt x="32" y="20"/>
                        </a:lnTo>
                        <a:lnTo>
                          <a:pt x="41" y="14"/>
                        </a:lnTo>
                        <a:lnTo>
                          <a:pt x="51" y="8"/>
                        </a:lnTo>
                        <a:lnTo>
                          <a:pt x="6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60"/>
                  <p:cNvSpPr/>
                  <p:nvPr/>
                </p:nvSpPr>
                <p:spPr>
                  <a:xfrm>
                    <a:off x="4532400" y="1135080"/>
                    <a:ext cx="7920" cy="97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25" h="27">
                        <a:moveTo>
                          <a:pt x="25" y="0"/>
                        </a:moveTo>
                        <a:lnTo>
                          <a:pt x="22" y="6"/>
                        </a:lnTo>
                        <a:lnTo>
                          <a:pt x="20" y="13"/>
                        </a:lnTo>
                        <a:lnTo>
                          <a:pt x="19" y="19"/>
                        </a:lnTo>
                        <a:lnTo>
                          <a:pt x="22" y="27"/>
                        </a:lnTo>
                        <a:lnTo>
                          <a:pt x="0" y="25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61"/>
                  <p:cNvSpPr/>
                  <p:nvPr/>
                </p:nvSpPr>
                <p:spPr>
                  <a:xfrm>
                    <a:off x="4537080" y="1166760"/>
                    <a:ext cx="65160" cy="158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08" h="50">
                        <a:moveTo>
                          <a:pt x="35" y="6"/>
                        </a:moveTo>
                        <a:lnTo>
                          <a:pt x="36" y="10"/>
                        </a:lnTo>
                        <a:lnTo>
                          <a:pt x="35" y="16"/>
                        </a:lnTo>
                        <a:lnTo>
                          <a:pt x="26" y="23"/>
                        </a:lnTo>
                        <a:lnTo>
                          <a:pt x="46" y="32"/>
                        </a:lnTo>
                        <a:lnTo>
                          <a:pt x="69" y="37"/>
                        </a:lnTo>
                        <a:lnTo>
                          <a:pt x="93" y="39"/>
                        </a:lnTo>
                        <a:lnTo>
                          <a:pt x="116" y="38"/>
                        </a:lnTo>
                        <a:lnTo>
                          <a:pt x="138" y="33"/>
                        </a:lnTo>
                        <a:lnTo>
                          <a:pt x="159" y="25"/>
                        </a:lnTo>
                        <a:lnTo>
                          <a:pt x="179" y="14"/>
                        </a:lnTo>
                        <a:lnTo>
                          <a:pt x="200" y="0"/>
                        </a:lnTo>
                        <a:lnTo>
                          <a:pt x="204" y="0"/>
                        </a:lnTo>
                        <a:lnTo>
                          <a:pt x="208" y="2"/>
                        </a:lnTo>
                        <a:lnTo>
                          <a:pt x="197" y="10"/>
                        </a:lnTo>
                        <a:lnTo>
                          <a:pt x="186" y="19"/>
                        </a:lnTo>
                        <a:lnTo>
                          <a:pt x="174" y="27"/>
                        </a:lnTo>
                        <a:lnTo>
                          <a:pt x="163" y="34"/>
                        </a:lnTo>
                        <a:lnTo>
                          <a:pt x="149" y="39"/>
                        </a:lnTo>
                        <a:lnTo>
                          <a:pt x="137" y="44"/>
                        </a:lnTo>
                        <a:lnTo>
                          <a:pt x="123" y="47"/>
                        </a:lnTo>
                        <a:lnTo>
                          <a:pt x="109" y="49"/>
                        </a:lnTo>
                        <a:lnTo>
                          <a:pt x="96" y="49"/>
                        </a:lnTo>
                        <a:lnTo>
                          <a:pt x="83" y="50"/>
                        </a:lnTo>
                        <a:lnTo>
                          <a:pt x="70" y="49"/>
                        </a:lnTo>
                        <a:lnTo>
                          <a:pt x="58" y="48"/>
                        </a:lnTo>
                        <a:lnTo>
                          <a:pt x="45" y="45"/>
                        </a:lnTo>
                        <a:lnTo>
                          <a:pt x="35" y="42"/>
                        </a:lnTo>
                        <a:lnTo>
                          <a:pt x="24" y="36"/>
                        </a:lnTo>
                        <a:lnTo>
                          <a:pt x="14" y="31"/>
                        </a:lnTo>
                        <a:lnTo>
                          <a:pt x="8" y="37"/>
                        </a:lnTo>
                        <a:lnTo>
                          <a:pt x="0" y="37"/>
                        </a:lnTo>
                        <a:lnTo>
                          <a:pt x="1" y="31"/>
                        </a:lnTo>
                        <a:lnTo>
                          <a:pt x="6" y="27"/>
                        </a:lnTo>
                        <a:lnTo>
                          <a:pt x="9" y="22"/>
                        </a:lnTo>
                        <a:lnTo>
                          <a:pt x="14" y="19"/>
                        </a:lnTo>
                        <a:lnTo>
                          <a:pt x="24" y="13"/>
                        </a:lnTo>
                        <a:lnTo>
                          <a:pt x="35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2"/>
                  <p:cNvSpPr/>
                  <p:nvPr/>
                </p:nvSpPr>
                <p:spPr>
                  <a:xfrm>
                    <a:off x="4545000" y="1130400"/>
                    <a:ext cx="9720" cy="126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33" h="42">
                        <a:moveTo>
                          <a:pt x="26" y="6"/>
                        </a:moveTo>
                        <a:lnTo>
                          <a:pt x="29" y="12"/>
                        </a:lnTo>
                        <a:lnTo>
                          <a:pt x="32" y="18"/>
                        </a:lnTo>
                        <a:lnTo>
                          <a:pt x="33" y="25"/>
                        </a:lnTo>
                        <a:lnTo>
                          <a:pt x="32" y="31"/>
                        </a:lnTo>
                        <a:lnTo>
                          <a:pt x="27" y="35"/>
                        </a:lnTo>
                        <a:lnTo>
                          <a:pt x="23" y="40"/>
                        </a:lnTo>
                        <a:lnTo>
                          <a:pt x="16" y="42"/>
                        </a:lnTo>
                        <a:lnTo>
                          <a:pt x="10" y="42"/>
                        </a:lnTo>
                        <a:lnTo>
                          <a:pt x="13" y="34"/>
                        </a:lnTo>
                        <a:lnTo>
                          <a:pt x="12" y="26"/>
                        </a:lnTo>
                        <a:lnTo>
                          <a:pt x="9" y="17"/>
                        </a:lnTo>
                        <a:lnTo>
                          <a:pt x="5" y="11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6" y="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3"/>
                  <p:cNvSpPr/>
                  <p:nvPr/>
                </p:nvSpPr>
                <p:spPr>
                  <a:xfrm>
                    <a:off x="4548240" y="1316160"/>
                    <a:ext cx="50760" cy="554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5440"/>
                      <a:gd name="textAreaBottom" fmla="*/ 55800 h 55440"/>
                    </a:gdLst>
                    <a:ahLst/>
                    <a:rect l="textAreaLeft" t="textAreaTop" r="textAreaRight" b="textAreaBottom"/>
                    <a:pathLst>
                      <a:path w="160" h="173">
                        <a:moveTo>
                          <a:pt x="62" y="35"/>
                        </a:moveTo>
                        <a:lnTo>
                          <a:pt x="71" y="27"/>
                        </a:lnTo>
                        <a:lnTo>
                          <a:pt x="80" y="20"/>
                        </a:lnTo>
                        <a:lnTo>
                          <a:pt x="90" y="13"/>
                        </a:lnTo>
                        <a:lnTo>
                          <a:pt x="101" y="6"/>
                        </a:lnTo>
                        <a:lnTo>
                          <a:pt x="107" y="8"/>
                        </a:lnTo>
                        <a:lnTo>
                          <a:pt x="114" y="7"/>
                        </a:lnTo>
                        <a:lnTo>
                          <a:pt x="117" y="1"/>
                        </a:lnTo>
                        <a:lnTo>
                          <a:pt x="122" y="0"/>
                        </a:lnTo>
                        <a:lnTo>
                          <a:pt x="123" y="5"/>
                        </a:lnTo>
                        <a:lnTo>
                          <a:pt x="127" y="8"/>
                        </a:lnTo>
                        <a:lnTo>
                          <a:pt x="133" y="10"/>
                        </a:lnTo>
                        <a:lnTo>
                          <a:pt x="138" y="12"/>
                        </a:lnTo>
                        <a:lnTo>
                          <a:pt x="142" y="13"/>
                        </a:lnTo>
                        <a:lnTo>
                          <a:pt x="147" y="16"/>
                        </a:lnTo>
                        <a:lnTo>
                          <a:pt x="148" y="20"/>
                        </a:lnTo>
                        <a:lnTo>
                          <a:pt x="148" y="28"/>
                        </a:lnTo>
                        <a:lnTo>
                          <a:pt x="160" y="40"/>
                        </a:lnTo>
                        <a:lnTo>
                          <a:pt x="142" y="49"/>
                        </a:lnTo>
                        <a:lnTo>
                          <a:pt x="125" y="62"/>
                        </a:lnTo>
                        <a:lnTo>
                          <a:pt x="109" y="74"/>
                        </a:lnTo>
                        <a:lnTo>
                          <a:pt x="95" y="89"/>
                        </a:lnTo>
                        <a:lnTo>
                          <a:pt x="81" y="104"/>
                        </a:lnTo>
                        <a:lnTo>
                          <a:pt x="71" y="121"/>
                        </a:lnTo>
                        <a:lnTo>
                          <a:pt x="61" y="138"/>
                        </a:lnTo>
                        <a:lnTo>
                          <a:pt x="54" y="159"/>
                        </a:lnTo>
                        <a:lnTo>
                          <a:pt x="49" y="163"/>
                        </a:lnTo>
                        <a:lnTo>
                          <a:pt x="49" y="171"/>
                        </a:lnTo>
                        <a:lnTo>
                          <a:pt x="51" y="173"/>
                        </a:lnTo>
                        <a:lnTo>
                          <a:pt x="42" y="173"/>
                        </a:lnTo>
                        <a:lnTo>
                          <a:pt x="35" y="171"/>
                        </a:lnTo>
                        <a:lnTo>
                          <a:pt x="30" y="165"/>
                        </a:lnTo>
                        <a:lnTo>
                          <a:pt x="27" y="161"/>
                        </a:lnTo>
                        <a:lnTo>
                          <a:pt x="21" y="154"/>
                        </a:lnTo>
                        <a:lnTo>
                          <a:pt x="17" y="150"/>
                        </a:lnTo>
                        <a:lnTo>
                          <a:pt x="10" y="146"/>
                        </a:lnTo>
                        <a:lnTo>
                          <a:pt x="3" y="146"/>
                        </a:lnTo>
                        <a:lnTo>
                          <a:pt x="0" y="137"/>
                        </a:lnTo>
                        <a:lnTo>
                          <a:pt x="0" y="130"/>
                        </a:lnTo>
                        <a:lnTo>
                          <a:pt x="1" y="121"/>
                        </a:lnTo>
                        <a:lnTo>
                          <a:pt x="3" y="115"/>
                        </a:lnTo>
                        <a:lnTo>
                          <a:pt x="8" y="103"/>
                        </a:lnTo>
                        <a:lnTo>
                          <a:pt x="15" y="92"/>
                        </a:lnTo>
                        <a:lnTo>
                          <a:pt x="22" y="83"/>
                        </a:lnTo>
                        <a:lnTo>
                          <a:pt x="30" y="73"/>
                        </a:lnTo>
                        <a:lnTo>
                          <a:pt x="37" y="63"/>
                        </a:lnTo>
                        <a:lnTo>
                          <a:pt x="46" y="54"/>
                        </a:lnTo>
                        <a:lnTo>
                          <a:pt x="53" y="44"/>
                        </a:lnTo>
                        <a:lnTo>
                          <a:pt x="62" y="35"/>
                        </a:lnTo>
                        <a:close/>
                      </a:path>
                    </a:pathLst>
                  </a:cu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64"/>
                  <p:cNvSpPr/>
                  <p:nvPr/>
                </p:nvSpPr>
                <p:spPr>
                  <a:xfrm>
                    <a:off x="4556160" y="1184400"/>
                    <a:ext cx="22320" cy="6120"/>
                  </a:xfrm>
                  <a:custGeom>
                    <a:avLst/>
                    <a:gdLst>
                      <a:gd name="textAreaLeft" fmla="*/ 0 w 22320"/>
                      <a:gd name="textAreaRight" fmla="*/ 22320 w 223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69" h="20">
                        <a:moveTo>
                          <a:pt x="0" y="1"/>
                        </a:moveTo>
                        <a:lnTo>
                          <a:pt x="6" y="1"/>
                        </a:lnTo>
                        <a:lnTo>
                          <a:pt x="15" y="4"/>
                        </a:lnTo>
                        <a:lnTo>
                          <a:pt x="23" y="6"/>
                        </a:lnTo>
                        <a:lnTo>
                          <a:pt x="33" y="8"/>
                        </a:lnTo>
                        <a:lnTo>
                          <a:pt x="41" y="7"/>
                        </a:lnTo>
                        <a:lnTo>
                          <a:pt x="50" y="7"/>
                        </a:lnTo>
                        <a:lnTo>
                          <a:pt x="58" y="4"/>
                        </a:lnTo>
                        <a:lnTo>
                          <a:pt x="65" y="0"/>
                        </a:lnTo>
                        <a:lnTo>
                          <a:pt x="69" y="0"/>
                        </a:lnTo>
                        <a:lnTo>
                          <a:pt x="64" y="5"/>
                        </a:lnTo>
                        <a:lnTo>
                          <a:pt x="59" y="11"/>
                        </a:lnTo>
                        <a:lnTo>
                          <a:pt x="52" y="16"/>
                        </a:lnTo>
                        <a:lnTo>
                          <a:pt x="45" y="20"/>
                        </a:lnTo>
                        <a:lnTo>
                          <a:pt x="38" y="19"/>
                        </a:lnTo>
                        <a:lnTo>
                          <a:pt x="32" y="18"/>
                        </a:lnTo>
                        <a:lnTo>
                          <a:pt x="25" y="17"/>
                        </a:lnTo>
                        <a:lnTo>
                          <a:pt x="20" y="17"/>
                        </a:lnTo>
                        <a:lnTo>
                          <a:pt x="9" y="13"/>
                        </a:lnTo>
                        <a:lnTo>
                          <a:pt x="0" y="9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65"/>
                  <p:cNvSpPr/>
                  <p:nvPr/>
                </p:nvSpPr>
                <p:spPr>
                  <a:xfrm>
                    <a:off x="4559400" y="1263600"/>
                    <a:ext cx="85680" cy="63720"/>
                  </a:xfrm>
                  <a:custGeom>
                    <a:avLst/>
                    <a:gdLst>
                      <a:gd name="textAreaLeft" fmla="*/ 0 w 85680"/>
                      <a:gd name="textAreaRight" fmla="*/ 86040 w 8568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273" h="203">
                        <a:moveTo>
                          <a:pt x="8" y="21"/>
                        </a:moveTo>
                        <a:lnTo>
                          <a:pt x="13" y="20"/>
                        </a:lnTo>
                        <a:lnTo>
                          <a:pt x="18" y="18"/>
                        </a:lnTo>
                        <a:lnTo>
                          <a:pt x="24" y="16"/>
                        </a:lnTo>
                        <a:lnTo>
                          <a:pt x="30" y="13"/>
                        </a:lnTo>
                        <a:lnTo>
                          <a:pt x="40" y="9"/>
                        </a:lnTo>
                        <a:lnTo>
                          <a:pt x="52" y="9"/>
                        </a:lnTo>
                        <a:lnTo>
                          <a:pt x="58" y="7"/>
                        </a:lnTo>
                        <a:lnTo>
                          <a:pt x="66" y="5"/>
                        </a:lnTo>
                        <a:lnTo>
                          <a:pt x="73" y="3"/>
                        </a:lnTo>
                        <a:lnTo>
                          <a:pt x="81" y="3"/>
                        </a:lnTo>
                        <a:lnTo>
                          <a:pt x="87" y="0"/>
                        </a:lnTo>
                        <a:lnTo>
                          <a:pt x="96" y="0"/>
                        </a:lnTo>
                        <a:lnTo>
                          <a:pt x="102" y="0"/>
                        </a:lnTo>
                        <a:lnTo>
                          <a:pt x="111" y="2"/>
                        </a:lnTo>
                        <a:lnTo>
                          <a:pt x="126" y="25"/>
                        </a:lnTo>
                        <a:lnTo>
                          <a:pt x="144" y="50"/>
                        </a:lnTo>
                        <a:lnTo>
                          <a:pt x="162" y="73"/>
                        </a:lnTo>
                        <a:lnTo>
                          <a:pt x="184" y="97"/>
                        </a:lnTo>
                        <a:lnTo>
                          <a:pt x="204" y="119"/>
                        </a:lnTo>
                        <a:lnTo>
                          <a:pt x="226" y="141"/>
                        </a:lnTo>
                        <a:lnTo>
                          <a:pt x="249" y="164"/>
                        </a:lnTo>
                        <a:lnTo>
                          <a:pt x="273" y="186"/>
                        </a:lnTo>
                        <a:lnTo>
                          <a:pt x="255" y="181"/>
                        </a:lnTo>
                        <a:lnTo>
                          <a:pt x="239" y="179"/>
                        </a:lnTo>
                        <a:lnTo>
                          <a:pt x="221" y="178"/>
                        </a:lnTo>
                        <a:lnTo>
                          <a:pt x="204" y="180"/>
                        </a:lnTo>
                        <a:lnTo>
                          <a:pt x="186" y="182"/>
                        </a:lnTo>
                        <a:lnTo>
                          <a:pt x="170" y="187"/>
                        </a:lnTo>
                        <a:lnTo>
                          <a:pt x="153" y="194"/>
                        </a:lnTo>
                        <a:lnTo>
                          <a:pt x="140" y="203"/>
                        </a:lnTo>
                        <a:lnTo>
                          <a:pt x="134" y="196"/>
                        </a:lnTo>
                        <a:lnTo>
                          <a:pt x="129" y="189"/>
                        </a:lnTo>
                        <a:lnTo>
                          <a:pt x="125" y="181"/>
                        </a:lnTo>
                        <a:lnTo>
                          <a:pt x="122" y="172"/>
                        </a:lnTo>
                        <a:lnTo>
                          <a:pt x="117" y="166"/>
                        </a:lnTo>
                        <a:lnTo>
                          <a:pt x="111" y="166"/>
                        </a:lnTo>
                        <a:lnTo>
                          <a:pt x="104" y="165"/>
                        </a:lnTo>
                        <a:lnTo>
                          <a:pt x="103" y="158"/>
                        </a:lnTo>
                        <a:lnTo>
                          <a:pt x="97" y="153"/>
                        </a:lnTo>
                        <a:lnTo>
                          <a:pt x="90" y="152"/>
                        </a:lnTo>
                        <a:lnTo>
                          <a:pt x="84" y="151"/>
                        </a:lnTo>
                        <a:lnTo>
                          <a:pt x="78" y="152"/>
                        </a:lnTo>
                        <a:lnTo>
                          <a:pt x="76" y="154"/>
                        </a:lnTo>
                        <a:lnTo>
                          <a:pt x="60" y="140"/>
                        </a:lnTo>
                        <a:lnTo>
                          <a:pt x="45" y="126"/>
                        </a:lnTo>
                        <a:lnTo>
                          <a:pt x="30" y="110"/>
                        </a:lnTo>
                        <a:lnTo>
                          <a:pt x="17" y="95"/>
                        </a:lnTo>
                        <a:lnTo>
                          <a:pt x="5" y="77"/>
                        </a:lnTo>
                        <a:lnTo>
                          <a:pt x="0" y="60"/>
                        </a:lnTo>
                        <a:lnTo>
                          <a:pt x="0" y="40"/>
                        </a:lnTo>
                        <a:lnTo>
                          <a:pt x="8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6"/>
                  <p:cNvSpPr/>
                  <p:nvPr/>
                </p:nvSpPr>
                <p:spPr>
                  <a:xfrm>
                    <a:off x="4562640" y="1152720"/>
                    <a:ext cx="23760" cy="1116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77" h="31">
                        <a:moveTo>
                          <a:pt x="0" y="25"/>
                        </a:moveTo>
                        <a:lnTo>
                          <a:pt x="8" y="21"/>
                        </a:lnTo>
                        <a:lnTo>
                          <a:pt x="18" y="19"/>
                        </a:lnTo>
                        <a:lnTo>
                          <a:pt x="28" y="16"/>
                        </a:lnTo>
                        <a:lnTo>
                          <a:pt x="37" y="15"/>
                        </a:lnTo>
                        <a:lnTo>
                          <a:pt x="46" y="12"/>
                        </a:lnTo>
                        <a:lnTo>
                          <a:pt x="54" y="8"/>
                        </a:lnTo>
                        <a:lnTo>
                          <a:pt x="63" y="4"/>
                        </a:lnTo>
                        <a:lnTo>
                          <a:pt x="73" y="0"/>
                        </a:lnTo>
                        <a:lnTo>
                          <a:pt x="77" y="2"/>
                        </a:lnTo>
                        <a:lnTo>
                          <a:pt x="74" y="11"/>
                        </a:lnTo>
                        <a:lnTo>
                          <a:pt x="66" y="16"/>
                        </a:lnTo>
                        <a:lnTo>
                          <a:pt x="58" y="19"/>
                        </a:lnTo>
                        <a:lnTo>
                          <a:pt x="50" y="25"/>
                        </a:lnTo>
                        <a:lnTo>
                          <a:pt x="43" y="25"/>
                        </a:lnTo>
                        <a:lnTo>
                          <a:pt x="36" y="27"/>
                        </a:lnTo>
                        <a:lnTo>
                          <a:pt x="30" y="28"/>
                        </a:lnTo>
                        <a:lnTo>
                          <a:pt x="23" y="30"/>
                        </a:lnTo>
                        <a:lnTo>
                          <a:pt x="17" y="30"/>
                        </a:lnTo>
                        <a:lnTo>
                          <a:pt x="10" y="31"/>
                        </a:lnTo>
                        <a:lnTo>
                          <a:pt x="4" y="30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67"/>
                  <p:cNvSpPr/>
                  <p:nvPr/>
                </p:nvSpPr>
                <p:spPr>
                  <a:xfrm>
                    <a:off x="4570560" y="1325520"/>
                    <a:ext cx="85680" cy="79560"/>
                  </a:xfrm>
                  <a:custGeom>
                    <a:avLst/>
                    <a:gdLst>
                      <a:gd name="textAreaLeft" fmla="*/ 0 w 85680"/>
                      <a:gd name="textAreaRight" fmla="*/ 86040 w 8568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70" h="252">
                        <a:moveTo>
                          <a:pt x="92" y="32"/>
                        </a:moveTo>
                        <a:lnTo>
                          <a:pt x="97" y="34"/>
                        </a:lnTo>
                        <a:lnTo>
                          <a:pt x="103" y="35"/>
                        </a:lnTo>
                        <a:lnTo>
                          <a:pt x="112" y="22"/>
                        </a:lnTo>
                        <a:lnTo>
                          <a:pt x="122" y="14"/>
                        </a:lnTo>
                        <a:lnTo>
                          <a:pt x="133" y="7"/>
                        </a:lnTo>
                        <a:lnTo>
                          <a:pt x="147" y="4"/>
                        </a:lnTo>
                        <a:lnTo>
                          <a:pt x="160" y="1"/>
                        </a:lnTo>
                        <a:lnTo>
                          <a:pt x="175" y="0"/>
                        </a:lnTo>
                        <a:lnTo>
                          <a:pt x="190" y="0"/>
                        </a:lnTo>
                        <a:lnTo>
                          <a:pt x="205" y="0"/>
                        </a:lnTo>
                        <a:lnTo>
                          <a:pt x="211" y="1"/>
                        </a:lnTo>
                        <a:lnTo>
                          <a:pt x="217" y="2"/>
                        </a:lnTo>
                        <a:lnTo>
                          <a:pt x="224" y="3"/>
                        </a:lnTo>
                        <a:lnTo>
                          <a:pt x="231" y="6"/>
                        </a:lnTo>
                        <a:lnTo>
                          <a:pt x="237" y="8"/>
                        </a:lnTo>
                        <a:lnTo>
                          <a:pt x="244" y="12"/>
                        </a:lnTo>
                        <a:lnTo>
                          <a:pt x="248" y="16"/>
                        </a:lnTo>
                        <a:lnTo>
                          <a:pt x="254" y="23"/>
                        </a:lnTo>
                        <a:lnTo>
                          <a:pt x="254" y="30"/>
                        </a:lnTo>
                        <a:lnTo>
                          <a:pt x="250" y="35"/>
                        </a:lnTo>
                        <a:lnTo>
                          <a:pt x="245" y="38"/>
                        </a:lnTo>
                        <a:lnTo>
                          <a:pt x="240" y="43"/>
                        </a:lnTo>
                        <a:lnTo>
                          <a:pt x="187" y="56"/>
                        </a:lnTo>
                        <a:lnTo>
                          <a:pt x="183" y="59"/>
                        </a:lnTo>
                        <a:lnTo>
                          <a:pt x="181" y="64"/>
                        </a:lnTo>
                        <a:lnTo>
                          <a:pt x="181" y="68"/>
                        </a:lnTo>
                        <a:lnTo>
                          <a:pt x="185" y="73"/>
                        </a:lnTo>
                        <a:lnTo>
                          <a:pt x="197" y="79"/>
                        </a:lnTo>
                        <a:lnTo>
                          <a:pt x="210" y="89"/>
                        </a:lnTo>
                        <a:lnTo>
                          <a:pt x="222" y="99"/>
                        </a:lnTo>
                        <a:lnTo>
                          <a:pt x="235" y="109"/>
                        </a:lnTo>
                        <a:lnTo>
                          <a:pt x="246" y="120"/>
                        </a:lnTo>
                        <a:lnTo>
                          <a:pt x="256" y="133"/>
                        </a:lnTo>
                        <a:lnTo>
                          <a:pt x="263" y="146"/>
                        </a:lnTo>
                        <a:lnTo>
                          <a:pt x="270" y="161"/>
                        </a:lnTo>
                        <a:lnTo>
                          <a:pt x="266" y="173"/>
                        </a:lnTo>
                        <a:lnTo>
                          <a:pt x="263" y="185"/>
                        </a:lnTo>
                        <a:lnTo>
                          <a:pt x="258" y="196"/>
                        </a:lnTo>
                        <a:lnTo>
                          <a:pt x="252" y="208"/>
                        </a:lnTo>
                        <a:lnTo>
                          <a:pt x="244" y="217"/>
                        </a:lnTo>
                        <a:lnTo>
                          <a:pt x="234" y="225"/>
                        </a:lnTo>
                        <a:lnTo>
                          <a:pt x="224" y="233"/>
                        </a:lnTo>
                        <a:lnTo>
                          <a:pt x="213" y="240"/>
                        </a:lnTo>
                        <a:lnTo>
                          <a:pt x="188" y="249"/>
                        </a:lnTo>
                        <a:lnTo>
                          <a:pt x="163" y="252"/>
                        </a:lnTo>
                        <a:lnTo>
                          <a:pt x="139" y="249"/>
                        </a:lnTo>
                        <a:lnTo>
                          <a:pt x="116" y="243"/>
                        </a:lnTo>
                        <a:lnTo>
                          <a:pt x="93" y="233"/>
                        </a:lnTo>
                        <a:lnTo>
                          <a:pt x="71" y="220"/>
                        </a:lnTo>
                        <a:lnTo>
                          <a:pt x="50" y="207"/>
                        </a:lnTo>
                        <a:lnTo>
                          <a:pt x="32" y="194"/>
                        </a:lnTo>
                        <a:lnTo>
                          <a:pt x="25" y="188"/>
                        </a:lnTo>
                        <a:lnTo>
                          <a:pt x="21" y="181"/>
                        </a:lnTo>
                        <a:lnTo>
                          <a:pt x="15" y="175"/>
                        </a:lnTo>
                        <a:lnTo>
                          <a:pt x="12" y="169"/>
                        </a:lnTo>
                        <a:lnTo>
                          <a:pt x="9" y="162"/>
                        </a:lnTo>
                        <a:lnTo>
                          <a:pt x="6" y="155"/>
                        </a:lnTo>
                        <a:lnTo>
                          <a:pt x="3" y="149"/>
                        </a:lnTo>
                        <a:lnTo>
                          <a:pt x="0" y="143"/>
                        </a:lnTo>
                        <a:lnTo>
                          <a:pt x="5" y="124"/>
                        </a:lnTo>
                        <a:lnTo>
                          <a:pt x="12" y="108"/>
                        </a:lnTo>
                        <a:lnTo>
                          <a:pt x="21" y="91"/>
                        </a:lnTo>
                        <a:lnTo>
                          <a:pt x="34" y="77"/>
                        </a:lnTo>
                        <a:lnTo>
                          <a:pt x="45" y="62"/>
                        </a:lnTo>
                        <a:lnTo>
                          <a:pt x="60" y="50"/>
                        </a:lnTo>
                        <a:lnTo>
                          <a:pt x="76" y="40"/>
                        </a:lnTo>
                        <a:lnTo>
                          <a:pt x="92" y="32"/>
                        </a:lnTo>
                        <a:close/>
                      </a:path>
                    </a:pathLst>
                  </a:cu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8"/>
                  <p:cNvSpPr/>
                  <p:nvPr/>
                </p:nvSpPr>
                <p:spPr>
                  <a:xfrm>
                    <a:off x="4578480" y="1106640"/>
                    <a:ext cx="15840" cy="46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48" h="16">
                        <a:moveTo>
                          <a:pt x="39" y="5"/>
                        </a:moveTo>
                        <a:lnTo>
                          <a:pt x="43" y="8"/>
                        </a:lnTo>
                        <a:lnTo>
                          <a:pt x="48" y="12"/>
                        </a:lnTo>
                        <a:lnTo>
                          <a:pt x="48" y="16"/>
                        </a:lnTo>
                        <a:lnTo>
                          <a:pt x="36" y="15"/>
                        </a:lnTo>
                        <a:lnTo>
                          <a:pt x="25" y="14"/>
                        </a:lnTo>
                        <a:lnTo>
                          <a:pt x="13" y="11"/>
                        </a:lnTo>
                        <a:lnTo>
                          <a:pt x="2" y="12"/>
                        </a:lnTo>
                        <a:lnTo>
                          <a:pt x="0" y="4"/>
                        </a:lnTo>
                        <a:lnTo>
                          <a:pt x="2" y="1"/>
                        </a:lnTo>
                        <a:lnTo>
                          <a:pt x="7" y="0"/>
                        </a:lnTo>
                        <a:lnTo>
                          <a:pt x="13" y="2"/>
                        </a:lnTo>
                        <a:lnTo>
                          <a:pt x="20" y="2"/>
                        </a:lnTo>
                        <a:lnTo>
                          <a:pt x="26" y="4"/>
                        </a:lnTo>
                        <a:lnTo>
                          <a:pt x="32" y="5"/>
                        </a:lnTo>
                        <a:lnTo>
                          <a:pt x="3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69"/>
                  <p:cNvSpPr/>
                  <p:nvPr/>
                </p:nvSpPr>
                <p:spPr>
                  <a:xfrm>
                    <a:off x="4581720" y="1119240"/>
                    <a:ext cx="29880" cy="2052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93" h="61">
                        <a:moveTo>
                          <a:pt x="10" y="0"/>
                        </a:moveTo>
                        <a:lnTo>
                          <a:pt x="20" y="0"/>
                        </a:lnTo>
                        <a:lnTo>
                          <a:pt x="32" y="1"/>
                        </a:lnTo>
                        <a:lnTo>
                          <a:pt x="43" y="2"/>
                        </a:lnTo>
                        <a:lnTo>
                          <a:pt x="55" y="5"/>
                        </a:lnTo>
                        <a:lnTo>
                          <a:pt x="64" y="7"/>
                        </a:lnTo>
                        <a:lnTo>
                          <a:pt x="75" y="13"/>
                        </a:lnTo>
                        <a:lnTo>
                          <a:pt x="85" y="18"/>
                        </a:lnTo>
                        <a:lnTo>
                          <a:pt x="93" y="27"/>
                        </a:lnTo>
                        <a:lnTo>
                          <a:pt x="85" y="34"/>
                        </a:lnTo>
                        <a:lnTo>
                          <a:pt x="77" y="44"/>
                        </a:lnTo>
                        <a:lnTo>
                          <a:pt x="69" y="51"/>
                        </a:lnTo>
                        <a:lnTo>
                          <a:pt x="60" y="59"/>
                        </a:lnTo>
                        <a:lnTo>
                          <a:pt x="56" y="58"/>
                        </a:lnTo>
                        <a:lnTo>
                          <a:pt x="49" y="59"/>
                        </a:lnTo>
                        <a:lnTo>
                          <a:pt x="41" y="60"/>
                        </a:lnTo>
                        <a:lnTo>
                          <a:pt x="32" y="61"/>
                        </a:lnTo>
                        <a:lnTo>
                          <a:pt x="22" y="60"/>
                        </a:lnTo>
                        <a:lnTo>
                          <a:pt x="14" y="58"/>
                        </a:lnTo>
                        <a:lnTo>
                          <a:pt x="6" y="53"/>
                        </a:lnTo>
                        <a:lnTo>
                          <a:pt x="2" y="46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0"/>
                  <p:cNvSpPr/>
                  <p:nvPr/>
                </p:nvSpPr>
                <p:spPr>
                  <a:xfrm>
                    <a:off x="4583160" y="1069920"/>
                    <a:ext cx="1440" cy="180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1800"/>
                      <a:gd name="textAreaBottom" fmla="*/ 2160 h 1800"/>
                    </a:gdLst>
                    <a:ahLst/>
                    <a:rect l="textAreaLeft" t="textAreaTop" r="textAreaRight" b="textAreaBottom"/>
                    <a:pathLst>
                      <a:path w="7" h="1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71"/>
                  <p:cNvSpPr/>
                  <p:nvPr/>
                </p:nvSpPr>
                <p:spPr>
                  <a:xfrm>
                    <a:off x="4583160" y="1204920"/>
                    <a:ext cx="42840" cy="5256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31" h="162">
                        <a:moveTo>
                          <a:pt x="32" y="78"/>
                        </a:moveTo>
                        <a:lnTo>
                          <a:pt x="38" y="71"/>
                        </a:lnTo>
                        <a:lnTo>
                          <a:pt x="48" y="68"/>
                        </a:lnTo>
                        <a:lnTo>
                          <a:pt x="55" y="60"/>
                        </a:lnTo>
                        <a:lnTo>
                          <a:pt x="64" y="54"/>
                        </a:lnTo>
                        <a:lnTo>
                          <a:pt x="71" y="45"/>
                        </a:lnTo>
                        <a:lnTo>
                          <a:pt x="79" y="38"/>
                        </a:lnTo>
                        <a:lnTo>
                          <a:pt x="84" y="28"/>
                        </a:lnTo>
                        <a:lnTo>
                          <a:pt x="89" y="19"/>
                        </a:lnTo>
                        <a:lnTo>
                          <a:pt x="92" y="10"/>
                        </a:lnTo>
                        <a:lnTo>
                          <a:pt x="95" y="0"/>
                        </a:lnTo>
                        <a:lnTo>
                          <a:pt x="103" y="2"/>
                        </a:lnTo>
                        <a:lnTo>
                          <a:pt x="113" y="8"/>
                        </a:lnTo>
                        <a:lnTo>
                          <a:pt x="122" y="14"/>
                        </a:lnTo>
                        <a:lnTo>
                          <a:pt x="131" y="22"/>
                        </a:lnTo>
                        <a:lnTo>
                          <a:pt x="115" y="34"/>
                        </a:lnTo>
                        <a:lnTo>
                          <a:pt x="99" y="48"/>
                        </a:lnTo>
                        <a:lnTo>
                          <a:pt x="84" y="62"/>
                        </a:lnTo>
                        <a:lnTo>
                          <a:pt x="70" y="78"/>
                        </a:lnTo>
                        <a:lnTo>
                          <a:pt x="56" y="93"/>
                        </a:lnTo>
                        <a:lnTo>
                          <a:pt x="44" y="111"/>
                        </a:lnTo>
                        <a:lnTo>
                          <a:pt x="33" y="128"/>
                        </a:lnTo>
                        <a:lnTo>
                          <a:pt x="23" y="147"/>
                        </a:lnTo>
                        <a:lnTo>
                          <a:pt x="22" y="160"/>
                        </a:lnTo>
                        <a:lnTo>
                          <a:pt x="16" y="157"/>
                        </a:lnTo>
                        <a:lnTo>
                          <a:pt x="11" y="158"/>
                        </a:lnTo>
                        <a:lnTo>
                          <a:pt x="5" y="160"/>
                        </a:lnTo>
                        <a:lnTo>
                          <a:pt x="0" y="162"/>
                        </a:lnTo>
                        <a:lnTo>
                          <a:pt x="7" y="153"/>
                        </a:lnTo>
                        <a:lnTo>
                          <a:pt x="13" y="144"/>
                        </a:lnTo>
                        <a:lnTo>
                          <a:pt x="18" y="133"/>
                        </a:lnTo>
                        <a:lnTo>
                          <a:pt x="23" y="122"/>
                        </a:lnTo>
                        <a:lnTo>
                          <a:pt x="25" y="111"/>
                        </a:lnTo>
                        <a:lnTo>
                          <a:pt x="28" y="100"/>
                        </a:lnTo>
                        <a:lnTo>
                          <a:pt x="30" y="88"/>
                        </a:lnTo>
                        <a:lnTo>
                          <a:pt x="32" y="78"/>
                        </a:lnTo>
                        <a:close/>
                      </a:path>
                    </a:pathLst>
                  </a:custGeom>
                  <a:solidFill>
                    <a:srgbClr val="bf8f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72"/>
                  <p:cNvSpPr/>
                  <p:nvPr/>
                </p:nvSpPr>
                <p:spPr>
                  <a:xfrm>
                    <a:off x="4584600" y="1122480"/>
                    <a:ext cx="22320" cy="144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67" h="42">
                        <a:moveTo>
                          <a:pt x="9" y="7"/>
                        </a:move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14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37" y="6"/>
                        </a:lnTo>
                        <a:lnTo>
                          <a:pt x="45" y="7"/>
                        </a:lnTo>
                        <a:lnTo>
                          <a:pt x="52" y="10"/>
                        </a:lnTo>
                        <a:lnTo>
                          <a:pt x="60" y="13"/>
                        </a:lnTo>
                        <a:lnTo>
                          <a:pt x="67" y="18"/>
                        </a:lnTo>
                        <a:lnTo>
                          <a:pt x="60" y="27"/>
                        </a:lnTo>
                        <a:lnTo>
                          <a:pt x="50" y="34"/>
                        </a:lnTo>
                        <a:lnTo>
                          <a:pt x="38" y="38"/>
                        </a:lnTo>
                        <a:lnTo>
                          <a:pt x="28" y="42"/>
                        </a:lnTo>
                        <a:lnTo>
                          <a:pt x="32" y="36"/>
                        </a:lnTo>
                        <a:lnTo>
                          <a:pt x="34" y="29"/>
                        </a:lnTo>
                        <a:lnTo>
                          <a:pt x="32" y="21"/>
                        </a:lnTo>
                        <a:lnTo>
                          <a:pt x="31" y="13"/>
                        </a:lnTo>
                        <a:lnTo>
                          <a:pt x="24" y="7"/>
                        </a:lnTo>
                        <a:lnTo>
                          <a:pt x="19" y="5"/>
                        </a:lnTo>
                        <a:lnTo>
                          <a:pt x="12" y="5"/>
                        </a:lnTo>
                        <a:lnTo>
                          <a:pt x="7" y="10"/>
                        </a:lnTo>
                        <a:lnTo>
                          <a:pt x="2" y="18"/>
                        </a:lnTo>
                        <a:lnTo>
                          <a:pt x="4" y="26"/>
                        </a:lnTo>
                        <a:lnTo>
                          <a:pt x="1" y="21"/>
                        </a:lnTo>
                        <a:lnTo>
                          <a:pt x="0" y="14"/>
                        </a:lnTo>
                        <a:lnTo>
                          <a:pt x="2" y="8"/>
                        </a:lnTo>
                        <a:lnTo>
                          <a:pt x="9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3"/>
                  <p:cNvSpPr/>
                  <p:nvPr/>
                </p:nvSpPr>
                <p:spPr>
                  <a:xfrm>
                    <a:off x="4591080" y="1189080"/>
                    <a:ext cx="17640" cy="334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57" h="104">
                        <a:moveTo>
                          <a:pt x="10" y="8"/>
                        </a:moveTo>
                        <a:lnTo>
                          <a:pt x="16" y="1"/>
                        </a:lnTo>
                        <a:lnTo>
                          <a:pt x="23" y="0"/>
                        </a:lnTo>
                        <a:lnTo>
                          <a:pt x="28" y="2"/>
                        </a:lnTo>
                        <a:lnTo>
                          <a:pt x="33" y="7"/>
                        </a:lnTo>
                        <a:lnTo>
                          <a:pt x="36" y="12"/>
                        </a:lnTo>
                        <a:lnTo>
                          <a:pt x="41" y="19"/>
                        </a:lnTo>
                        <a:lnTo>
                          <a:pt x="46" y="24"/>
                        </a:lnTo>
                        <a:lnTo>
                          <a:pt x="52" y="27"/>
                        </a:lnTo>
                        <a:lnTo>
                          <a:pt x="53" y="33"/>
                        </a:lnTo>
                        <a:lnTo>
                          <a:pt x="55" y="39"/>
                        </a:lnTo>
                        <a:lnTo>
                          <a:pt x="56" y="46"/>
                        </a:lnTo>
                        <a:lnTo>
                          <a:pt x="57" y="52"/>
                        </a:lnTo>
                        <a:lnTo>
                          <a:pt x="56" y="63"/>
                        </a:lnTo>
                        <a:lnTo>
                          <a:pt x="51" y="75"/>
                        </a:lnTo>
                        <a:lnTo>
                          <a:pt x="47" y="79"/>
                        </a:lnTo>
                        <a:lnTo>
                          <a:pt x="43" y="84"/>
                        </a:lnTo>
                        <a:lnTo>
                          <a:pt x="38" y="86"/>
                        </a:lnTo>
                        <a:lnTo>
                          <a:pt x="33" y="89"/>
                        </a:lnTo>
                        <a:lnTo>
                          <a:pt x="29" y="96"/>
                        </a:lnTo>
                        <a:lnTo>
                          <a:pt x="21" y="104"/>
                        </a:lnTo>
                        <a:lnTo>
                          <a:pt x="20" y="94"/>
                        </a:lnTo>
                        <a:lnTo>
                          <a:pt x="20" y="85"/>
                        </a:lnTo>
                        <a:lnTo>
                          <a:pt x="18" y="77"/>
                        </a:lnTo>
                        <a:lnTo>
                          <a:pt x="16" y="69"/>
                        </a:lnTo>
                        <a:lnTo>
                          <a:pt x="13" y="60"/>
                        </a:lnTo>
                        <a:lnTo>
                          <a:pt x="10" y="52"/>
                        </a:lnTo>
                        <a:lnTo>
                          <a:pt x="4" y="44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1" y="21"/>
                        </a:lnTo>
                        <a:lnTo>
                          <a:pt x="4" y="13"/>
                        </a:lnTo>
                        <a:lnTo>
                          <a:pt x="10" y="8"/>
                        </a:lnTo>
                        <a:close/>
                      </a:path>
                    </a:pathLst>
                  </a:custGeom>
                  <a:solidFill>
                    <a:srgbClr val="ffd6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74"/>
                  <p:cNvSpPr/>
                  <p:nvPr/>
                </p:nvSpPr>
                <p:spPr>
                  <a:xfrm>
                    <a:off x="4599000" y="1206720"/>
                    <a:ext cx="208080" cy="431640"/>
                  </a:xfrm>
                  <a:custGeom>
                    <a:avLst/>
                    <a:gdLst>
                      <a:gd name="textAreaLeft" fmla="*/ 0 w 208080"/>
                      <a:gd name="textAreaRight" fmla="*/ 208440 w 208080"/>
                      <a:gd name="textAreaTop" fmla="*/ 0 h 431640"/>
                      <a:gd name="textAreaBottom" fmla="*/ 432000 h 431640"/>
                    </a:gdLst>
                    <a:ahLst/>
                    <a:rect l="textAreaLeft" t="textAreaTop" r="textAreaRight" b="textAreaBottom"/>
                    <a:pathLst>
                      <a:path w="658" h="1362">
                        <a:moveTo>
                          <a:pt x="53" y="71"/>
                        </a:moveTo>
                        <a:lnTo>
                          <a:pt x="57" y="65"/>
                        </a:lnTo>
                        <a:lnTo>
                          <a:pt x="64" y="59"/>
                        </a:lnTo>
                        <a:lnTo>
                          <a:pt x="71" y="54"/>
                        </a:lnTo>
                        <a:lnTo>
                          <a:pt x="79" y="50"/>
                        </a:lnTo>
                        <a:lnTo>
                          <a:pt x="85" y="44"/>
                        </a:lnTo>
                        <a:lnTo>
                          <a:pt x="93" y="39"/>
                        </a:lnTo>
                        <a:lnTo>
                          <a:pt x="99" y="34"/>
                        </a:lnTo>
                        <a:lnTo>
                          <a:pt x="107" y="28"/>
                        </a:lnTo>
                        <a:lnTo>
                          <a:pt x="121" y="23"/>
                        </a:lnTo>
                        <a:lnTo>
                          <a:pt x="136" y="18"/>
                        </a:lnTo>
                        <a:lnTo>
                          <a:pt x="152" y="12"/>
                        </a:lnTo>
                        <a:lnTo>
                          <a:pt x="168" y="9"/>
                        </a:lnTo>
                        <a:lnTo>
                          <a:pt x="184" y="5"/>
                        </a:lnTo>
                        <a:lnTo>
                          <a:pt x="200" y="1"/>
                        </a:lnTo>
                        <a:lnTo>
                          <a:pt x="216" y="0"/>
                        </a:lnTo>
                        <a:lnTo>
                          <a:pt x="233" y="1"/>
                        </a:lnTo>
                        <a:lnTo>
                          <a:pt x="250" y="7"/>
                        </a:lnTo>
                        <a:lnTo>
                          <a:pt x="242" y="63"/>
                        </a:lnTo>
                        <a:lnTo>
                          <a:pt x="239" y="121"/>
                        </a:lnTo>
                        <a:lnTo>
                          <a:pt x="239" y="177"/>
                        </a:lnTo>
                        <a:lnTo>
                          <a:pt x="245" y="234"/>
                        </a:lnTo>
                        <a:lnTo>
                          <a:pt x="255" y="289"/>
                        </a:lnTo>
                        <a:lnTo>
                          <a:pt x="271" y="343"/>
                        </a:lnTo>
                        <a:lnTo>
                          <a:pt x="293" y="392"/>
                        </a:lnTo>
                        <a:lnTo>
                          <a:pt x="323" y="439"/>
                        </a:lnTo>
                        <a:lnTo>
                          <a:pt x="347" y="466"/>
                        </a:lnTo>
                        <a:lnTo>
                          <a:pt x="375" y="491"/>
                        </a:lnTo>
                        <a:lnTo>
                          <a:pt x="404" y="511"/>
                        </a:lnTo>
                        <a:lnTo>
                          <a:pt x="437" y="529"/>
                        </a:lnTo>
                        <a:lnTo>
                          <a:pt x="469" y="544"/>
                        </a:lnTo>
                        <a:lnTo>
                          <a:pt x="504" y="557"/>
                        </a:lnTo>
                        <a:lnTo>
                          <a:pt x="539" y="567"/>
                        </a:lnTo>
                        <a:lnTo>
                          <a:pt x="577" y="576"/>
                        </a:lnTo>
                        <a:lnTo>
                          <a:pt x="586" y="576"/>
                        </a:lnTo>
                        <a:lnTo>
                          <a:pt x="597" y="576"/>
                        </a:lnTo>
                        <a:lnTo>
                          <a:pt x="607" y="574"/>
                        </a:lnTo>
                        <a:lnTo>
                          <a:pt x="617" y="573"/>
                        </a:lnTo>
                        <a:lnTo>
                          <a:pt x="627" y="570"/>
                        </a:lnTo>
                        <a:lnTo>
                          <a:pt x="638" y="568"/>
                        </a:lnTo>
                        <a:lnTo>
                          <a:pt x="647" y="566"/>
                        </a:lnTo>
                        <a:lnTo>
                          <a:pt x="658" y="566"/>
                        </a:lnTo>
                        <a:lnTo>
                          <a:pt x="657" y="594"/>
                        </a:lnTo>
                        <a:lnTo>
                          <a:pt x="656" y="624"/>
                        </a:lnTo>
                        <a:lnTo>
                          <a:pt x="653" y="654"/>
                        </a:lnTo>
                        <a:lnTo>
                          <a:pt x="649" y="685"/>
                        </a:lnTo>
                        <a:lnTo>
                          <a:pt x="644" y="714"/>
                        </a:lnTo>
                        <a:lnTo>
                          <a:pt x="638" y="744"/>
                        </a:lnTo>
                        <a:lnTo>
                          <a:pt x="629" y="773"/>
                        </a:lnTo>
                        <a:lnTo>
                          <a:pt x="619" y="801"/>
                        </a:lnTo>
                        <a:lnTo>
                          <a:pt x="614" y="813"/>
                        </a:lnTo>
                        <a:lnTo>
                          <a:pt x="610" y="826"/>
                        </a:lnTo>
                        <a:lnTo>
                          <a:pt x="603" y="837"/>
                        </a:lnTo>
                        <a:lnTo>
                          <a:pt x="598" y="850"/>
                        </a:lnTo>
                        <a:lnTo>
                          <a:pt x="590" y="861"/>
                        </a:lnTo>
                        <a:lnTo>
                          <a:pt x="583" y="873"/>
                        </a:lnTo>
                        <a:lnTo>
                          <a:pt x="574" y="884"/>
                        </a:lnTo>
                        <a:lnTo>
                          <a:pt x="567" y="895"/>
                        </a:lnTo>
                        <a:lnTo>
                          <a:pt x="567" y="903"/>
                        </a:lnTo>
                        <a:lnTo>
                          <a:pt x="565" y="913"/>
                        </a:lnTo>
                        <a:lnTo>
                          <a:pt x="564" y="920"/>
                        </a:lnTo>
                        <a:lnTo>
                          <a:pt x="567" y="930"/>
                        </a:lnTo>
                        <a:lnTo>
                          <a:pt x="564" y="939"/>
                        </a:lnTo>
                        <a:lnTo>
                          <a:pt x="562" y="949"/>
                        </a:lnTo>
                        <a:lnTo>
                          <a:pt x="558" y="960"/>
                        </a:lnTo>
                        <a:lnTo>
                          <a:pt x="555" y="970"/>
                        </a:lnTo>
                        <a:lnTo>
                          <a:pt x="551" y="980"/>
                        </a:lnTo>
                        <a:lnTo>
                          <a:pt x="548" y="991"/>
                        </a:lnTo>
                        <a:lnTo>
                          <a:pt x="545" y="1002"/>
                        </a:lnTo>
                        <a:lnTo>
                          <a:pt x="544" y="1013"/>
                        </a:lnTo>
                        <a:lnTo>
                          <a:pt x="537" y="1024"/>
                        </a:lnTo>
                        <a:lnTo>
                          <a:pt x="531" y="1036"/>
                        </a:lnTo>
                        <a:lnTo>
                          <a:pt x="527" y="1048"/>
                        </a:lnTo>
                        <a:lnTo>
                          <a:pt x="524" y="1061"/>
                        </a:lnTo>
                        <a:lnTo>
                          <a:pt x="521" y="1072"/>
                        </a:lnTo>
                        <a:lnTo>
                          <a:pt x="518" y="1085"/>
                        </a:lnTo>
                        <a:lnTo>
                          <a:pt x="513" y="1098"/>
                        </a:lnTo>
                        <a:lnTo>
                          <a:pt x="509" y="1111"/>
                        </a:lnTo>
                        <a:lnTo>
                          <a:pt x="503" y="1117"/>
                        </a:lnTo>
                        <a:lnTo>
                          <a:pt x="498" y="1125"/>
                        </a:lnTo>
                        <a:lnTo>
                          <a:pt x="495" y="1133"/>
                        </a:lnTo>
                        <a:lnTo>
                          <a:pt x="492" y="1141"/>
                        </a:lnTo>
                        <a:lnTo>
                          <a:pt x="488" y="1149"/>
                        </a:lnTo>
                        <a:lnTo>
                          <a:pt x="484" y="1157"/>
                        </a:lnTo>
                        <a:lnTo>
                          <a:pt x="479" y="1165"/>
                        </a:lnTo>
                        <a:lnTo>
                          <a:pt x="474" y="1172"/>
                        </a:lnTo>
                        <a:lnTo>
                          <a:pt x="472" y="1179"/>
                        </a:lnTo>
                        <a:lnTo>
                          <a:pt x="472" y="1187"/>
                        </a:lnTo>
                        <a:lnTo>
                          <a:pt x="471" y="1195"/>
                        </a:lnTo>
                        <a:lnTo>
                          <a:pt x="470" y="1203"/>
                        </a:lnTo>
                        <a:lnTo>
                          <a:pt x="468" y="1210"/>
                        </a:lnTo>
                        <a:lnTo>
                          <a:pt x="467" y="1218"/>
                        </a:lnTo>
                        <a:lnTo>
                          <a:pt x="465" y="1226"/>
                        </a:lnTo>
                        <a:lnTo>
                          <a:pt x="464" y="1234"/>
                        </a:lnTo>
                        <a:lnTo>
                          <a:pt x="457" y="1240"/>
                        </a:lnTo>
                        <a:lnTo>
                          <a:pt x="454" y="1246"/>
                        </a:lnTo>
                        <a:lnTo>
                          <a:pt x="450" y="1253"/>
                        </a:lnTo>
                        <a:lnTo>
                          <a:pt x="447" y="1259"/>
                        </a:lnTo>
                        <a:lnTo>
                          <a:pt x="442" y="1265"/>
                        </a:lnTo>
                        <a:lnTo>
                          <a:pt x="438" y="1270"/>
                        </a:lnTo>
                        <a:lnTo>
                          <a:pt x="433" y="1275"/>
                        </a:lnTo>
                        <a:lnTo>
                          <a:pt x="427" y="1281"/>
                        </a:lnTo>
                        <a:lnTo>
                          <a:pt x="425" y="1290"/>
                        </a:lnTo>
                        <a:lnTo>
                          <a:pt x="411" y="1300"/>
                        </a:lnTo>
                        <a:lnTo>
                          <a:pt x="401" y="1311"/>
                        </a:lnTo>
                        <a:lnTo>
                          <a:pt x="389" y="1321"/>
                        </a:lnTo>
                        <a:lnTo>
                          <a:pt x="379" y="1333"/>
                        </a:lnTo>
                        <a:lnTo>
                          <a:pt x="366" y="1342"/>
                        </a:lnTo>
                        <a:lnTo>
                          <a:pt x="355" y="1351"/>
                        </a:lnTo>
                        <a:lnTo>
                          <a:pt x="341" y="1358"/>
                        </a:lnTo>
                        <a:lnTo>
                          <a:pt x="327" y="1362"/>
                        </a:lnTo>
                        <a:lnTo>
                          <a:pt x="334" y="1325"/>
                        </a:lnTo>
                        <a:lnTo>
                          <a:pt x="343" y="1288"/>
                        </a:lnTo>
                        <a:lnTo>
                          <a:pt x="352" y="1252"/>
                        </a:lnTo>
                        <a:lnTo>
                          <a:pt x="362" y="1215"/>
                        </a:lnTo>
                        <a:lnTo>
                          <a:pt x="372" y="1178"/>
                        </a:lnTo>
                        <a:lnTo>
                          <a:pt x="382" y="1141"/>
                        </a:lnTo>
                        <a:lnTo>
                          <a:pt x="395" y="1106"/>
                        </a:lnTo>
                        <a:lnTo>
                          <a:pt x="409" y="1071"/>
                        </a:lnTo>
                        <a:lnTo>
                          <a:pt x="415" y="1042"/>
                        </a:lnTo>
                        <a:lnTo>
                          <a:pt x="420" y="1016"/>
                        </a:lnTo>
                        <a:lnTo>
                          <a:pt x="424" y="988"/>
                        </a:lnTo>
                        <a:lnTo>
                          <a:pt x="429" y="961"/>
                        </a:lnTo>
                        <a:lnTo>
                          <a:pt x="431" y="932"/>
                        </a:lnTo>
                        <a:lnTo>
                          <a:pt x="432" y="903"/>
                        </a:lnTo>
                        <a:lnTo>
                          <a:pt x="431" y="873"/>
                        </a:lnTo>
                        <a:lnTo>
                          <a:pt x="430" y="844"/>
                        </a:lnTo>
                        <a:lnTo>
                          <a:pt x="410" y="772"/>
                        </a:lnTo>
                        <a:lnTo>
                          <a:pt x="388" y="703"/>
                        </a:lnTo>
                        <a:lnTo>
                          <a:pt x="359" y="637"/>
                        </a:lnTo>
                        <a:lnTo>
                          <a:pt x="326" y="573"/>
                        </a:lnTo>
                        <a:lnTo>
                          <a:pt x="286" y="511"/>
                        </a:lnTo>
                        <a:lnTo>
                          <a:pt x="243" y="453"/>
                        </a:lnTo>
                        <a:lnTo>
                          <a:pt x="195" y="394"/>
                        </a:lnTo>
                        <a:lnTo>
                          <a:pt x="142" y="339"/>
                        </a:lnTo>
                        <a:lnTo>
                          <a:pt x="123" y="320"/>
                        </a:lnTo>
                        <a:lnTo>
                          <a:pt x="104" y="301"/>
                        </a:lnTo>
                        <a:lnTo>
                          <a:pt x="84" y="282"/>
                        </a:lnTo>
                        <a:lnTo>
                          <a:pt x="66" y="262"/>
                        </a:lnTo>
                        <a:lnTo>
                          <a:pt x="47" y="241"/>
                        </a:lnTo>
                        <a:lnTo>
                          <a:pt x="31" y="220"/>
                        </a:lnTo>
                        <a:lnTo>
                          <a:pt x="17" y="198"/>
                        </a:lnTo>
                        <a:lnTo>
                          <a:pt x="6" y="176"/>
                        </a:lnTo>
                        <a:lnTo>
                          <a:pt x="0" y="168"/>
                        </a:lnTo>
                        <a:lnTo>
                          <a:pt x="0" y="160"/>
                        </a:lnTo>
                        <a:lnTo>
                          <a:pt x="2" y="151"/>
                        </a:lnTo>
                        <a:lnTo>
                          <a:pt x="4" y="142"/>
                        </a:lnTo>
                        <a:lnTo>
                          <a:pt x="8" y="131"/>
                        </a:lnTo>
                        <a:lnTo>
                          <a:pt x="13" y="122"/>
                        </a:lnTo>
                        <a:lnTo>
                          <a:pt x="20" y="113"/>
                        </a:lnTo>
                        <a:lnTo>
                          <a:pt x="26" y="104"/>
                        </a:lnTo>
                        <a:lnTo>
                          <a:pt x="33" y="95"/>
                        </a:lnTo>
                        <a:lnTo>
                          <a:pt x="39" y="87"/>
                        </a:lnTo>
                        <a:lnTo>
                          <a:pt x="46" y="79"/>
                        </a:lnTo>
                        <a:lnTo>
                          <a:pt x="53" y="7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75"/>
                  <p:cNvSpPr/>
                  <p:nvPr/>
                </p:nvSpPr>
                <p:spPr>
                  <a:xfrm>
                    <a:off x="4630680" y="1040040"/>
                    <a:ext cx="317520" cy="34272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w="999" h="1079">
                        <a:moveTo>
                          <a:pt x="54" y="287"/>
                        </a:moveTo>
                        <a:lnTo>
                          <a:pt x="63" y="279"/>
                        </a:lnTo>
                        <a:lnTo>
                          <a:pt x="72" y="273"/>
                        </a:lnTo>
                        <a:lnTo>
                          <a:pt x="83" y="270"/>
                        </a:lnTo>
                        <a:lnTo>
                          <a:pt x="95" y="269"/>
                        </a:lnTo>
                        <a:lnTo>
                          <a:pt x="107" y="268"/>
                        </a:lnTo>
                        <a:lnTo>
                          <a:pt x="118" y="269"/>
                        </a:lnTo>
                        <a:lnTo>
                          <a:pt x="129" y="271"/>
                        </a:lnTo>
                        <a:lnTo>
                          <a:pt x="141" y="274"/>
                        </a:lnTo>
                        <a:lnTo>
                          <a:pt x="147" y="279"/>
                        </a:lnTo>
                        <a:lnTo>
                          <a:pt x="155" y="284"/>
                        </a:lnTo>
                        <a:lnTo>
                          <a:pt x="160" y="290"/>
                        </a:lnTo>
                        <a:lnTo>
                          <a:pt x="167" y="298"/>
                        </a:lnTo>
                        <a:lnTo>
                          <a:pt x="172" y="304"/>
                        </a:lnTo>
                        <a:lnTo>
                          <a:pt x="179" y="312"/>
                        </a:lnTo>
                        <a:lnTo>
                          <a:pt x="184" y="319"/>
                        </a:lnTo>
                        <a:lnTo>
                          <a:pt x="190" y="328"/>
                        </a:lnTo>
                        <a:lnTo>
                          <a:pt x="189" y="333"/>
                        </a:lnTo>
                        <a:lnTo>
                          <a:pt x="195" y="337"/>
                        </a:lnTo>
                        <a:lnTo>
                          <a:pt x="199" y="333"/>
                        </a:lnTo>
                        <a:lnTo>
                          <a:pt x="203" y="330"/>
                        </a:lnTo>
                        <a:lnTo>
                          <a:pt x="206" y="325"/>
                        </a:lnTo>
                        <a:lnTo>
                          <a:pt x="211" y="319"/>
                        </a:lnTo>
                        <a:lnTo>
                          <a:pt x="214" y="313"/>
                        </a:lnTo>
                        <a:lnTo>
                          <a:pt x="217" y="308"/>
                        </a:lnTo>
                        <a:lnTo>
                          <a:pt x="220" y="301"/>
                        </a:lnTo>
                        <a:lnTo>
                          <a:pt x="225" y="297"/>
                        </a:lnTo>
                        <a:lnTo>
                          <a:pt x="245" y="273"/>
                        </a:lnTo>
                        <a:lnTo>
                          <a:pt x="269" y="252"/>
                        </a:lnTo>
                        <a:lnTo>
                          <a:pt x="293" y="231"/>
                        </a:lnTo>
                        <a:lnTo>
                          <a:pt x="320" y="213"/>
                        </a:lnTo>
                        <a:lnTo>
                          <a:pt x="347" y="196"/>
                        </a:lnTo>
                        <a:lnTo>
                          <a:pt x="376" y="181"/>
                        </a:lnTo>
                        <a:lnTo>
                          <a:pt x="405" y="167"/>
                        </a:lnTo>
                        <a:lnTo>
                          <a:pt x="434" y="156"/>
                        </a:lnTo>
                        <a:lnTo>
                          <a:pt x="458" y="147"/>
                        </a:lnTo>
                        <a:lnTo>
                          <a:pt x="484" y="137"/>
                        </a:lnTo>
                        <a:lnTo>
                          <a:pt x="511" y="127"/>
                        </a:lnTo>
                        <a:lnTo>
                          <a:pt x="538" y="120"/>
                        </a:lnTo>
                        <a:lnTo>
                          <a:pt x="565" y="113"/>
                        </a:lnTo>
                        <a:lnTo>
                          <a:pt x="592" y="110"/>
                        </a:lnTo>
                        <a:lnTo>
                          <a:pt x="620" y="110"/>
                        </a:lnTo>
                        <a:lnTo>
                          <a:pt x="649" y="114"/>
                        </a:lnTo>
                        <a:lnTo>
                          <a:pt x="655" y="118"/>
                        </a:lnTo>
                        <a:lnTo>
                          <a:pt x="663" y="119"/>
                        </a:lnTo>
                        <a:lnTo>
                          <a:pt x="668" y="112"/>
                        </a:lnTo>
                        <a:lnTo>
                          <a:pt x="669" y="107"/>
                        </a:lnTo>
                        <a:lnTo>
                          <a:pt x="661" y="98"/>
                        </a:lnTo>
                        <a:lnTo>
                          <a:pt x="655" y="93"/>
                        </a:lnTo>
                        <a:lnTo>
                          <a:pt x="650" y="85"/>
                        </a:lnTo>
                        <a:lnTo>
                          <a:pt x="647" y="78"/>
                        </a:lnTo>
                        <a:lnTo>
                          <a:pt x="647" y="69"/>
                        </a:lnTo>
                        <a:lnTo>
                          <a:pt x="648" y="61"/>
                        </a:lnTo>
                        <a:lnTo>
                          <a:pt x="650" y="51"/>
                        </a:lnTo>
                        <a:lnTo>
                          <a:pt x="654" y="44"/>
                        </a:lnTo>
                        <a:lnTo>
                          <a:pt x="657" y="34"/>
                        </a:lnTo>
                        <a:lnTo>
                          <a:pt x="661" y="27"/>
                        </a:lnTo>
                        <a:lnTo>
                          <a:pt x="668" y="20"/>
                        </a:lnTo>
                        <a:lnTo>
                          <a:pt x="675" y="16"/>
                        </a:lnTo>
                        <a:lnTo>
                          <a:pt x="684" y="10"/>
                        </a:lnTo>
                        <a:lnTo>
                          <a:pt x="693" y="6"/>
                        </a:lnTo>
                        <a:lnTo>
                          <a:pt x="702" y="2"/>
                        </a:lnTo>
                        <a:lnTo>
                          <a:pt x="713" y="1"/>
                        </a:lnTo>
                        <a:lnTo>
                          <a:pt x="723" y="0"/>
                        </a:lnTo>
                        <a:lnTo>
                          <a:pt x="734" y="3"/>
                        </a:lnTo>
                        <a:lnTo>
                          <a:pt x="745" y="5"/>
                        </a:lnTo>
                        <a:lnTo>
                          <a:pt x="757" y="11"/>
                        </a:lnTo>
                        <a:lnTo>
                          <a:pt x="765" y="17"/>
                        </a:lnTo>
                        <a:lnTo>
                          <a:pt x="775" y="25"/>
                        </a:lnTo>
                        <a:lnTo>
                          <a:pt x="782" y="34"/>
                        </a:lnTo>
                        <a:lnTo>
                          <a:pt x="789" y="44"/>
                        </a:lnTo>
                        <a:lnTo>
                          <a:pt x="793" y="59"/>
                        </a:lnTo>
                        <a:lnTo>
                          <a:pt x="797" y="75"/>
                        </a:lnTo>
                        <a:lnTo>
                          <a:pt x="798" y="91"/>
                        </a:lnTo>
                        <a:lnTo>
                          <a:pt x="798" y="108"/>
                        </a:lnTo>
                        <a:lnTo>
                          <a:pt x="795" y="124"/>
                        </a:lnTo>
                        <a:lnTo>
                          <a:pt x="792" y="140"/>
                        </a:lnTo>
                        <a:lnTo>
                          <a:pt x="787" y="155"/>
                        </a:lnTo>
                        <a:lnTo>
                          <a:pt x="780" y="169"/>
                        </a:lnTo>
                        <a:lnTo>
                          <a:pt x="779" y="168"/>
                        </a:lnTo>
                        <a:lnTo>
                          <a:pt x="767" y="181"/>
                        </a:lnTo>
                        <a:lnTo>
                          <a:pt x="762" y="178"/>
                        </a:lnTo>
                        <a:lnTo>
                          <a:pt x="759" y="173"/>
                        </a:lnTo>
                        <a:lnTo>
                          <a:pt x="756" y="167"/>
                        </a:lnTo>
                        <a:lnTo>
                          <a:pt x="754" y="163"/>
                        </a:lnTo>
                        <a:lnTo>
                          <a:pt x="751" y="157"/>
                        </a:lnTo>
                        <a:lnTo>
                          <a:pt x="749" y="155"/>
                        </a:lnTo>
                        <a:lnTo>
                          <a:pt x="745" y="156"/>
                        </a:lnTo>
                        <a:lnTo>
                          <a:pt x="741" y="162"/>
                        </a:lnTo>
                        <a:lnTo>
                          <a:pt x="744" y="170"/>
                        </a:lnTo>
                        <a:lnTo>
                          <a:pt x="747" y="180"/>
                        </a:lnTo>
                        <a:lnTo>
                          <a:pt x="750" y="188"/>
                        </a:lnTo>
                        <a:lnTo>
                          <a:pt x="758" y="198"/>
                        </a:lnTo>
                        <a:lnTo>
                          <a:pt x="753" y="196"/>
                        </a:lnTo>
                        <a:lnTo>
                          <a:pt x="750" y="195"/>
                        </a:lnTo>
                        <a:lnTo>
                          <a:pt x="747" y="193"/>
                        </a:lnTo>
                        <a:lnTo>
                          <a:pt x="744" y="195"/>
                        </a:lnTo>
                        <a:lnTo>
                          <a:pt x="753" y="199"/>
                        </a:lnTo>
                        <a:lnTo>
                          <a:pt x="763" y="207"/>
                        </a:lnTo>
                        <a:lnTo>
                          <a:pt x="771" y="215"/>
                        </a:lnTo>
                        <a:lnTo>
                          <a:pt x="779" y="225"/>
                        </a:lnTo>
                        <a:lnTo>
                          <a:pt x="787" y="235"/>
                        </a:lnTo>
                        <a:lnTo>
                          <a:pt x="794" y="245"/>
                        </a:lnTo>
                        <a:lnTo>
                          <a:pt x="802" y="255"/>
                        </a:lnTo>
                        <a:lnTo>
                          <a:pt x="812" y="265"/>
                        </a:lnTo>
                        <a:lnTo>
                          <a:pt x="851" y="308"/>
                        </a:lnTo>
                        <a:lnTo>
                          <a:pt x="890" y="354"/>
                        </a:lnTo>
                        <a:lnTo>
                          <a:pt x="924" y="401"/>
                        </a:lnTo>
                        <a:lnTo>
                          <a:pt x="954" y="452"/>
                        </a:lnTo>
                        <a:lnTo>
                          <a:pt x="976" y="505"/>
                        </a:lnTo>
                        <a:lnTo>
                          <a:pt x="993" y="561"/>
                        </a:lnTo>
                        <a:lnTo>
                          <a:pt x="999" y="618"/>
                        </a:lnTo>
                        <a:lnTo>
                          <a:pt x="997" y="679"/>
                        </a:lnTo>
                        <a:lnTo>
                          <a:pt x="985" y="715"/>
                        </a:lnTo>
                        <a:lnTo>
                          <a:pt x="973" y="753"/>
                        </a:lnTo>
                        <a:lnTo>
                          <a:pt x="958" y="788"/>
                        </a:lnTo>
                        <a:lnTo>
                          <a:pt x="942" y="824"/>
                        </a:lnTo>
                        <a:lnTo>
                          <a:pt x="922" y="856"/>
                        </a:lnTo>
                        <a:lnTo>
                          <a:pt x="899" y="888"/>
                        </a:lnTo>
                        <a:lnTo>
                          <a:pt x="872" y="917"/>
                        </a:lnTo>
                        <a:lnTo>
                          <a:pt x="843" y="946"/>
                        </a:lnTo>
                        <a:lnTo>
                          <a:pt x="837" y="962"/>
                        </a:lnTo>
                        <a:lnTo>
                          <a:pt x="827" y="978"/>
                        </a:lnTo>
                        <a:lnTo>
                          <a:pt x="816" y="993"/>
                        </a:lnTo>
                        <a:lnTo>
                          <a:pt x="803" y="1008"/>
                        </a:lnTo>
                        <a:lnTo>
                          <a:pt x="787" y="1020"/>
                        </a:lnTo>
                        <a:lnTo>
                          <a:pt x="771" y="1031"/>
                        </a:lnTo>
                        <a:lnTo>
                          <a:pt x="753" y="1038"/>
                        </a:lnTo>
                        <a:lnTo>
                          <a:pt x="736" y="1045"/>
                        </a:lnTo>
                        <a:lnTo>
                          <a:pt x="727" y="1045"/>
                        </a:lnTo>
                        <a:lnTo>
                          <a:pt x="717" y="1045"/>
                        </a:lnTo>
                        <a:lnTo>
                          <a:pt x="708" y="1043"/>
                        </a:lnTo>
                        <a:lnTo>
                          <a:pt x="701" y="1042"/>
                        </a:lnTo>
                        <a:lnTo>
                          <a:pt x="692" y="1038"/>
                        </a:lnTo>
                        <a:lnTo>
                          <a:pt x="685" y="1036"/>
                        </a:lnTo>
                        <a:lnTo>
                          <a:pt x="677" y="1034"/>
                        </a:lnTo>
                        <a:lnTo>
                          <a:pt x="670" y="1033"/>
                        </a:lnTo>
                        <a:lnTo>
                          <a:pt x="638" y="1044"/>
                        </a:lnTo>
                        <a:lnTo>
                          <a:pt x="605" y="1056"/>
                        </a:lnTo>
                        <a:lnTo>
                          <a:pt x="572" y="1066"/>
                        </a:lnTo>
                        <a:lnTo>
                          <a:pt x="539" y="1075"/>
                        </a:lnTo>
                        <a:lnTo>
                          <a:pt x="505" y="1079"/>
                        </a:lnTo>
                        <a:lnTo>
                          <a:pt x="470" y="1079"/>
                        </a:lnTo>
                        <a:lnTo>
                          <a:pt x="436" y="1074"/>
                        </a:lnTo>
                        <a:lnTo>
                          <a:pt x="404" y="1062"/>
                        </a:lnTo>
                        <a:lnTo>
                          <a:pt x="380" y="1054"/>
                        </a:lnTo>
                        <a:lnTo>
                          <a:pt x="360" y="1044"/>
                        </a:lnTo>
                        <a:lnTo>
                          <a:pt x="340" y="1031"/>
                        </a:lnTo>
                        <a:lnTo>
                          <a:pt x="322" y="1017"/>
                        </a:lnTo>
                        <a:lnTo>
                          <a:pt x="303" y="1000"/>
                        </a:lnTo>
                        <a:lnTo>
                          <a:pt x="286" y="984"/>
                        </a:lnTo>
                        <a:lnTo>
                          <a:pt x="269" y="968"/>
                        </a:lnTo>
                        <a:lnTo>
                          <a:pt x="253" y="956"/>
                        </a:lnTo>
                        <a:lnTo>
                          <a:pt x="230" y="929"/>
                        </a:lnTo>
                        <a:lnTo>
                          <a:pt x="212" y="900"/>
                        </a:lnTo>
                        <a:lnTo>
                          <a:pt x="196" y="870"/>
                        </a:lnTo>
                        <a:lnTo>
                          <a:pt x="183" y="839"/>
                        </a:lnTo>
                        <a:lnTo>
                          <a:pt x="172" y="804"/>
                        </a:lnTo>
                        <a:lnTo>
                          <a:pt x="164" y="772"/>
                        </a:lnTo>
                        <a:lnTo>
                          <a:pt x="157" y="739"/>
                        </a:lnTo>
                        <a:lnTo>
                          <a:pt x="153" y="707"/>
                        </a:lnTo>
                        <a:lnTo>
                          <a:pt x="153" y="678"/>
                        </a:lnTo>
                        <a:lnTo>
                          <a:pt x="156" y="649"/>
                        </a:lnTo>
                        <a:lnTo>
                          <a:pt x="158" y="621"/>
                        </a:lnTo>
                        <a:lnTo>
                          <a:pt x="161" y="594"/>
                        </a:lnTo>
                        <a:lnTo>
                          <a:pt x="164" y="566"/>
                        </a:lnTo>
                        <a:lnTo>
                          <a:pt x="166" y="539"/>
                        </a:lnTo>
                        <a:lnTo>
                          <a:pt x="167" y="511"/>
                        </a:lnTo>
                        <a:lnTo>
                          <a:pt x="168" y="485"/>
                        </a:lnTo>
                        <a:lnTo>
                          <a:pt x="164" y="478"/>
                        </a:lnTo>
                        <a:lnTo>
                          <a:pt x="158" y="474"/>
                        </a:lnTo>
                        <a:lnTo>
                          <a:pt x="151" y="474"/>
                        </a:lnTo>
                        <a:lnTo>
                          <a:pt x="145" y="479"/>
                        </a:lnTo>
                        <a:lnTo>
                          <a:pt x="133" y="487"/>
                        </a:lnTo>
                        <a:lnTo>
                          <a:pt x="122" y="491"/>
                        </a:lnTo>
                        <a:lnTo>
                          <a:pt x="109" y="493"/>
                        </a:lnTo>
                        <a:lnTo>
                          <a:pt x="96" y="494"/>
                        </a:lnTo>
                        <a:lnTo>
                          <a:pt x="82" y="492"/>
                        </a:lnTo>
                        <a:lnTo>
                          <a:pt x="69" y="490"/>
                        </a:lnTo>
                        <a:lnTo>
                          <a:pt x="56" y="487"/>
                        </a:lnTo>
                        <a:lnTo>
                          <a:pt x="47" y="485"/>
                        </a:lnTo>
                        <a:lnTo>
                          <a:pt x="41" y="474"/>
                        </a:lnTo>
                        <a:lnTo>
                          <a:pt x="36" y="465"/>
                        </a:lnTo>
                        <a:lnTo>
                          <a:pt x="27" y="459"/>
                        </a:lnTo>
                        <a:lnTo>
                          <a:pt x="19" y="452"/>
                        </a:lnTo>
                        <a:lnTo>
                          <a:pt x="10" y="444"/>
                        </a:lnTo>
                        <a:lnTo>
                          <a:pt x="5" y="436"/>
                        </a:lnTo>
                        <a:lnTo>
                          <a:pt x="0" y="427"/>
                        </a:lnTo>
                        <a:lnTo>
                          <a:pt x="2" y="415"/>
                        </a:lnTo>
                        <a:lnTo>
                          <a:pt x="0" y="396"/>
                        </a:lnTo>
                        <a:lnTo>
                          <a:pt x="3" y="378"/>
                        </a:lnTo>
                        <a:lnTo>
                          <a:pt x="6" y="362"/>
                        </a:lnTo>
                        <a:lnTo>
                          <a:pt x="13" y="346"/>
                        </a:lnTo>
                        <a:lnTo>
                          <a:pt x="21" y="330"/>
                        </a:lnTo>
                        <a:lnTo>
                          <a:pt x="31" y="315"/>
                        </a:lnTo>
                        <a:lnTo>
                          <a:pt x="41" y="300"/>
                        </a:lnTo>
                        <a:lnTo>
                          <a:pt x="54" y="2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76"/>
                  <p:cNvSpPr/>
                  <p:nvPr/>
                </p:nvSpPr>
                <p:spPr>
                  <a:xfrm>
                    <a:off x="4653000" y="1154160"/>
                    <a:ext cx="31680" cy="23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98" h="77">
                        <a:moveTo>
                          <a:pt x="48" y="0"/>
                        </a:moveTo>
                        <a:lnTo>
                          <a:pt x="54" y="0"/>
                        </a:lnTo>
                        <a:lnTo>
                          <a:pt x="60" y="1"/>
                        </a:lnTo>
                        <a:lnTo>
                          <a:pt x="66" y="2"/>
                        </a:lnTo>
                        <a:lnTo>
                          <a:pt x="72" y="5"/>
                        </a:lnTo>
                        <a:lnTo>
                          <a:pt x="77" y="6"/>
                        </a:lnTo>
                        <a:lnTo>
                          <a:pt x="84" y="8"/>
                        </a:lnTo>
                        <a:lnTo>
                          <a:pt x="90" y="8"/>
                        </a:lnTo>
                        <a:lnTo>
                          <a:pt x="98" y="9"/>
                        </a:lnTo>
                        <a:lnTo>
                          <a:pt x="98" y="13"/>
                        </a:lnTo>
                        <a:lnTo>
                          <a:pt x="96" y="17"/>
                        </a:lnTo>
                        <a:lnTo>
                          <a:pt x="94" y="19"/>
                        </a:lnTo>
                        <a:lnTo>
                          <a:pt x="92" y="23"/>
                        </a:lnTo>
                        <a:lnTo>
                          <a:pt x="84" y="23"/>
                        </a:lnTo>
                        <a:lnTo>
                          <a:pt x="75" y="20"/>
                        </a:lnTo>
                        <a:lnTo>
                          <a:pt x="67" y="18"/>
                        </a:lnTo>
                        <a:lnTo>
                          <a:pt x="59" y="16"/>
                        </a:lnTo>
                        <a:lnTo>
                          <a:pt x="51" y="14"/>
                        </a:lnTo>
                        <a:lnTo>
                          <a:pt x="43" y="15"/>
                        </a:lnTo>
                        <a:lnTo>
                          <a:pt x="37" y="19"/>
                        </a:lnTo>
                        <a:lnTo>
                          <a:pt x="32" y="30"/>
                        </a:lnTo>
                        <a:lnTo>
                          <a:pt x="26" y="33"/>
                        </a:lnTo>
                        <a:lnTo>
                          <a:pt x="23" y="40"/>
                        </a:lnTo>
                        <a:lnTo>
                          <a:pt x="20" y="45"/>
                        </a:lnTo>
                        <a:lnTo>
                          <a:pt x="17" y="52"/>
                        </a:lnTo>
                        <a:lnTo>
                          <a:pt x="14" y="57"/>
                        </a:lnTo>
                        <a:lnTo>
                          <a:pt x="14" y="63"/>
                        </a:lnTo>
                        <a:lnTo>
                          <a:pt x="13" y="70"/>
                        </a:lnTo>
                        <a:lnTo>
                          <a:pt x="14" y="76"/>
                        </a:lnTo>
                        <a:lnTo>
                          <a:pt x="8" y="77"/>
                        </a:lnTo>
                        <a:lnTo>
                          <a:pt x="2" y="76"/>
                        </a:lnTo>
                        <a:lnTo>
                          <a:pt x="0" y="67"/>
                        </a:lnTo>
                        <a:lnTo>
                          <a:pt x="1" y="57"/>
                        </a:lnTo>
                        <a:lnTo>
                          <a:pt x="3" y="47"/>
                        </a:lnTo>
                        <a:lnTo>
                          <a:pt x="7" y="39"/>
                        </a:lnTo>
                        <a:lnTo>
                          <a:pt x="11" y="32"/>
                        </a:lnTo>
                        <a:lnTo>
                          <a:pt x="15" y="27"/>
                        </a:lnTo>
                        <a:lnTo>
                          <a:pt x="20" y="20"/>
                        </a:lnTo>
                        <a:lnTo>
                          <a:pt x="25" y="15"/>
                        </a:lnTo>
                        <a:lnTo>
                          <a:pt x="29" y="9"/>
                        </a:lnTo>
                        <a:lnTo>
                          <a:pt x="35" y="4"/>
                        </a:lnTo>
                        <a:lnTo>
                          <a:pt x="41" y="1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77"/>
                  <p:cNvSpPr/>
                  <p:nvPr/>
                </p:nvSpPr>
                <p:spPr>
                  <a:xfrm>
                    <a:off x="4741920" y="1525680"/>
                    <a:ext cx="119160" cy="24120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371" h="763">
                        <a:moveTo>
                          <a:pt x="24" y="257"/>
                        </a:moveTo>
                        <a:lnTo>
                          <a:pt x="27" y="244"/>
                        </a:lnTo>
                        <a:lnTo>
                          <a:pt x="31" y="232"/>
                        </a:lnTo>
                        <a:lnTo>
                          <a:pt x="33" y="219"/>
                        </a:lnTo>
                        <a:lnTo>
                          <a:pt x="36" y="206"/>
                        </a:lnTo>
                        <a:lnTo>
                          <a:pt x="38" y="193"/>
                        </a:lnTo>
                        <a:lnTo>
                          <a:pt x="40" y="180"/>
                        </a:lnTo>
                        <a:lnTo>
                          <a:pt x="43" y="167"/>
                        </a:lnTo>
                        <a:lnTo>
                          <a:pt x="48" y="154"/>
                        </a:lnTo>
                        <a:lnTo>
                          <a:pt x="54" y="146"/>
                        </a:lnTo>
                        <a:lnTo>
                          <a:pt x="59" y="137"/>
                        </a:lnTo>
                        <a:lnTo>
                          <a:pt x="62" y="129"/>
                        </a:lnTo>
                        <a:lnTo>
                          <a:pt x="67" y="120"/>
                        </a:lnTo>
                        <a:lnTo>
                          <a:pt x="70" y="110"/>
                        </a:lnTo>
                        <a:lnTo>
                          <a:pt x="73" y="102"/>
                        </a:lnTo>
                        <a:lnTo>
                          <a:pt x="77" y="93"/>
                        </a:lnTo>
                        <a:lnTo>
                          <a:pt x="84" y="87"/>
                        </a:lnTo>
                        <a:lnTo>
                          <a:pt x="87" y="75"/>
                        </a:lnTo>
                        <a:lnTo>
                          <a:pt x="91" y="64"/>
                        </a:lnTo>
                        <a:lnTo>
                          <a:pt x="96" y="52"/>
                        </a:lnTo>
                        <a:lnTo>
                          <a:pt x="100" y="43"/>
                        </a:lnTo>
                        <a:lnTo>
                          <a:pt x="103" y="31"/>
                        </a:lnTo>
                        <a:lnTo>
                          <a:pt x="107" y="20"/>
                        </a:lnTo>
                        <a:lnTo>
                          <a:pt x="112" y="9"/>
                        </a:lnTo>
                        <a:lnTo>
                          <a:pt x="117" y="0"/>
                        </a:lnTo>
                        <a:lnTo>
                          <a:pt x="132" y="3"/>
                        </a:lnTo>
                        <a:lnTo>
                          <a:pt x="148" y="9"/>
                        </a:lnTo>
                        <a:lnTo>
                          <a:pt x="164" y="17"/>
                        </a:lnTo>
                        <a:lnTo>
                          <a:pt x="180" y="27"/>
                        </a:lnTo>
                        <a:lnTo>
                          <a:pt x="195" y="35"/>
                        </a:lnTo>
                        <a:lnTo>
                          <a:pt x="210" y="46"/>
                        </a:lnTo>
                        <a:lnTo>
                          <a:pt x="225" y="56"/>
                        </a:lnTo>
                        <a:lnTo>
                          <a:pt x="241" y="66"/>
                        </a:lnTo>
                        <a:lnTo>
                          <a:pt x="272" y="94"/>
                        </a:lnTo>
                        <a:lnTo>
                          <a:pt x="298" y="126"/>
                        </a:lnTo>
                        <a:lnTo>
                          <a:pt x="320" y="162"/>
                        </a:lnTo>
                        <a:lnTo>
                          <a:pt x="338" y="200"/>
                        </a:lnTo>
                        <a:lnTo>
                          <a:pt x="351" y="239"/>
                        </a:lnTo>
                        <a:lnTo>
                          <a:pt x="361" y="280"/>
                        </a:lnTo>
                        <a:lnTo>
                          <a:pt x="367" y="322"/>
                        </a:lnTo>
                        <a:lnTo>
                          <a:pt x="371" y="364"/>
                        </a:lnTo>
                        <a:lnTo>
                          <a:pt x="368" y="399"/>
                        </a:lnTo>
                        <a:lnTo>
                          <a:pt x="368" y="435"/>
                        </a:lnTo>
                        <a:lnTo>
                          <a:pt x="367" y="472"/>
                        </a:lnTo>
                        <a:lnTo>
                          <a:pt x="366" y="509"/>
                        </a:lnTo>
                        <a:lnTo>
                          <a:pt x="363" y="546"/>
                        </a:lnTo>
                        <a:lnTo>
                          <a:pt x="361" y="584"/>
                        </a:lnTo>
                        <a:lnTo>
                          <a:pt x="356" y="620"/>
                        </a:lnTo>
                        <a:lnTo>
                          <a:pt x="351" y="658"/>
                        </a:lnTo>
                        <a:lnTo>
                          <a:pt x="341" y="670"/>
                        </a:lnTo>
                        <a:lnTo>
                          <a:pt x="333" y="684"/>
                        </a:lnTo>
                        <a:lnTo>
                          <a:pt x="322" y="697"/>
                        </a:lnTo>
                        <a:lnTo>
                          <a:pt x="312" y="711"/>
                        </a:lnTo>
                        <a:lnTo>
                          <a:pt x="299" y="723"/>
                        </a:lnTo>
                        <a:lnTo>
                          <a:pt x="288" y="733"/>
                        </a:lnTo>
                        <a:lnTo>
                          <a:pt x="274" y="741"/>
                        </a:lnTo>
                        <a:lnTo>
                          <a:pt x="260" y="748"/>
                        </a:lnTo>
                        <a:lnTo>
                          <a:pt x="274" y="729"/>
                        </a:lnTo>
                        <a:lnTo>
                          <a:pt x="287" y="712"/>
                        </a:lnTo>
                        <a:lnTo>
                          <a:pt x="295" y="693"/>
                        </a:lnTo>
                        <a:lnTo>
                          <a:pt x="304" y="674"/>
                        </a:lnTo>
                        <a:lnTo>
                          <a:pt x="309" y="652"/>
                        </a:lnTo>
                        <a:lnTo>
                          <a:pt x="314" y="632"/>
                        </a:lnTo>
                        <a:lnTo>
                          <a:pt x="317" y="610"/>
                        </a:lnTo>
                        <a:lnTo>
                          <a:pt x="320" y="589"/>
                        </a:lnTo>
                        <a:lnTo>
                          <a:pt x="315" y="586"/>
                        </a:lnTo>
                        <a:lnTo>
                          <a:pt x="312" y="587"/>
                        </a:lnTo>
                        <a:lnTo>
                          <a:pt x="308" y="593"/>
                        </a:lnTo>
                        <a:lnTo>
                          <a:pt x="305" y="602"/>
                        </a:lnTo>
                        <a:lnTo>
                          <a:pt x="303" y="609"/>
                        </a:lnTo>
                        <a:lnTo>
                          <a:pt x="303" y="619"/>
                        </a:lnTo>
                        <a:lnTo>
                          <a:pt x="300" y="626"/>
                        </a:lnTo>
                        <a:lnTo>
                          <a:pt x="299" y="635"/>
                        </a:lnTo>
                        <a:lnTo>
                          <a:pt x="298" y="643"/>
                        </a:lnTo>
                        <a:lnTo>
                          <a:pt x="296" y="651"/>
                        </a:lnTo>
                        <a:lnTo>
                          <a:pt x="290" y="669"/>
                        </a:lnTo>
                        <a:lnTo>
                          <a:pt x="283" y="688"/>
                        </a:lnTo>
                        <a:lnTo>
                          <a:pt x="273" y="705"/>
                        </a:lnTo>
                        <a:lnTo>
                          <a:pt x="262" y="722"/>
                        </a:lnTo>
                        <a:lnTo>
                          <a:pt x="248" y="736"/>
                        </a:lnTo>
                        <a:lnTo>
                          <a:pt x="233" y="748"/>
                        </a:lnTo>
                        <a:lnTo>
                          <a:pt x="215" y="756"/>
                        </a:lnTo>
                        <a:lnTo>
                          <a:pt x="196" y="763"/>
                        </a:lnTo>
                        <a:lnTo>
                          <a:pt x="190" y="762"/>
                        </a:lnTo>
                        <a:lnTo>
                          <a:pt x="185" y="761"/>
                        </a:lnTo>
                        <a:lnTo>
                          <a:pt x="178" y="758"/>
                        </a:lnTo>
                        <a:lnTo>
                          <a:pt x="174" y="757"/>
                        </a:lnTo>
                        <a:lnTo>
                          <a:pt x="164" y="751"/>
                        </a:lnTo>
                        <a:lnTo>
                          <a:pt x="158" y="745"/>
                        </a:lnTo>
                        <a:lnTo>
                          <a:pt x="166" y="737"/>
                        </a:lnTo>
                        <a:lnTo>
                          <a:pt x="175" y="731"/>
                        </a:lnTo>
                        <a:lnTo>
                          <a:pt x="183" y="722"/>
                        </a:lnTo>
                        <a:lnTo>
                          <a:pt x="191" y="714"/>
                        </a:lnTo>
                        <a:lnTo>
                          <a:pt x="198" y="705"/>
                        </a:lnTo>
                        <a:lnTo>
                          <a:pt x="205" y="696"/>
                        </a:lnTo>
                        <a:lnTo>
                          <a:pt x="211" y="688"/>
                        </a:lnTo>
                        <a:lnTo>
                          <a:pt x="219" y="679"/>
                        </a:lnTo>
                        <a:lnTo>
                          <a:pt x="229" y="663"/>
                        </a:lnTo>
                        <a:lnTo>
                          <a:pt x="237" y="646"/>
                        </a:lnTo>
                        <a:lnTo>
                          <a:pt x="241" y="628"/>
                        </a:lnTo>
                        <a:lnTo>
                          <a:pt x="246" y="609"/>
                        </a:lnTo>
                        <a:lnTo>
                          <a:pt x="248" y="589"/>
                        </a:lnTo>
                        <a:lnTo>
                          <a:pt x="250" y="570"/>
                        </a:lnTo>
                        <a:lnTo>
                          <a:pt x="251" y="550"/>
                        </a:lnTo>
                        <a:lnTo>
                          <a:pt x="254" y="532"/>
                        </a:lnTo>
                        <a:lnTo>
                          <a:pt x="249" y="528"/>
                        </a:lnTo>
                        <a:lnTo>
                          <a:pt x="244" y="529"/>
                        </a:lnTo>
                        <a:lnTo>
                          <a:pt x="239" y="546"/>
                        </a:lnTo>
                        <a:lnTo>
                          <a:pt x="237" y="565"/>
                        </a:lnTo>
                        <a:lnTo>
                          <a:pt x="235" y="585"/>
                        </a:lnTo>
                        <a:lnTo>
                          <a:pt x="233" y="604"/>
                        </a:lnTo>
                        <a:lnTo>
                          <a:pt x="229" y="621"/>
                        </a:lnTo>
                        <a:lnTo>
                          <a:pt x="223" y="639"/>
                        </a:lnTo>
                        <a:lnTo>
                          <a:pt x="216" y="657"/>
                        </a:lnTo>
                        <a:lnTo>
                          <a:pt x="205" y="673"/>
                        </a:lnTo>
                        <a:lnTo>
                          <a:pt x="198" y="679"/>
                        </a:lnTo>
                        <a:lnTo>
                          <a:pt x="191" y="688"/>
                        </a:lnTo>
                        <a:lnTo>
                          <a:pt x="185" y="696"/>
                        </a:lnTo>
                        <a:lnTo>
                          <a:pt x="179" y="706"/>
                        </a:lnTo>
                        <a:lnTo>
                          <a:pt x="172" y="713"/>
                        </a:lnTo>
                        <a:lnTo>
                          <a:pt x="164" y="721"/>
                        </a:lnTo>
                        <a:lnTo>
                          <a:pt x="155" y="726"/>
                        </a:lnTo>
                        <a:lnTo>
                          <a:pt x="146" y="731"/>
                        </a:lnTo>
                        <a:lnTo>
                          <a:pt x="142" y="725"/>
                        </a:lnTo>
                        <a:lnTo>
                          <a:pt x="136" y="724"/>
                        </a:lnTo>
                        <a:lnTo>
                          <a:pt x="131" y="723"/>
                        </a:lnTo>
                        <a:lnTo>
                          <a:pt x="128" y="721"/>
                        </a:lnTo>
                        <a:lnTo>
                          <a:pt x="111" y="704"/>
                        </a:lnTo>
                        <a:lnTo>
                          <a:pt x="101" y="685"/>
                        </a:lnTo>
                        <a:lnTo>
                          <a:pt x="93" y="665"/>
                        </a:lnTo>
                        <a:lnTo>
                          <a:pt x="90" y="645"/>
                        </a:lnTo>
                        <a:lnTo>
                          <a:pt x="87" y="623"/>
                        </a:lnTo>
                        <a:lnTo>
                          <a:pt x="85" y="602"/>
                        </a:lnTo>
                        <a:lnTo>
                          <a:pt x="82" y="581"/>
                        </a:lnTo>
                        <a:lnTo>
                          <a:pt x="78" y="562"/>
                        </a:lnTo>
                        <a:lnTo>
                          <a:pt x="82" y="536"/>
                        </a:lnTo>
                        <a:lnTo>
                          <a:pt x="86" y="511"/>
                        </a:lnTo>
                        <a:lnTo>
                          <a:pt x="92" y="485"/>
                        </a:lnTo>
                        <a:lnTo>
                          <a:pt x="100" y="461"/>
                        </a:lnTo>
                        <a:lnTo>
                          <a:pt x="109" y="437"/>
                        </a:lnTo>
                        <a:lnTo>
                          <a:pt x="119" y="414"/>
                        </a:lnTo>
                        <a:lnTo>
                          <a:pt x="131" y="391"/>
                        </a:lnTo>
                        <a:lnTo>
                          <a:pt x="146" y="372"/>
                        </a:lnTo>
                        <a:lnTo>
                          <a:pt x="151" y="368"/>
                        </a:lnTo>
                        <a:lnTo>
                          <a:pt x="158" y="364"/>
                        </a:lnTo>
                        <a:lnTo>
                          <a:pt x="164" y="359"/>
                        </a:lnTo>
                        <a:lnTo>
                          <a:pt x="171" y="355"/>
                        </a:lnTo>
                        <a:lnTo>
                          <a:pt x="181" y="344"/>
                        </a:lnTo>
                        <a:lnTo>
                          <a:pt x="192" y="335"/>
                        </a:lnTo>
                        <a:lnTo>
                          <a:pt x="180" y="335"/>
                        </a:lnTo>
                        <a:lnTo>
                          <a:pt x="171" y="338"/>
                        </a:lnTo>
                        <a:lnTo>
                          <a:pt x="160" y="343"/>
                        </a:lnTo>
                        <a:lnTo>
                          <a:pt x="150" y="349"/>
                        </a:lnTo>
                        <a:lnTo>
                          <a:pt x="137" y="336"/>
                        </a:lnTo>
                        <a:lnTo>
                          <a:pt x="126" y="325"/>
                        </a:lnTo>
                        <a:lnTo>
                          <a:pt x="113" y="315"/>
                        </a:lnTo>
                        <a:lnTo>
                          <a:pt x="101" y="306"/>
                        </a:lnTo>
                        <a:lnTo>
                          <a:pt x="87" y="296"/>
                        </a:lnTo>
                        <a:lnTo>
                          <a:pt x="73" y="289"/>
                        </a:lnTo>
                        <a:lnTo>
                          <a:pt x="59" y="282"/>
                        </a:lnTo>
                        <a:lnTo>
                          <a:pt x="45" y="277"/>
                        </a:lnTo>
                        <a:lnTo>
                          <a:pt x="39" y="276"/>
                        </a:lnTo>
                        <a:lnTo>
                          <a:pt x="33" y="276"/>
                        </a:lnTo>
                        <a:lnTo>
                          <a:pt x="27" y="276"/>
                        </a:lnTo>
                        <a:lnTo>
                          <a:pt x="22" y="276"/>
                        </a:lnTo>
                        <a:lnTo>
                          <a:pt x="15" y="276"/>
                        </a:lnTo>
                        <a:lnTo>
                          <a:pt x="10" y="276"/>
                        </a:lnTo>
                        <a:lnTo>
                          <a:pt x="3" y="276"/>
                        </a:lnTo>
                        <a:lnTo>
                          <a:pt x="0" y="276"/>
                        </a:lnTo>
                        <a:lnTo>
                          <a:pt x="6" y="271"/>
                        </a:lnTo>
                        <a:lnTo>
                          <a:pt x="11" y="266"/>
                        </a:lnTo>
                        <a:lnTo>
                          <a:pt x="15" y="259"/>
                        </a:lnTo>
                        <a:lnTo>
                          <a:pt x="24" y="257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78"/>
                  <p:cNvSpPr/>
                  <p:nvPr/>
                </p:nvSpPr>
                <p:spPr>
                  <a:xfrm>
                    <a:off x="4745160" y="1162080"/>
                    <a:ext cx="17280" cy="2844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54" h="89">
                        <a:moveTo>
                          <a:pt x="54" y="0"/>
                        </a:moveTo>
                        <a:lnTo>
                          <a:pt x="47" y="9"/>
                        </a:lnTo>
                        <a:lnTo>
                          <a:pt x="41" y="19"/>
                        </a:lnTo>
                        <a:lnTo>
                          <a:pt x="32" y="29"/>
                        </a:lnTo>
                        <a:lnTo>
                          <a:pt x="26" y="40"/>
                        </a:lnTo>
                        <a:lnTo>
                          <a:pt x="19" y="50"/>
                        </a:lnTo>
                        <a:lnTo>
                          <a:pt x="14" y="62"/>
                        </a:lnTo>
                        <a:lnTo>
                          <a:pt x="10" y="75"/>
                        </a:lnTo>
                        <a:lnTo>
                          <a:pt x="12" y="88"/>
                        </a:lnTo>
                        <a:lnTo>
                          <a:pt x="5" y="89"/>
                        </a:lnTo>
                        <a:lnTo>
                          <a:pt x="0" y="84"/>
                        </a:lnTo>
                        <a:lnTo>
                          <a:pt x="2" y="71"/>
                        </a:lnTo>
                        <a:lnTo>
                          <a:pt x="5" y="58"/>
                        </a:lnTo>
                        <a:lnTo>
                          <a:pt x="9" y="45"/>
                        </a:lnTo>
                        <a:lnTo>
                          <a:pt x="16" y="34"/>
                        </a:lnTo>
                        <a:lnTo>
                          <a:pt x="21" y="22"/>
                        </a:lnTo>
                        <a:lnTo>
                          <a:pt x="31" y="14"/>
                        </a:lnTo>
                        <a:lnTo>
                          <a:pt x="41" y="5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9"/>
                  <p:cNvSpPr/>
                  <p:nvPr/>
                </p:nvSpPr>
                <p:spPr>
                  <a:xfrm>
                    <a:off x="4762440" y="1184400"/>
                    <a:ext cx="152640" cy="15228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52280"/>
                      <a:gd name="textAreaBottom" fmla="*/ 152640 h 152280"/>
                    </a:gdLst>
                    <a:ahLst/>
                    <a:rect l="textAreaLeft" t="textAreaTop" r="textAreaRight" b="textAreaBottom"/>
                    <a:pathLst>
                      <a:path w="478" h="483">
                        <a:moveTo>
                          <a:pt x="102" y="157"/>
                        </a:moveTo>
                        <a:lnTo>
                          <a:pt x="106" y="151"/>
                        </a:lnTo>
                        <a:lnTo>
                          <a:pt x="109" y="146"/>
                        </a:lnTo>
                        <a:lnTo>
                          <a:pt x="97" y="147"/>
                        </a:lnTo>
                        <a:lnTo>
                          <a:pt x="89" y="147"/>
                        </a:lnTo>
                        <a:lnTo>
                          <a:pt x="79" y="144"/>
                        </a:lnTo>
                        <a:lnTo>
                          <a:pt x="71" y="140"/>
                        </a:lnTo>
                        <a:lnTo>
                          <a:pt x="63" y="134"/>
                        </a:lnTo>
                        <a:lnTo>
                          <a:pt x="54" y="128"/>
                        </a:lnTo>
                        <a:lnTo>
                          <a:pt x="46" y="123"/>
                        </a:lnTo>
                        <a:lnTo>
                          <a:pt x="37" y="120"/>
                        </a:lnTo>
                        <a:lnTo>
                          <a:pt x="27" y="111"/>
                        </a:lnTo>
                        <a:lnTo>
                          <a:pt x="20" y="103"/>
                        </a:lnTo>
                        <a:lnTo>
                          <a:pt x="13" y="95"/>
                        </a:lnTo>
                        <a:lnTo>
                          <a:pt x="9" y="87"/>
                        </a:lnTo>
                        <a:lnTo>
                          <a:pt x="5" y="78"/>
                        </a:lnTo>
                        <a:lnTo>
                          <a:pt x="3" y="68"/>
                        </a:lnTo>
                        <a:lnTo>
                          <a:pt x="2" y="57"/>
                        </a:lnTo>
                        <a:lnTo>
                          <a:pt x="4" y="47"/>
                        </a:lnTo>
                        <a:lnTo>
                          <a:pt x="6" y="40"/>
                        </a:lnTo>
                        <a:lnTo>
                          <a:pt x="9" y="34"/>
                        </a:lnTo>
                        <a:lnTo>
                          <a:pt x="13" y="27"/>
                        </a:lnTo>
                        <a:lnTo>
                          <a:pt x="19" y="22"/>
                        </a:lnTo>
                        <a:lnTo>
                          <a:pt x="24" y="15"/>
                        </a:lnTo>
                        <a:lnTo>
                          <a:pt x="30" y="11"/>
                        </a:lnTo>
                        <a:lnTo>
                          <a:pt x="36" y="7"/>
                        </a:lnTo>
                        <a:lnTo>
                          <a:pt x="42" y="4"/>
                        </a:lnTo>
                        <a:lnTo>
                          <a:pt x="50" y="0"/>
                        </a:lnTo>
                        <a:lnTo>
                          <a:pt x="59" y="0"/>
                        </a:lnTo>
                        <a:lnTo>
                          <a:pt x="66" y="0"/>
                        </a:lnTo>
                        <a:lnTo>
                          <a:pt x="75" y="3"/>
                        </a:lnTo>
                        <a:lnTo>
                          <a:pt x="82" y="5"/>
                        </a:lnTo>
                        <a:lnTo>
                          <a:pt x="90" y="8"/>
                        </a:lnTo>
                        <a:lnTo>
                          <a:pt x="97" y="11"/>
                        </a:lnTo>
                        <a:lnTo>
                          <a:pt x="105" y="15"/>
                        </a:lnTo>
                        <a:lnTo>
                          <a:pt x="112" y="24"/>
                        </a:lnTo>
                        <a:lnTo>
                          <a:pt x="120" y="35"/>
                        </a:lnTo>
                        <a:lnTo>
                          <a:pt x="126" y="46"/>
                        </a:lnTo>
                        <a:lnTo>
                          <a:pt x="131" y="57"/>
                        </a:lnTo>
                        <a:lnTo>
                          <a:pt x="134" y="69"/>
                        </a:lnTo>
                        <a:lnTo>
                          <a:pt x="137" y="81"/>
                        </a:lnTo>
                        <a:lnTo>
                          <a:pt x="137" y="93"/>
                        </a:lnTo>
                        <a:lnTo>
                          <a:pt x="137" y="106"/>
                        </a:lnTo>
                        <a:lnTo>
                          <a:pt x="135" y="114"/>
                        </a:lnTo>
                        <a:lnTo>
                          <a:pt x="129" y="123"/>
                        </a:lnTo>
                        <a:lnTo>
                          <a:pt x="131" y="124"/>
                        </a:lnTo>
                        <a:lnTo>
                          <a:pt x="144" y="116"/>
                        </a:lnTo>
                        <a:lnTo>
                          <a:pt x="159" y="109"/>
                        </a:lnTo>
                        <a:lnTo>
                          <a:pt x="173" y="102"/>
                        </a:lnTo>
                        <a:lnTo>
                          <a:pt x="189" y="96"/>
                        </a:lnTo>
                        <a:lnTo>
                          <a:pt x="205" y="90"/>
                        </a:lnTo>
                        <a:lnTo>
                          <a:pt x="222" y="84"/>
                        </a:lnTo>
                        <a:lnTo>
                          <a:pt x="238" y="80"/>
                        </a:lnTo>
                        <a:lnTo>
                          <a:pt x="255" y="78"/>
                        </a:lnTo>
                        <a:lnTo>
                          <a:pt x="274" y="81"/>
                        </a:lnTo>
                        <a:lnTo>
                          <a:pt x="294" y="88"/>
                        </a:lnTo>
                        <a:lnTo>
                          <a:pt x="313" y="96"/>
                        </a:lnTo>
                        <a:lnTo>
                          <a:pt x="331" y="106"/>
                        </a:lnTo>
                        <a:lnTo>
                          <a:pt x="348" y="115"/>
                        </a:lnTo>
                        <a:lnTo>
                          <a:pt x="367" y="126"/>
                        </a:lnTo>
                        <a:lnTo>
                          <a:pt x="385" y="136"/>
                        </a:lnTo>
                        <a:lnTo>
                          <a:pt x="404" y="146"/>
                        </a:lnTo>
                        <a:lnTo>
                          <a:pt x="418" y="156"/>
                        </a:lnTo>
                        <a:lnTo>
                          <a:pt x="432" y="169"/>
                        </a:lnTo>
                        <a:lnTo>
                          <a:pt x="445" y="181"/>
                        </a:lnTo>
                        <a:lnTo>
                          <a:pt x="457" y="196"/>
                        </a:lnTo>
                        <a:lnTo>
                          <a:pt x="466" y="210"/>
                        </a:lnTo>
                        <a:lnTo>
                          <a:pt x="474" y="227"/>
                        </a:lnTo>
                        <a:lnTo>
                          <a:pt x="477" y="245"/>
                        </a:lnTo>
                        <a:lnTo>
                          <a:pt x="478" y="266"/>
                        </a:lnTo>
                        <a:lnTo>
                          <a:pt x="477" y="285"/>
                        </a:lnTo>
                        <a:lnTo>
                          <a:pt x="475" y="304"/>
                        </a:lnTo>
                        <a:lnTo>
                          <a:pt x="470" y="322"/>
                        </a:lnTo>
                        <a:lnTo>
                          <a:pt x="465" y="342"/>
                        </a:lnTo>
                        <a:lnTo>
                          <a:pt x="455" y="358"/>
                        </a:lnTo>
                        <a:lnTo>
                          <a:pt x="445" y="373"/>
                        </a:lnTo>
                        <a:lnTo>
                          <a:pt x="429" y="386"/>
                        </a:lnTo>
                        <a:lnTo>
                          <a:pt x="411" y="396"/>
                        </a:lnTo>
                        <a:lnTo>
                          <a:pt x="402" y="400"/>
                        </a:lnTo>
                        <a:lnTo>
                          <a:pt x="393" y="403"/>
                        </a:lnTo>
                        <a:lnTo>
                          <a:pt x="385" y="405"/>
                        </a:lnTo>
                        <a:lnTo>
                          <a:pt x="376" y="408"/>
                        </a:lnTo>
                        <a:lnTo>
                          <a:pt x="366" y="409"/>
                        </a:lnTo>
                        <a:lnTo>
                          <a:pt x="357" y="411"/>
                        </a:lnTo>
                        <a:lnTo>
                          <a:pt x="347" y="411"/>
                        </a:lnTo>
                        <a:lnTo>
                          <a:pt x="337" y="413"/>
                        </a:lnTo>
                        <a:lnTo>
                          <a:pt x="333" y="421"/>
                        </a:lnTo>
                        <a:lnTo>
                          <a:pt x="329" y="430"/>
                        </a:lnTo>
                        <a:lnTo>
                          <a:pt x="322" y="438"/>
                        </a:lnTo>
                        <a:lnTo>
                          <a:pt x="316" y="447"/>
                        </a:lnTo>
                        <a:lnTo>
                          <a:pt x="307" y="453"/>
                        </a:lnTo>
                        <a:lnTo>
                          <a:pt x="299" y="461"/>
                        </a:lnTo>
                        <a:lnTo>
                          <a:pt x="290" y="468"/>
                        </a:lnTo>
                        <a:lnTo>
                          <a:pt x="282" y="476"/>
                        </a:lnTo>
                        <a:lnTo>
                          <a:pt x="273" y="477"/>
                        </a:lnTo>
                        <a:lnTo>
                          <a:pt x="266" y="479"/>
                        </a:lnTo>
                        <a:lnTo>
                          <a:pt x="258" y="481"/>
                        </a:lnTo>
                        <a:lnTo>
                          <a:pt x="250" y="483"/>
                        </a:lnTo>
                        <a:lnTo>
                          <a:pt x="242" y="483"/>
                        </a:lnTo>
                        <a:lnTo>
                          <a:pt x="234" y="483"/>
                        </a:lnTo>
                        <a:lnTo>
                          <a:pt x="226" y="482"/>
                        </a:lnTo>
                        <a:lnTo>
                          <a:pt x="219" y="481"/>
                        </a:lnTo>
                        <a:lnTo>
                          <a:pt x="215" y="477"/>
                        </a:lnTo>
                        <a:lnTo>
                          <a:pt x="215" y="473"/>
                        </a:lnTo>
                        <a:lnTo>
                          <a:pt x="222" y="467"/>
                        </a:lnTo>
                        <a:lnTo>
                          <a:pt x="228" y="468"/>
                        </a:lnTo>
                        <a:lnTo>
                          <a:pt x="234" y="472"/>
                        </a:lnTo>
                        <a:lnTo>
                          <a:pt x="243" y="473"/>
                        </a:lnTo>
                        <a:lnTo>
                          <a:pt x="255" y="472"/>
                        </a:lnTo>
                        <a:lnTo>
                          <a:pt x="267" y="468"/>
                        </a:lnTo>
                        <a:lnTo>
                          <a:pt x="277" y="462"/>
                        </a:lnTo>
                        <a:lnTo>
                          <a:pt x="289" y="454"/>
                        </a:lnTo>
                        <a:lnTo>
                          <a:pt x="299" y="445"/>
                        </a:lnTo>
                        <a:lnTo>
                          <a:pt x="308" y="435"/>
                        </a:lnTo>
                        <a:lnTo>
                          <a:pt x="317" y="424"/>
                        </a:lnTo>
                        <a:lnTo>
                          <a:pt x="325" y="415"/>
                        </a:lnTo>
                        <a:lnTo>
                          <a:pt x="315" y="414"/>
                        </a:lnTo>
                        <a:lnTo>
                          <a:pt x="306" y="413"/>
                        </a:lnTo>
                        <a:lnTo>
                          <a:pt x="298" y="409"/>
                        </a:lnTo>
                        <a:lnTo>
                          <a:pt x="290" y="407"/>
                        </a:lnTo>
                        <a:lnTo>
                          <a:pt x="282" y="404"/>
                        </a:lnTo>
                        <a:lnTo>
                          <a:pt x="273" y="401"/>
                        </a:lnTo>
                        <a:lnTo>
                          <a:pt x="264" y="399"/>
                        </a:lnTo>
                        <a:lnTo>
                          <a:pt x="257" y="398"/>
                        </a:lnTo>
                        <a:lnTo>
                          <a:pt x="244" y="413"/>
                        </a:lnTo>
                        <a:lnTo>
                          <a:pt x="231" y="428"/>
                        </a:lnTo>
                        <a:lnTo>
                          <a:pt x="216" y="440"/>
                        </a:lnTo>
                        <a:lnTo>
                          <a:pt x="202" y="453"/>
                        </a:lnTo>
                        <a:lnTo>
                          <a:pt x="185" y="462"/>
                        </a:lnTo>
                        <a:lnTo>
                          <a:pt x="169" y="470"/>
                        </a:lnTo>
                        <a:lnTo>
                          <a:pt x="150" y="476"/>
                        </a:lnTo>
                        <a:lnTo>
                          <a:pt x="131" y="480"/>
                        </a:lnTo>
                        <a:lnTo>
                          <a:pt x="113" y="476"/>
                        </a:lnTo>
                        <a:lnTo>
                          <a:pt x="96" y="473"/>
                        </a:lnTo>
                        <a:lnTo>
                          <a:pt x="77" y="467"/>
                        </a:lnTo>
                        <a:lnTo>
                          <a:pt x="61" y="463"/>
                        </a:lnTo>
                        <a:lnTo>
                          <a:pt x="44" y="455"/>
                        </a:lnTo>
                        <a:lnTo>
                          <a:pt x="28" y="447"/>
                        </a:lnTo>
                        <a:lnTo>
                          <a:pt x="16" y="435"/>
                        </a:lnTo>
                        <a:lnTo>
                          <a:pt x="6" y="421"/>
                        </a:lnTo>
                        <a:lnTo>
                          <a:pt x="0" y="402"/>
                        </a:lnTo>
                        <a:lnTo>
                          <a:pt x="0" y="385"/>
                        </a:lnTo>
                        <a:lnTo>
                          <a:pt x="1" y="366"/>
                        </a:lnTo>
                        <a:lnTo>
                          <a:pt x="6" y="350"/>
                        </a:lnTo>
                        <a:lnTo>
                          <a:pt x="11" y="332"/>
                        </a:lnTo>
                        <a:lnTo>
                          <a:pt x="20" y="316"/>
                        </a:lnTo>
                        <a:lnTo>
                          <a:pt x="28" y="300"/>
                        </a:lnTo>
                        <a:lnTo>
                          <a:pt x="37" y="286"/>
                        </a:lnTo>
                        <a:lnTo>
                          <a:pt x="44" y="269"/>
                        </a:lnTo>
                        <a:lnTo>
                          <a:pt x="52" y="253"/>
                        </a:lnTo>
                        <a:lnTo>
                          <a:pt x="60" y="237"/>
                        </a:lnTo>
                        <a:lnTo>
                          <a:pt x="68" y="220"/>
                        </a:lnTo>
                        <a:lnTo>
                          <a:pt x="77" y="204"/>
                        </a:lnTo>
                        <a:lnTo>
                          <a:pt x="85" y="188"/>
                        </a:lnTo>
                        <a:lnTo>
                          <a:pt x="94" y="172"/>
                        </a:lnTo>
                        <a:lnTo>
                          <a:pt x="102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80"/>
                  <p:cNvSpPr/>
                  <p:nvPr/>
                </p:nvSpPr>
                <p:spPr>
                  <a:xfrm>
                    <a:off x="4768920" y="1187640"/>
                    <a:ext cx="33480" cy="363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08" h="115">
                        <a:moveTo>
                          <a:pt x="36" y="0"/>
                        </a:moveTo>
                        <a:lnTo>
                          <a:pt x="42" y="0"/>
                        </a:lnTo>
                        <a:lnTo>
                          <a:pt x="48" y="0"/>
                        </a:lnTo>
                        <a:lnTo>
                          <a:pt x="54" y="1"/>
                        </a:lnTo>
                        <a:lnTo>
                          <a:pt x="61" y="4"/>
                        </a:lnTo>
                        <a:lnTo>
                          <a:pt x="66" y="5"/>
                        </a:lnTo>
                        <a:lnTo>
                          <a:pt x="72" y="8"/>
                        </a:lnTo>
                        <a:lnTo>
                          <a:pt x="76" y="10"/>
                        </a:lnTo>
                        <a:lnTo>
                          <a:pt x="81" y="15"/>
                        </a:lnTo>
                        <a:lnTo>
                          <a:pt x="87" y="22"/>
                        </a:lnTo>
                        <a:lnTo>
                          <a:pt x="93" y="30"/>
                        </a:lnTo>
                        <a:lnTo>
                          <a:pt x="97" y="40"/>
                        </a:lnTo>
                        <a:lnTo>
                          <a:pt x="103" y="50"/>
                        </a:lnTo>
                        <a:lnTo>
                          <a:pt x="105" y="59"/>
                        </a:lnTo>
                        <a:lnTo>
                          <a:pt x="107" y="70"/>
                        </a:lnTo>
                        <a:lnTo>
                          <a:pt x="107" y="80"/>
                        </a:lnTo>
                        <a:lnTo>
                          <a:pt x="108" y="91"/>
                        </a:lnTo>
                        <a:lnTo>
                          <a:pt x="105" y="97"/>
                        </a:lnTo>
                        <a:lnTo>
                          <a:pt x="103" y="103"/>
                        </a:lnTo>
                        <a:lnTo>
                          <a:pt x="97" y="109"/>
                        </a:lnTo>
                        <a:lnTo>
                          <a:pt x="92" y="115"/>
                        </a:lnTo>
                        <a:lnTo>
                          <a:pt x="82" y="115"/>
                        </a:lnTo>
                        <a:lnTo>
                          <a:pt x="74" y="115"/>
                        </a:lnTo>
                        <a:lnTo>
                          <a:pt x="64" y="112"/>
                        </a:lnTo>
                        <a:lnTo>
                          <a:pt x="55" y="109"/>
                        </a:lnTo>
                        <a:lnTo>
                          <a:pt x="46" y="103"/>
                        </a:lnTo>
                        <a:lnTo>
                          <a:pt x="37" y="98"/>
                        </a:lnTo>
                        <a:lnTo>
                          <a:pt x="30" y="92"/>
                        </a:lnTo>
                        <a:lnTo>
                          <a:pt x="23" y="86"/>
                        </a:lnTo>
                        <a:lnTo>
                          <a:pt x="30" y="84"/>
                        </a:lnTo>
                        <a:lnTo>
                          <a:pt x="36" y="79"/>
                        </a:lnTo>
                        <a:lnTo>
                          <a:pt x="39" y="71"/>
                        </a:lnTo>
                        <a:lnTo>
                          <a:pt x="44" y="65"/>
                        </a:lnTo>
                        <a:lnTo>
                          <a:pt x="44" y="58"/>
                        </a:lnTo>
                        <a:lnTo>
                          <a:pt x="45" y="53"/>
                        </a:lnTo>
                        <a:lnTo>
                          <a:pt x="45" y="47"/>
                        </a:lnTo>
                        <a:lnTo>
                          <a:pt x="45" y="41"/>
                        </a:lnTo>
                        <a:lnTo>
                          <a:pt x="40" y="30"/>
                        </a:lnTo>
                        <a:lnTo>
                          <a:pt x="34" y="23"/>
                        </a:lnTo>
                        <a:lnTo>
                          <a:pt x="22" y="24"/>
                        </a:lnTo>
                        <a:lnTo>
                          <a:pt x="13" y="29"/>
                        </a:lnTo>
                        <a:lnTo>
                          <a:pt x="5" y="37"/>
                        </a:lnTo>
                        <a:lnTo>
                          <a:pt x="1" y="48"/>
                        </a:lnTo>
                        <a:lnTo>
                          <a:pt x="0" y="38"/>
                        </a:lnTo>
                        <a:lnTo>
                          <a:pt x="2" y="32"/>
                        </a:lnTo>
                        <a:lnTo>
                          <a:pt x="5" y="24"/>
                        </a:lnTo>
                        <a:lnTo>
                          <a:pt x="10" y="19"/>
                        </a:lnTo>
                        <a:lnTo>
                          <a:pt x="16" y="12"/>
                        </a:lnTo>
                        <a:lnTo>
                          <a:pt x="22" y="8"/>
                        </a:lnTo>
                        <a:lnTo>
                          <a:pt x="29" y="4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81"/>
                  <p:cNvSpPr/>
                  <p:nvPr/>
                </p:nvSpPr>
                <p:spPr>
                  <a:xfrm>
                    <a:off x="4768920" y="1212840"/>
                    <a:ext cx="141120" cy="117720"/>
                  </a:xfrm>
                  <a:custGeom>
                    <a:avLst/>
                    <a:gdLst>
                      <a:gd name="textAreaLeft" fmla="*/ 0 w 141120"/>
                      <a:gd name="textAreaRight" fmla="*/ 141480 w 14112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442" h="371">
                        <a:moveTo>
                          <a:pt x="58" y="134"/>
                        </a:moveTo>
                        <a:lnTo>
                          <a:pt x="67" y="119"/>
                        </a:lnTo>
                        <a:lnTo>
                          <a:pt x="75" y="105"/>
                        </a:lnTo>
                        <a:lnTo>
                          <a:pt x="82" y="89"/>
                        </a:lnTo>
                        <a:lnTo>
                          <a:pt x="90" y="74"/>
                        </a:lnTo>
                        <a:lnTo>
                          <a:pt x="97" y="58"/>
                        </a:lnTo>
                        <a:lnTo>
                          <a:pt x="108" y="46"/>
                        </a:lnTo>
                        <a:lnTo>
                          <a:pt x="121" y="36"/>
                        </a:lnTo>
                        <a:lnTo>
                          <a:pt x="139" y="31"/>
                        </a:lnTo>
                        <a:lnTo>
                          <a:pt x="152" y="23"/>
                        </a:lnTo>
                        <a:lnTo>
                          <a:pt x="167" y="17"/>
                        </a:lnTo>
                        <a:lnTo>
                          <a:pt x="181" y="10"/>
                        </a:lnTo>
                        <a:lnTo>
                          <a:pt x="197" y="6"/>
                        </a:lnTo>
                        <a:lnTo>
                          <a:pt x="212" y="1"/>
                        </a:lnTo>
                        <a:lnTo>
                          <a:pt x="228" y="0"/>
                        </a:lnTo>
                        <a:lnTo>
                          <a:pt x="244" y="0"/>
                        </a:lnTo>
                        <a:lnTo>
                          <a:pt x="260" y="3"/>
                        </a:lnTo>
                        <a:lnTo>
                          <a:pt x="283" y="15"/>
                        </a:lnTo>
                        <a:lnTo>
                          <a:pt x="307" y="26"/>
                        </a:lnTo>
                        <a:lnTo>
                          <a:pt x="330" y="38"/>
                        </a:lnTo>
                        <a:lnTo>
                          <a:pt x="355" y="51"/>
                        </a:lnTo>
                        <a:lnTo>
                          <a:pt x="376" y="64"/>
                        </a:lnTo>
                        <a:lnTo>
                          <a:pt x="399" y="80"/>
                        </a:lnTo>
                        <a:lnTo>
                          <a:pt x="418" y="99"/>
                        </a:lnTo>
                        <a:lnTo>
                          <a:pt x="436" y="122"/>
                        </a:lnTo>
                        <a:lnTo>
                          <a:pt x="438" y="140"/>
                        </a:lnTo>
                        <a:lnTo>
                          <a:pt x="441" y="160"/>
                        </a:lnTo>
                        <a:lnTo>
                          <a:pt x="442" y="178"/>
                        </a:lnTo>
                        <a:lnTo>
                          <a:pt x="442" y="197"/>
                        </a:lnTo>
                        <a:lnTo>
                          <a:pt x="437" y="214"/>
                        </a:lnTo>
                        <a:lnTo>
                          <a:pt x="432" y="233"/>
                        </a:lnTo>
                        <a:lnTo>
                          <a:pt x="423" y="249"/>
                        </a:lnTo>
                        <a:lnTo>
                          <a:pt x="412" y="265"/>
                        </a:lnTo>
                        <a:lnTo>
                          <a:pt x="396" y="275"/>
                        </a:lnTo>
                        <a:lnTo>
                          <a:pt x="381" y="286"/>
                        </a:lnTo>
                        <a:lnTo>
                          <a:pt x="361" y="295"/>
                        </a:lnTo>
                        <a:lnTo>
                          <a:pt x="343" y="302"/>
                        </a:lnTo>
                        <a:lnTo>
                          <a:pt x="323" y="306"/>
                        </a:lnTo>
                        <a:lnTo>
                          <a:pt x="303" y="307"/>
                        </a:lnTo>
                        <a:lnTo>
                          <a:pt x="283" y="303"/>
                        </a:lnTo>
                        <a:lnTo>
                          <a:pt x="265" y="298"/>
                        </a:lnTo>
                        <a:lnTo>
                          <a:pt x="250" y="292"/>
                        </a:lnTo>
                        <a:lnTo>
                          <a:pt x="259" y="279"/>
                        </a:lnTo>
                        <a:lnTo>
                          <a:pt x="266" y="266"/>
                        </a:lnTo>
                        <a:lnTo>
                          <a:pt x="270" y="252"/>
                        </a:lnTo>
                        <a:lnTo>
                          <a:pt x="274" y="238"/>
                        </a:lnTo>
                        <a:lnTo>
                          <a:pt x="278" y="224"/>
                        </a:lnTo>
                        <a:lnTo>
                          <a:pt x="285" y="212"/>
                        </a:lnTo>
                        <a:lnTo>
                          <a:pt x="296" y="201"/>
                        </a:lnTo>
                        <a:lnTo>
                          <a:pt x="313" y="195"/>
                        </a:lnTo>
                        <a:lnTo>
                          <a:pt x="316" y="187"/>
                        </a:lnTo>
                        <a:lnTo>
                          <a:pt x="319" y="181"/>
                        </a:lnTo>
                        <a:lnTo>
                          <a:pt x="322" y="174"/>
                        </a:lnTo>
                        <a:lnTo>
                          <a:pt x="322" y="166"/>
                        </a:lnTo>
                        <a:lnTo>
                          <a:pt x="312" y="157"/>
                        </a:lnTo>
                        <a:lnTo>
                          <a:pt x="301" y="154"/>
                        </a:lnTo>
                        <a:lnTo>
                          <a:pt x="295" y="153"/>
                        </a:lnTo>
                        <a:lnTo>
                          <a:pt x="289" y="153"/>
                        </a:lnTo>
                        <a:lnTo>
                          <a:pt x="283" y="153"/>
                        </a:lnTo>
                        <a:lnTo>
                          <a:pt x="278" y="155"/>
                        </a:lnTo>
                        <a:lnTo>
                          <a:pt x="259" y="161"/>
                        </a:lnTo>
                        <a:lnTo>
                          <a:pt x="242" y="167"/>
                        </a:lnTo>
                        <a:lnTo>
                          <a:pt x="224" y="174"/>
                        </a:lnTo>
                        <a:lnTo>
                          <a:pt x="207" y="180"/>
                        </a:lnTo>
                        <a:lnTo>
                          <a:pt x="190" y="186"/>
                        </a:lnTo>
                        <a:lnTo>
                          <a:pt x="174" y="196"/>
                        </a:lnTo>
                        <a:lnTo>
                          <a:pt x="157" y="206"/>
                        </a:lnTo>
                        <a:lnTo>
                          <a:pt x="146" y="219"/>
                        </a:lnTo>
                        <a:lnTo>
                          <a:pt x="146" y="227"/>
                        </a:lnTo>
                        <a:lnTo>
                          <a:pt x="151" y="236"/>
                        </a:lnTo>
                        <a:lnTo>
                          <a:pt x="157" y="242"/>
                        </a:lnTo>
                        <a:lnTo>
                          <a:pt x="166" y="246"/>
                        </a:lnTo>
                        <a:lnTo>
                          <a:pt x="175" y="245"/>
                        </a:lnTo>
                        <a:lnTo>
                          <a:pt x="184" y="248"/>
                        </a:lnTo>
                        <a:lnTo>
                          <a:pt x="192" y="252"/>
                        </a:lnTo>
                        <a:lnTo>
                          <a:pt x="200" y="259"/>
                        </a:lnTo>
                        <a:lnTo>
                          <a:pt x="207" y="266"/>
                        </a:lnTo>
                        <a:lnTo>
                          <a:pt x="214" y="273"/>
                        </a:lnTo>
                        <a:lnTo>
                          <a:pt x="221" y="281"/>
                        </a:lnTo>
                        <a:lnTo>
                          <a:pt x="228" y="288"/>
                        </a:lnTo>
                        <a:lnTo>
                          <a:pt x="219" y="301"/>
                        </a:lnTo>
                        <a:lnTo>
                          <a:pt x="210" y="315"/>
                        </a:lnTo>
                        <a:lnTo>
                          <a:pt x="197" y="328"/>
                        </a:lnTo>
                        <a:lnTo>
                          <a:pt x="185" y="340"/>
                        </a:lnTo>
                        <a:lnTo>
                          <a:pt x="171" y="350"/>
                        </a:lnTo>
                        <a:lnTo>
                          <a:pt x="157" y="358"/>
                        </a:lnTo>
                        <a:lnTo>
                          <a:pt x="142" y="365"/>
                        </a:lnTo>
                        <a:lnTo>
                          <a:pt x="127" y="371"/>
                        </a:lnTo>
                        <a:lnTo>
                          <a:pt x="112" y="370"/>
                        </a:lnTo>
                        <a:lnTo>
                          <a:pt x="97" y="370"/>
                        </a:lnTo>
                        <a:lnTo>
                          <a:pt x="82" y="367"/>
                        </a:lnTo>
                        <a:lnTo>
                          <a:pt x="68" y="365"/>
                        </a:lnTo>
                        <a:lnTo>
                          <a:pt x="53" y="359"/>
                        </a:lnTo>
                        <a:lnTo>
                          <a:pt x="41" y="353"/>
                        </a:lnTo>
                        <a:lnTo>
                          <a:pt x="28" y="345"/>
                        </a:lnTo>
                        <a:lnTo>
                          <a:pt x="17" y="336"/>
                        </a:lnTo>
                        <a:lnTo>
                          <a:pt x="5" y="317"/>
                        </a:lnTo>
                        <a:lnTo>
                          <a:pt x="0" y="299"/>
                        </a:lnTo>
                        <a:lnTo>
                          <a:pt x="0" y="280"/>
                        </a:lnTo>
                        <a:lnTo>
                          <a:pt x="5" y="260"/>
                        </a:lnTo>
                        <a:lnTo>
                          <a:pt x="12" y="240"/>
                        </a:lnTo>
                        <a:lnTo>
                          <a:pt x="20" y="221"/>
                        </a:lnTo>
                        <a:lnTo>
                          <a:pt x="29" y="201"/>
                        </a:lnTo>
                        <a:lnTo>
                          <a:pt x="36" y="184"/>
                        </a:lnTo>
                        <a:lnTo>
                          <a:pt x="58" y="1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82"/>
                  <p:cNvSpPr/>
                  <p:nvPr/>
                </p:nvSpPr>
                <p:spPr>
                  <a:xfrm>
                    <a:off x="4819680" y="1160640"/>
                    <a:ext cx="38160" cy="4428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44280"/>
                      <a:gd name="textAreaBottom" fmla="*/ 44280 h 44280"/>
                    </a:gdLst>
                    <a:ahLst/>
                    <a:rect l="textAreaLeft" t="textAreaTop" r="textAreaRight" b="textAreaBottom"/>
                    <a:pathLst>
                      <a:path w="118" h="142">
                        <a:moveTo>
                          <a:pt x="32" y="6"/>
                        </a:moveTo>
                        <a:lnTo>
                          <a:pt x="37" y="3"/>
                        </a:lnTo>
                        <a:lnTo>
                          <a:pt x="44" y="2"/>
                        </a:lnTo>
                        <a:lnTo>
                          <a:pt x="50" y="0"/>
                        </a:lnTo>
                        <a:lnTo>
                          <a:pt x="56" y="2"/>
                        </a:lnTo>
                        <a:lnTo>
                          <a:pt x="62" y="2"/>
                        </a:lnTo>
                        <a:lnTo>
                          <a:pt x="68" y="4"/>
                        </a:lnTo>
                        <a:lnTo>
                          <a:pt x="75" y="6"/>
                        </a:lnTo>
                        <a:lnTo>
                          <a:pt x="81" y="9"/>
                        </a:lnTo>
                        <a:lnTo>
                          <a:pt x="91" y="15"/>
                        </a:lnTo>
                        <a:lnTo>
                          <a:pt x="100" y="24"/>
                        </a:lnTo>
                        <a:lnTo>
                          <a:pt x="107" y="34"/>
                        </a:lnTo>
                        <a:lnTo>
                          <a:pt x="113" y="47"/>
                        </a:lnTo>
                        <a:lnTo>
                          <a:pt x="115" y="57"/>
                        </a:lnTo>
                        <a:lnTo>
                          <a:pt x="118" y="70"/>
                        </a:lnTo>
                        <a:lnTo>
                          <a:pt x="118" y="83"/>
                        </a:lnTo>
                        <a:lnTo>
                          <a:pt x="118" y="97"/>
                        </a:lnTo>
                        <a:lnTo>
                          <a:pt x="114" y="102"/>
                        </a:lnTo>
                        <a:lnTo>
                          <a:pt x="112" y="109"/>
                        </a:lnTo>
                        <a:lnTo>
                          <a:pt x="109" y="114"/>
                        </a:lnTo>
                        <a:lnTo>
                          <a:pt x="106" y="121"/>
                        </a:lnTo>
                        <a:lnTo>
                          <a:pt x="95" y="130"/>
                        </a:lnTo>
                        <a:lnTo>
                          <a:pt x="84" y="140"/>
                        </a:lnTo>
                        <a:lnTo>
                          <a:pt x="69" y="142"/>
                        </a:lnTo>
                        <a:lnTo>
                          <a:pt x="56" y="135"/>
                        </a:lnTo>
                        <a:lnTo>
                          <a:pt x="45" y="128"/>
                        </a:lnTo>
                        <a:lnTo>
                          <a:pt x="32" y="120"/>
                        </a:lnTo>
                        <a:lnTo>
                          <a:pt x="22" y="111"/>
                        </a:lnTo>
                        <a:lnTo>
                          <a:pt x="12" y="100"/>
                        </a:lnTo>
                        <a:lnTo>
                          <a:pt x="6" y="90"/>
                        </a:lnTo>
                        <a:lnTo>
                          <a:pt x="1" y="76"/>
                        </a:lnTo>
                        <a:lnTo>
                          <a:pt x="1" y="63"/>
                        </a:lnTo>
                        <a:lnTo>
                          <a:pt x="0" y="53"/>
                        </a:lnTo>
                        <a:lnTo>
                          <a:pt x="2" y="46"/>
                        </a:lnTo>
                        <a:lnTo>
                          <a:pt x="4" y="37"/>
                        </a:lnTo>
                        <a:lnTo>
                          <a:pt x="8" y="31"/>
                        </a:lnTo>
                        <a:lnTo>
                          <a:pt x="12" y="23"/>
                        </a:lnTo>
                        <a:lnTo>
                          <a:pt x="18" y="17"/>
                        </a:lnTo>
                        <a:lnTo>
                          <a:pt x="24" y="10"/>
                        </a:lnTo>
                        <a:lnTo>
                          <a:pt x="3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83"/>
                  <p:cNvSpPr/>
                  <p:nvPr/>
                </p:nvSpPr>
                <p:spPr>
                  <a:xfrm>
                    <a:off x="4821120" y="1266840"/>
                    <a:ext cx="44640" cy="36720"/>
                  </a:xfrm>
                  <a:custGeom>
                    <a:avLst/>
                    <a:gdLst>
                      <a:gd name="textAreaLeft" fmla="*/ 0 w 44640"/>
                      <a:gd name="textAreaRight" fmla="*/ 44640 w 446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141" h="114">
                        <a:moveTo>
                          <a:pt x="60" y="23"/>
                        </a:moveTo>
                        <a:lnTo>
                          <a:pt x="69" y="18"/>
                        </a:lnTo>
                        <a:lnTo>
                          <a:pt x="79" y="14"/>
                        </a:lnTo>
                        <a:lnTo>
                          <a:pt x="89" y="10"/>
                        </a:lnTo>
                        <a:lnTo>
                          <a:pt x="98" y="7"/>
                        </a:lnTo>
                        <a:lnTo>
                          <a:pt x="108" y="3"/>
                        </a:lnTo>
                        <a:lnTo>
                          <a:pt x="119" y="1"/>
                        </a:lnTo>
                        <a:lnTo>
                          <a:pt x="130" y="0"/>
                        </a:lnTo>
                        <a:lnTo>
                          <a:pt x="141" y="1"/>
                        </a:lnTo>
                        <a:lnTo>
                          <a:pt x="139" y="10"/>
                        </a:lnTo>
                        <a:lnTo>
                          <a:pt x="134" y="17"/>
                        </a:lnTo>
                        <a:lnTo>
                          <a:pt x="127" y="24"/>
                        </a:lnTo>
                        <a:lnTo>
                          <a:pt x="121" y="30"/>
                        </a:lnTo>
                        <a:lnTo>
                          <a:pt x="112" y="36"/>
                        </a:lnTo>
                        <a:lnTo>
                          <a:pt x="106" y="43"/>
                        </a:lnTo>
                        <a:lnTo>
                          <a:pt x="100" y="50"/>
                        </a:lnTo>
                        <a:lnTo>
                          <a:pt x="97" y="60"/>
                        </a:lnTo>
                        <a:lnTo>
                          <a:pt x="95" y="67"/>
                        </a:lnTo>
                        <a:lnTo>
                          <a:pt x="94" y="73"/>
                        </a:lnTo>
                        <a:lnTo>
                          <a:pt x="92" y="81"/>
                        </a:lnTo>
                        <a:lnTo>
                          <a:pt x="91" y="88"/>
                        </a:lnTo>
                        <a:lnTo>
                          <a:pt x="88" y="95"/>
                        </a:lnTo>
                        <a:lnTo>
                          <a:pt x="85" y="101"/>
                        </a:lnTo>
                        <a:lnTo>
                          <a:pt x="81" y="108"/>
                        </a:lnTo>
                        <a:lnTo>
                          <a:pt x="78" y="114"/>
                        </a:lnTo>
                        <a:lnTo>
                          <a:pt x="71" y="104"/>
                        </a:lnTo>
                        <a:lnTo>
                          <a:pt x="63" y="95"/>
                        </a:lnTo>
                        <a:lnTo>
                          <a:pt x="54" y="86"/>
                        </a:lnTo>
                        <a:lnTo>
                          <a:pt x="47" y="79"/>
                        </a:lnTo>
                        <a:lnTo>
                          <a:pt x="36" y="71"/>
                        </a:lnTo>
                        <a:lnTo>
                          <a:pt x="27" y="66"/>
                        </a:lnTo>
                        <a:lnTo>
                          <a:pt x="15" y="62"/>
                        </a:lnTo>
                        <a:lnTo>
                          <a:pt x="3" y="62"/>
                        </a:lnTo>
                        <a:lnTo>
                          <a:pt x="0" y="55"/>
                        </a:lnTo>
                        <a:lnTo>
                          <a:pt x="1" y="51"/>
                        </a:lnTo>
                        <a:lnTo>
                          <a:pt x="3" y="47"/>
                        </a:lnTo>
                        <a:lnTo>
                          <a:pt x="9" y="45"/>
                        </a:lnTo>
                        <a:lnTo>
                          <a:pt x="14" y="42"/>
                        </a:lnTo>
                        <a:lnTo>
                          <a:pt x="20" y="40"/>
                        </a:lnTo>
                        <a:lnTo>
                          <a:pt x="24" y="37"/>
                        </a:lnTo>
                        <a:lnTo>
                          <a:pt x="30" y="35"/>
                        </a:lnTo>
                        <a:lnTo>
                          <a:pt x="60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84"/>
                  <p:cNvSpPr/>
                  <p:nvPr/>
                </p:nvSpPr>
                <p:spPr>
                  <a:xfrm>
                    <a:off x="4822920" y="1130400"/>
                    <a:ext cx="23760" cy="7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75" h="25">
                        <a:moveTo>
                          <a:pt x="18" y="0"/>
                        </a:moveTo>
                        <a:lnTo>
                          <a:pt x="25" y="0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51" y="3"/>
                        </a:lnTo>
                        <a:lnTo>
                          <a:pt x="57" y="5"/>
                        </a:lnTo>
                        <a:lnTo>
                          <a:pt x="65" y="10"/>
                        </a:lnTo>
                        <a:lnTo>
                          <a:pt x="70" y="15"/>
                        </a:lnTo>
                        <a:lnTo>
                          <a:pt x="75" y="24"/>
                        </a:lnTo>
                        <a:lnTo>
                          <a:pt x="70" y="25"/>
                        </a:lnTo>
                        <a:lnTo>
                          <a:pt x="61" y="20"/>
                        </a:lnTo>
                        <a:lnTo>
                          <a:pt x="54" y="17"/>
                        </a:lnTo>
                        <a:lnTo>
                          <a:pt x="46" y="14"/>
                        </a:lnTo>
                        <a:lnTo>
                          <a:pt x="39" y="12"/>
                        </a:lnTo>
                        <a:lnTo>
                          <a:pt x="30" y="10"/>
                        </a:lnTo>
                        <a:lnTo>
                          <a:pt x="23" y="11"/>
                        </a:lnTo>
                        <a:lnTo>
                          <a:pt x="14" y="12"/>
                        </a:lnTo>
                        <a:lnTo>
                          <a:pt x="7" y="16"/>
                        </a:lnTo>
                        <a:lnTo>
                          <a:pt x="0" y="10"/>
                        </a:lnTo>
                        <a:lnTo>
                          <a:pt x="3" y="4"/>
                        </a:lnTo>
                        <a:lnTo>
                          <a:pt x="9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85"/>
                  <p:cNvSpPr/>
                  <p:nvPr/>
                </p:nvSpPr>
                <p:spPr>
                  <a:xfrm>
                    <a:off x="4824360" y="1165320"/>
                    <a:ext cx="28800" cy="3492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90" h="109">
                        <a:moveTo>
                          <a:pt x="6" y="23"/>
                        </a:moveTo>
                        <a:lnTo>
                          <a:pt x="9" y="17"/>
                        </a:lnTo>
                        <a:lnTo>
                          <a:pt x="14" y="10"/>
                        </a:lnTo>
                        <a:lnTo>
                          <a:pt x="18" y="4"/>
                        </a:lnTo>
                        <a:lnTo>
                          <a:pt x="26" y="2"/>
                        </a:lnTo>
                        <a:lnTo>
                          <a:pt x="37" y="0"/>
                        </a:lnTo>
                        <a:lnTo>
                          <a:pt x="49" y="1"/>
                        </a:lnTo>
                        <a:lnTo>
                          <a:pt x="59" y="4"/>
                        </a:lnTo>
                        <a:lnTo>
                          <a:pt x="69" y="11"/>
                        </a:lnTo>
                        <a:lnTo>
                          <a:pt x="74" y="17"/>
                        </a:lnTo>
                        <a:lnTo>
                          <a:pt x="79" y="23"/>
                        </a:lnTo>
                        <a:lnTo>
                          <a:pt x="82" y="30"/>
                        </a:lnTo>
                        <a:lnTo>
                          <a:pt x="85" y="36"/>
                        </a:lnTo>
                        <a:lnTo>
                          <a:pt x="86" y="42"/>
                        </a:lnTo>
                        <a:lnTo>
                          <a:pt x="89" y="51"/>
                        </a:lnTo>
                        <a:lnTo>
                          <a:pt x="89" y="59"/>
                        </a:lnTo>
                        <a:lnTo>
                          <a:pt x="90" y="67"/>
                        </a:lnTo>
                        <a:lnTo>
                          <a:pt x="88" y="73"/>
                        </a:lnTo>
                        <a:lnTo>
                          <a:pt x="85" y="79"/>
                        </a:lnTo>
                        <a:lnTo>
                          <a:pt x="83" y="84"/>
                        </a:lnTo>
                        <a:lnTo>
                          <a:pt x="81" y="91"/>
                        </a:lnTo>
                        <a:lnTo>
                          <a:pt x="74" y="100"/>
                        </a:lnTo>
                        <a:lnTo>
                          <a:pt x="65" y="109"/>
                        </a:lnTo>
                        <a:lnTo>
                          <a:pt x="56" y="108"/>
                        </a:lnTo>
                        <a:lnTo>
                          <a:pt x="50" y="107"/>
                        </a:lnTo>
                        <a:lnTo>
                          <a:pt x="44" y="104"/>
                        </a:lnTo>
                        <a:lnTo>
                          <a:pt x="38" y="102"/>
                        </a:lnTo>
                        <a:lnTo>
                          <a:pt x="27" y="93"/>
                        </a:lnTo>
                        <a:lnTo>
                          <a:pt x="17" y="85"/>
                        </a:lnTo>
                        <a:lnTo>
                          <a:pt x="25" y="86"/>
                        </a:lnTo>
                        <a:lnTo>
                          <a:pt x="33" y="82"/>
                        </a:lnTo>
                        <a:lnTo>
                          <a:pt x="38" y="75"/>
                        </a:lnTo>
                        <a:lnTo>
                          <a:pt x="47" y="71"/>
                        </a:lnTo>
                        <a:lnTo>
                          <a:pt x="50" y="63"/>
                        </a:lnTo>
                        <a:lnTo>
                          <a:pt x="50" y="54"/>
                        </a:lnTo>
                        <a:lnTo>
                          <a:pt x="48" y="46"/>
                        </a:lnTo>
                        <a:lnTo>
                          <a:pt x="47" y="38"/>
                        </a:lnTo>
                        <a:lnTo>
                          <a:pt x="40" y="31"/>
                        </a:lnTo>
                        <a:lnTo>
                          <a:pt x="33" y="27"/>
                        </a:lnTo>
                        <a:lnTo>
                          <a:pt x="24" y="25"/>
                        </a:lnTo>
                        <a:lnTo>
                          <a:pt x="18" y="26"/>
                        </a:lnTo>
                        <a:lnTo>
                          <a:pt x="11" y="32"/>
                        </a:lnTo>
                        <a:lnTo>
                          <a:pt x="6" y="38"/>
                        </a:lnTo>
                        <a:lnTo>
                          <a:pt x="3" y="44"/>
                        </a:lnTo>
                        <a:lnTo>
                          <a:pt x="2" y="51"/>
                        </a:lnTo>
                        <a:lnTo>
                          <a:pt x="0" y="44"/>
                        </a:lnTo>
                        <a:lnTo>
                          <a:pt x="1" y="37"/>
                        </a:lnTo>
                        <a:lnTo>
                          <a:pt x="2" y="30"/>
                        </a:lnTo>
                        <a:lnTo>
                          <a:pt x="6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86"/>
                  <p:cNvSpPr/>
                  <p:nvPr/>
                </p:nvSpPr>
                <p:spPr>
                  <a:xfrm>
                    <a:off x="4829400" y="1052640"/>
                    <a:ext cx="1440" cy="324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2" y="0"/>
                        </a:moveTo>
                        <a:lnTo>
                          <a:pt x="2" y="1"/>
                        </a:lnTo>
                        <a:lnTo>
                          <a:pt x="3" y="5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87"/>
                  <p:cNvSpPr/>
                  <p:nvPr/>
                </p:nvSpPr>
                <p:spPr>
                  <a:xfrm>
                    <a:off x="4856040" y="1062000"/>
                    <a:ext cx="16200" cy="270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47" h="82">
                        <a:moveTo>
                          <a:pt x="26" y="7"/>
                        </a:moveTo>
                        <a:lnTo>
                          <a:pt x="31" y="4"/>
                        </a:lnTo>
                        <a:lnTo>
                          <a:pt x="36" y="2"/>
                        </a:lnTo>
                        <a:lnTo>
                          <a:pt x="41" y="0"/>
                        </a:lnTo>
                        <a:lnTo>
                          <a:pt x="47" y="3"/>
                        </a:lnTo>
                        <a:lnTo>
                          <a:pt x="47" y="9"/>
                        </a:lnTo>
                        <a:lnTo>
                          <a:pt x="44" y="14"/>
                        </a:lnTo>
                        <a:lnTo>
                          <a:pt x="38" y="18"/>
                        </a:lnTo>
                        <a:lnTo>
                          <a:pt x="33" y="22"/>
                        </a:lnTo>
                        <a:lnTo>
                          <a:pt x="25" y="24"/>
                        </a:lnTo>
                        <a:lnTo>
                          <a:pt x="20" y="27"/>
                        </a:lnTo>
                        <a:lnTo>
                          <a:pt x="15" y="33"/>
                        </a:lnTo>
                        <a:lnTo>
                          <a:pt x="15" y="41"/>
                        </a:lnTo>
                        <a:lnTo>
                          <a:pt x="14" y="44"/>
                        </a:lnTo>
                        <a:lnTo>
                          <a:pt x="14" y="51"/>
                        </a:lnTo>
                        <a:lnTo>
                          <a:pt x="14" y="56"/>
                        </a:lnTo>
                        <a:lnTo>
                          <a:pt x="14" y="63"/>
                        </a:lnTo>
                        <a:lnTo>
                          <a:pt x="12" y="73"/>
                        </a:lnTo>
                        <a:lnTo>
                          <a:pt x="9" y="82"/>
                        </a:lnTo>
                        <a:lnTo>
                          <a:pt x="4" y="76"/>
                        </a:lnTo>
                        <a:lnTo>
                          <a:pt x="2" y="69"/>
                        </a:lnTo>
                        <a:lnTo>
                          <a:pt x="0" y="62"/>
                        </a:lnTo>
                        <a:lnTo>
                          <a:pt x="0" y="54"/>
                        </a:lnTo>
                        <a:lnTo>
                          <a:pt x="0" y="46"/>
                        </a:lnTo>
                        <a:lnTo>
                          <a:pt x="3" y="39"/>
                        </a:lnTo>
                        <a:lnTo>
                          <a:pt x="4" y="32"/>
                        </a:lnTo>
                        <a:lnTo>
                          <a:pt x="6" y="26"/>
                        </a:lnTo>
                        <a:lnTo>
                          <a:pt x="26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88"/>
                  <p:cNvSpPr/>
                  <p:nvPr/>
                </p:nvSpPr>
                <p:spPr>
                  <a:xfrm>
                    <a:off x="4857840" y="1330560"/>
                    <a:ext cx="14400" cy="2052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w="49" h="67">
                        <a:moveTo>
                          <a:pt x="21" y="45"/>
                        </a:moveTo>
                        <a:lnTo>
                          <a:pt x="24" y="38"/>
                        </a:lnTo>
                        <a:lnTo>
                          <a:pt x="29" y="33"/>
                        </a:lnTo>
                        <a:lnTo>
                          <a:pt x="31" y="28"/>
                        </a:lnTo>
                        <a:lnTo>
                          <a:pt x="33" y="22"/>
                        </a:lnTo>
                        <a:lnTo>
                          <a:pt x="34" y="16"/>
                        </a:lnTo>
                        <a:lnTo>
                          <a:pt x="36" y="9"/>
                        </a:lnTo>
                        <a:lnTo>
                          <a:pt x="37" y="4"/>
                        </a:lnTo>
                        <a:lnTo>
                          <a:pt x="38" y="0"/>
                        </a:lnTo>
                        <a:lnTo>
                          <a:pt x="44" y="0"/>
                        </a:lnTo>
                        <a:lnTo>
                          <a:pt x="49" y="7"/>
                        </a:lnTo>
                        <a:lnTo>
                          <a:pt x="47" y="16"/>
                        </a:lnTo>
                        <a:lnTo>
                          <a:pt x="45" y="26"/>
                        </a:lnTo>
                        <a:lnTo>
                          <a:pt x="40" y="33"/>
                        </a:lnTo>
                        <a:lnTo>
                          <a:pt x="36" y="42"/>
                        </a:lnTo>
                        <a:lnTo>
                          <a:pt x="30" y="48"/>
                        </a:lnTo>
                        <a:lnTo>
                          <a:pt x="24" y="56"/>
                        </a:lnTo>
                        <a:lnTo>
                          <a:pt x="17" y="61"/>
                        </a:lnTo>
                        <a:lnTo>
                          <a:pt x="9" y="67"/>
                        </a:lnTo>
                        <a:lnTo>
                          <a:pt x="2" y="64"/>
                        </a:lnTo>
                        <a:lnTo>
                          <a:pt x="0" y="61"/>
                        </a:lnTo>
                        <a:lnTo>
                          <a:pt x="1" y="58"/>
                        </a:lnTo>
                        <a:lnTo>
                          <a:pt x="4" y="56"/>
                        </a:lnTo>
                        <a:lnTo>
                          <a:pt x="7" y="52"/>
                        </a:lnTo>
                        <a:lnTo>
                          <a:pt x="12" y="49"/>
                        </a:lnTo>
                        <a:lnTo>
                          <a:pt x="17" y="47"/>
                        </a:lnTo>
                        <a:lnTo>
                          <a:pt x="2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89"/>
                  <p:cNvSpPr/>
                  <p:nvPr/>
                </p:nvSpPr>
                <p:spPr>
                  <a:xfrm>
                    <a:off x="4219560" y="1522440"/>
                    <a:ext cx="376200" cy="200160"/>
                  </a:xfrm>
                  <a:custGeom>
                    <a:avLst/>
                    <a:gdLst>
                      <a:gd name="textAreaLeft" fmla="*/ 0 w 376200"/>
                      <a:gd name="textAreaRight" fmla="*/ 376560 w 376200"/>
                      <a:gd name="textAreaTop" fmla="*/ 0 h 200160"/>
                      <a:gd name="textAreaBottom" fmla="*/ 200520 h 200160"/>
                    </a:gdLst>
                    <a:ahLst/>
                    <a:rect l="textAreaLeft" t="textAreaTop" r="textAreaRight" b="textAreaBottom"/>
                    <a:pathLst>
                      <a:path w="1185" h="626">
                        <a:moveTo>
                          <a:pt x="27" y="0"/>
                        </a:moveTo>
                        <a:lnTo>
                          <a:pt x="27" y="6"/>
                        </a:lnTo>
                        <a:lnTo>
                          <a:pt x="30" y="22"/>
                        </a:lnTo>
                        <a:lnTo>
                          <a:pt x="33" y="45"/>
                        </a:lnTo>
                        <a:lnTo>
                          <a:pt x="39" y="73"/>
                        </a:lnTo>
                        <a:lnTo>
                          <a:pt x="43" y="100"/>
                        </a:lnTo>
                        <a:lnTo>
                          <a:pt x="47" y="127"/>
                        </a:lnTo>
                        <a:lnTo>
                          <a:pt x="49" y="146"/>
                        </a:lnTo>
                        <a:lnTo>
                          <a:pt x="51" y="159"/>
                        </a:lnTo>
                        <a:lnTo>
                          <a:pt x="51" y="169"/>
                        </a:lnTo>
                        <a:lnTo>
                          <a:pt x="51" y="186"/>
                        </a:lnTo>
                        <a:lnTo>
                          <a:pt x="51" y="208"/>
                        </a:lnTo>
                        <a:lnTo>
                          <a:pt x="51" y="234"/>
                        </a:lnTo>
                        <a:lnTo>
                          <a:pt x="51" y="259"/>
                        </a:lnTo>
                        <a:lnTo>
                          <a:pt x="51" y="283"/>
                        </a:lnTo>
                        <a:lnTo>
                          <a:pt x="51" y="301"/>
                        </a:lnTo>
                        <a:lnTo>
                          <a:pt x="51" y="314"/>
                        </a:lnTo>
                        <a:lnTo>
                          <a:pt x="49" y="323"/>
                        </a:lnTo>
                        <a:lnTo>
                          <a:pt x="44" y="339"/>
                        </a:lnTo>
                        <a:lnTo>
                          <a:pt x="36" y="359"/>
                        </a:lnTo>
                        <a:lnTo>
                          <a:pt x="29" y="380"/>
                        </a:lnTo>
                        <a:lnTo>
                          <a:pt x="20" y="401"/>
                        </a:lnTo>
                        <a:lnTo>
                          <a:pt x="13" y="419"/>
                        </a:lnTo>
                        <a:lnTo>
                          <a:pt x="6" y="433"/>
                        </a:lnTo>
                        <a:lnTo>
                          <a:pt x="3" y="441"/>
                        </a:lnTo>
                        <a:lnTo>
                          <a:pt x="0" y="447"/>
                        </a:lnTo>
                        <a:lnTo>
                          <a:pt x="4" y="452"/>
                        </a:lnTo>
                        <a:lnTo>
                          <a:pt x="7" y="453"/>
                        </a:lnTo>
                        <a:lnTo>
                          <a:pt x="14" y="456"/>
                        </a:lnTo>
                        <a:lnTo>
                          <a:pt x="21" y="459"/>
                        </a:lnTo>
                        <a:lnTo>
                          <a:pt x="31" y="462"/>
                        </a:lnTo>
                        <a:lnTo>
                          <a:pt x="45" y="466"/>
                        </a:lnTo>
                        <a:lnTo>
                          <a:pt x="71" y="478"/>
                        </a:lnTo>
                        <a:lnTo>
                          <a:pt x="103" y="493"/>
                        </a:lnTo>
                        <a:lnTo>
                          <a:pt x="140" y="510"/>
                        </a:lnTo>
                        <a:lnTo>
                          <a:pt x="179" y="526"/>
                        </a:lnTo>
                        <a:lnTo>
                          <a:pt x="219" y="541"/>
                        </a:lnTo>
                        <a:lnTo>
                          <a:pt x="255" y="552"/>
                        </a:lnTo>
                        <a:lnTo>
                          <a:pt x="285" y="558"/>
                        </a:lnTo>
                        <a:lnTo>
                          <a:pt x="307" y="560"/>
                        </a:lnTo>
                        <a:lnTo>
                          <a:pt x="324" y="566"/>
                        </a:lnTo>
                        <a:lnTo>
                          <a:pt x="336" y="572"/>
                        </a:lnTo>
                        <a:lnTo>
                          <a:pt x="347" y="581"/>
                        </a:lnTo>
                        <a:lnTo>
                          <a:pt x="357" y="588"/>
                        </a:lnTo>
                        <a:lnTo>
                          <a:pt x="370" y="596"/>
                        </a:lnTo>
                        <a:lnTo>
                          <a:pt x="386" y="602"/>
                        </a:lnTo>
                        <a:lnTo>
                          <a:pt x="409" y="610"/>
                        </a:lnTo>
                        <a:lnTo>
                          <a:pt x="435" y="614"/>
                        </a:lnTo>
                        <a:lnTo>
                          <a:pt x="470" y="620"/>
                        </a:lnTo>
                        <a:lnTo>
                          <a:pt x="508" y="624"/>
                        </a:lnTo>
                        <a:lnTo>
                          <a:pt x="553" y="626"/>
                        </a:lnTo>
                        <a:lnTo>
                          <a:pt x="603" y="624"/>
                        </a:lnTo>
                        <a:lnTo>
                          <a:pt x="657" y="620"/>
                        </a:lnTo>
                        <a:lnTo>
                          <a:pt x="716" y="609"/>
                        </a:lnTo>
                        <a:lnTo>
                          <a:pt x="780" y="593"/>
                        </a:lnTo>
                        <a:lnTo>
                          <a:pt x="818" y="580"/>
                        </a:lnTo>
                        <a:lnTo>
                          <a:pt x="858" y="571"/>
                        </a:lnTo>
                        <a:lnTo>
                          <a:pt x="894" y="563"/>
                        </a:lnTo>
                        <a:lnTo>
                          <a:pt x="932" y="555"/>
                        </a:lnTo>
                        <a:lnTo>
                          <a:pt x="967" y="547"/>
                        </a:lnTo>
                        <a:lnTo>
                          <a:pt x="1003" y="538"/>
                        </a:lnTo>
                        <a:lnTo>
                          <a:pt x="1038" y="526"/>
                        </a:lnTo>
                        <a:lnTo>
                          <a:pt x="1075" y="513"/>
                        </a:lnTo>
                        <a:lnTo>
                          <a:pt x="1080" y="505"/>
                        </a:lnTo>
                        <a:lnTo>
                          <a:pt x="1090" y="491"/>
                        </a:lnTo>
                        <a:lnTo>
                          <a:pt x="1100" y="470"/>
                        </a:lnTo>
                        <a:lnTo>
                          <a:pt x="1112" y="449"/>
                        </a:lnTo>
                        <a:lnTo>
                          <a:pt x="1122" y="426"/>
                        </a:lnTo>
                        <a:lnTo>
                          <a:pt x="1131" y="408"/>
                        </a:lnTo>
                        <a:lnTo>
                          <a:pt x="1137" y="394"/>
                        </a:lnTo>
                        <a:lnTo>
                          <a:pt x="1140" y="390"/>
                        </a:lnTo>
                        <a:lnTo>
                          <a:pt x="1145" y="386"/>
                        </a:lnTo>
                        <a:lnTo>
                          <a:pt x="1159" y="378"/>
                        </a:lnTo>
                        <a:lnTo>
                          <a:pt x="1173" y="367"/>
                        </a:lnTo>
                        <a:lnTo>
                          <a:pt x="1185" y="359"/>
                        </a:lnTo>
                        <a:lnTo>
                          <a:pt x="1184" y="351"/>
                        </a:lnTo>
                        <a:lnTo>
                          <a:pt x="1167" y="351"/>
                        </a:lnTo>
                        <a:lnTo>
                          <a:pt x="1126" y="359"/>
                        </a:lnTo>
                        <a:lnTo>
                          <a:pt x="1057" y="379"/>
                        </a:lnTo>
                        <a:lnTo>
                          <a:pt x="974" y="401"/>
                        </a:lnTo>
                        <a:lnTo>
                          <a:pt x="897" y="418"/>
                        </a:lnTo>
                        <a:lnTo>
                          <a:pt x="825" y="427"/>
                        </a:lnTo>
                        <a:lnTo>
                          <a:pt x="758" y="434"/>
                        </a:lnTo>
                        <a:lnTo>
                          <a:pt x="694" y="435"/>
                        </a:lnTo>
                        <a:lnTo>
                          <a:pt x="634" y="434"/>
                        </a:lnTo>
                        <a:lnTo>
                          <a:pt x="575" y="427"/>
                        </a:lnTo>
                        <a:lnTo>
                          <a:pt x="519" y="421"/>
                        </a:lnTo>
                        <a:lnTo>
                          <a:pt x="454" y="395"/>
                        </a:lnTo>
                        <a:lnTo>
                          <a:pt x="377" y="344"/>
                        </a:lnTo>
                        <a:lnTo>
                          <a:pt x="295" y="275"/>
                        </a:lnTo>
                        <a:lnTo>
                          <a:pt x="215" y="201"/>
                        </a:lnTo>
                        <a:lnTo>
                          <a:pt x="141" y="126"/>
                        </a:lnTo>
                        <a:lnTo>
                          <a:pt x="81" y="61"/>
                        </a:lnTo>
                        <a:lnTo>
                          <a:pt x="41" y="16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90"/>
                  <p:cNvSpPr/>
                  <p:nvPr/>
                </p:nvSpPr>
                <p:spPr>
                  <a:xfrm>
                    <a:off x="3935520" y="1354320"/>
                    <a:ext cx="123840" cy="54108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541080"/>
                      <a:gd name="textAreaBottom" fmla="*/ 541440 h 541080"/>
                    </a:gdLst>
                    <a:ahLst/>
                    <a:rect l="textAreaLeft" t="textAreaTop" r="textAreaRight" b="textAreaBottom"/>
                    <a:pathLst>
                      <a:path w="388" h="1704">
                        <a:moveTo>
                          <a:pt x="306" y="0"/>
                        </a:moveTo>
                        <a:lnTo>
                          <a:pt x="302" y="9"/>
                        </a:lnTo>
                        <a:lnTo>
                          <a:pt x="293" y="33"/>
                        </a:lnTo>
                        <a:lnTo>
                          <a:pt x="281" y="71"/>
                        </a:lnTo>
                        <a:lnTo>
                          <a:pt x="269" y="120"/>
                        </a:lnTo>
                        <a:lnTo>
                          <a:pt x="254" y="174"/>
                        </a:lnTo>
                        <a:lnTo>
                          <a:pt x="242" y="233"/>
                        </a:lnTo>
                        <a:lnTo>
                          <a:pt x="233" y="292"/>
                        </a:lnTo>
                        <a:lnTo>
                          <a:pt x="231" y="351"/>
                        </a:lnTo>
                        <a:lnTo>
                          <a:pt x="234" y="410"/>
                        </a:lnTo>
                        <a:lnTo>
                          <a:pt x="246" y="477"/>
                        </a:lnTo>
                        <a:lnTo>
                          <a:pt x="262" y="547"/>
                        </a:lnTo>
                        <a:lnTo>
                          <a:pt x="284" y="623"/>
                        </a:lnTo>
                        <a:lnTo>
                          <a:pt x="305" y="696"/>
                        </a:lnTo>
                        <a:lnTo>
                          <a:pt x="328" y="769"/>
                        </a:lnTo>
                        <a:lnTo>
                          <a:pt x="348" y="838"/>
                        </a:lnTo>
                        <a:lnTo>
                          <a:pt x="365" y="902"/>
                        </a:lnTo>
                        <a:lnTo>
                          <a:pt x="376" y="954"/>
                        </a:lnTo>
                        <a:lnTo>
                          <a:pt x="383" y="998"/>
                        </a:lnTo>
                        <a:lnTo>
                          <a:pt x="387" y="1031"/>
                        </a:lnTo>
                        <a:lnTo>
                          <a:pt x="388" y="1058"/>
                        </a:lnTo>
                        <a:lnTo>
                          <a:pt x="384" y="1078"/>
                        </a:lnTo>
                        <a:lnTo>
                          <a:pt x="381" y="1092"/>
                        </a:lnTo>
                        <a:lnTo>
                          <a:pt x="375" y="1102"/>
                        </a:lnTo>
                        <a:lnTo>
                          <a:pt x="368" y="1112"/>
                        </a:lnTo>
                        <a:lnTo>
                          <a:pt x="357" y="1119"/>
                        </a:lnTo>
                        <a:lnTo>
                          <a:pt x="340" y="1127"/>
                        </a:lnTo>
                        <a:lnTo>
                          <a:pt x="320" y="1134"/>
                        </a:lnTo>
                        <a:lnTo>
                          <a:pt x="299" y="1145"/>
                        </a:lnTo>
                        <a:lnTo>
                          <a:pt x="274" y="1158"/>
                        </a:lnTo>
                        <a:lnTo>
                          <a:pt x="250" y="1175"/>
                        </a:lnTo>
                        <a:lnTo>
                          <a:pt x="227" y="1197"/>
                        </a:lnTo>
                        <a:lnTo>
                          <a:pt x="206" y="1226"/>
                        </a:lnTo>
                        <a:lnTo>
                          <a:pt x="185" y="1256"/>
                        </a:lnTo>
                        <a:lnTo>
                          <a:pt x="165" y="1286"/>
                        </a:lnTo>
                        <a:lnTo>
                          <a:pt x="143" y="1315"/>
                        </a:lnTo>
                        <a:lnTo>
                          <a:pt x="125" y="1344"/>
                        </a:lnTo>
                        <a:lnTo>
                          <a:pt x="108" y="1368"/>
                        </a:lnTo>
                        <a:lnTo>
                          <a:pt x="96" y="1392"/>
                        </a:lnTo>
                        <a:lnTo>
                          <a:pt x="87" y="1411"/>
                        </a:lnTo>
                        <a:lnTo>
                          <a:pt x="86" y="1429"/>
                        </a:lnTo>
                        <a:lnTo>
                          <a:pt x="85" y="1441"/>
                        </a:lnTo>
                        <a:lnTo>
                          <a:pt x="81" y="1453"/>
                        </a:lnTo>
                        <a:lnTo>
                          <a:pt x="76" y="1465"/>
                        </a:lnTo>
                        <a:lnTo>
                          <a:pt x="72" y="1479"/>
                        </a:lnTo>
                        <a:lnTo>
                          <a:pt x="70" y="1493"/>
                        </a:lnTo>
                        <a:lnTo>
                          <a:pt x="72" y="1511"/>
                        </a:lnTo>
                        <a:lnTo>
                          <a:pt x="80" y="1532"/>
                        </a:lnTo>
                        <a:lnTo>
                          <a:pt x="97" y="1559"/>
                        </a:lnTo>
                        <a:lnTo>
                          <a:pt x="115" y="1585"/>
                        </a:lnTo>
                        <a:lnTo>
                          <a:pt x="130" y="1609"/>
                        </a:lnTo>
                        <a:lnTo>
                          <a:pt x="143" y="1626"/>
                        </a:lnTo>
                        <a:lnTo>
                          <a:pt x="155" y="1641"/>
                        </a:lnTo>
                        <a:lnTo>
                          <a:pt x="162" y="1652"/>
                        </a:lnTo>
                        <a:lnTo>
                          <a:pt x="170" y="1659"/>
                        </a:lnTo>
                        <a:lnTo>
                          <a:pt x="176" y="1664"/>
                        </a:lnTo>
                        <a:lnTo>
                          <a:pt x="183" y="1667"/>
                        </a:lnTo>
                        <a:lnTo>
                          <a:pt x="189" y="1668"/>
                        </a:lnTo>
                        <a:lnTo>
                          <a:pt x="199" y="1673"/>
                        </a:lnTo>
                        <a:lnTo>
                          <a:pt x="210" y="1679"/>
                        </a:lnTo>
                        <a:lnTo>
                          <a:pt x="221" y="1686"/>
                        </a:lnTo>
                        <a:lnTo>
                          <a:pt x="232" y="1691"/>
                        </a:lnTo>
                        <a:lnTo>
                          <a:pt x="242" y="1698"/>
                        </a:lnTo>
                        <a:lnTo>
                          <a:pt x="248" y="1702"/>
                        </a:lnTo>
                        <a:lnTo>
                          <a:pt x="251" y="1704"/>
                        </a:lnTo>
                        <a:lnTo>
                          <a:pt x="246" y="1702"/>
                        </a:lnTo>
                        <a:lnTo>
                          <a:pt x="234" y="1698"/>
                        </a:lnTo>
                        <a:lnTo>
                          <a:pt x="217" y="1691"/>
                        </a:lnTo>
                        <a:lnTo>
                          <a:pt x="197" y="1686"/>
                        </a:lnTo>
                        <a:lnTo>
                          <a:pt x="175" y="1679"/>
                        </a:lnTo>
                        <a:lnTo>
                          <a:pt x="155" y="1673"/>
                        </a:lnTo>
                        <a:lnTo>
                          <a:pt x="138" y="1668"/>
                        </a:lnTo>
                        <a:lnTo>
                          <a:pt x="127" y="1667"/>
                        </a:lnTo>
                        <a:lnTo>
                          <a:pt x="115" y="1660"/>
                        </a:lnTo>
                        <a:lnTo>
                          <a:pt x="98" y="1649"/>
                        </a:lnTo>
                        <a:lnTo>
                          <a:pt x="77" y="1632"/>
                        </a:lnTo>
                        <a:lnTo>
                          <a:pt x="55" y="1614"/>
                        </a:lnTo>
                        <a:lnTo>
                          <a:pt x="34" y="1594"/>
                        </a:lnTo>
                        <a:lnTo>
                          <a:pt x="17" y="1577"/>
                        </a:lnTo>
                        <a:lnTo>
                          <a:pt x="5" y="1563"/>
                        </a:lnTo>
                        <a:lnTo>
                          <a:pt x="0" y="1556"/>
                        </a:lnTo>
                        <a:lnTo>
                          <a:pt x="0" y="1546"/>
                        </a:lnTo>
                        <a:lnTo>
                          <a:pt x="0" y="1527"/>
                        </a:lnTo>
                        <a:lnTo>
                          <a:pt x="0" y="1503"/>
                        </a:lnTo>
                        <a:lnTo>
                          <a:pt x="3" y="1475"/>
                        </a:lnTo>
                        <a:lnTo>
                          <a:pt x="4" y="1447"/>
                        </a:lnTo>
                        <a:lnTo>
                          <a:pt x="7" y="1422"/>
                        </a:lnTo>
                        <a:lnTo>
                          <a:pt x="10" y="1403"/>
                        </a:lnTo>
                        <a:lnTo>
                          <a:pt x="14" y="1394"/>
                        </a:lnTo>
                        <a:lnTo>
                          <a:pt x="21" y="1381"/>
                        </a:lnTo>
                        <a:lnTo>
                          <a:pt x="34" y="1358"/>
                        </a:lnTo>
                        <a:lnTo>
                          <a:pt x="49" y="1324"/>
                        </a:lnTo>
                        <a:lnTo>
                          <a:pt x="67" y="1289"/>
                        </a:lnTo>
                        <a:lnTo>
                          <a:pt x="84" y="1253"/>
                        </a:lnTo>
                        <a:lnTo>
                          <a:pt x="100" y="1220"/>
                        </a:lnTo>
                        <a:lnTo>
                          <a:pt x="112" y="1198"/>
                        </a:lnTo>
                        <a:lnTo>
                          <a:pt x="121" y="1188"/>
                        </a:lnTo>
                        <a:lnTo>
                          <a:pt x="128" y="1175"/>
                        </a:lnTo>
                        <a:lnTo>
                          <a:pt x="143" y="1150"/>
                        </a:lnTo>
                        <a:lnTo>
                          <a:pt x="163" y="1113"/>
                        </a:lnTo>
                        <a:lnTo>
                          <a:pt x="186" y="1072"/>
                        </a:lnTo>
                        <a:lnTo>
                          <a:pt x="207" y="1029"/>
                        </a:lnTo>
                        <a:lnTo>
                          <a:pt x="228" y="992"/>
                        </a:lnTo>
                        <a:lnTo>
                          <a:pt x="243" y="962"/>
                        </a:lnTo>
                        <a:lnTo>
                          <a:pt x="251" y="947"/>
                        </a:lnTo>
                        <a:lnTo>
                          <a:pt x="252" y="928"/>
                        </a:lnTo>
                        <a:lnTo>
                          <a:pt x="252" y="896"/>
                        </a:lnTo>
                        <a:lnTo>
                          <a:pt x="249" y="854"/>
                        </a:lnTo>
                        <a:lnTo>
                          <a:pt x="246" y="808"/>
                        </a:lnTo>
                        <a:lnTo>
                          <a:pt x="241" y="761"/>
                        </a:lnTo>
                        <a:lnTo>
                          <a:pt x="236" y="720"/>
                        </a:lnTo>
                        <a:lnTo>
                          <a:pt x="232" y="689"/>
                        </a:lnTo>
                        <a:lnTo>
                          <a:pt x="231" y="675"/>
                        </a:lnTo>
                        <a:lnTo>
                          <a:pt x="227" y="657"/>
                        </a:lnTo>
                        <a:lnTo>
                          <a:pt x="220" y="619"/>
                        </a:lnTo>
                        <a:lnTo>
                          <a:pt x="212" y="568"/>
                        </a:lnTo>
                        <a:lnTo>
                          <a:pt x="204" y="511"/>
                        </a:lnTo>
                        <a:lnTo>
                          <a:pt x="195" y="454"/>
                        </a:lnTo>
                        <a:lnTo>
                          <a:pt x="188" y="404"/>
                        </a:lnTo>
                        <a:lnTo>
                          <a:pt x="183" y="366"/>
                        </a:lnTo>
                        <a:lnTo>
                          <a:pt x="183" y="351"/>
                        </a:lnTo>
                        <a:lnTo>
                          <a:pt x="186" y="336"/>
                        </a:lnTo>
                        <a:lnTo>
                          <a:pt x="196" y="305"/>
                        </a:lnTo>
                        <a:lnTo>
                          <a:pt x="209" y="262"/>
                        </a:lnTo>
                        <a:lnTo>
                          <a:pt x="224" y="215"/>
                        </a:lnTo>
                        <a:lnTo>
                          <a:pt x="237" y="168"/>
                        </a:lnTo>
                        <a:lnTo>
                          <a:pt x="249" y="127"/>
                        </a:lnTo>
                        <a:lnTo>
                          <a:pt x="258" y="97"/>
                        </a:lnTo>
                        <a:lnTo>
                          <a:pt x="262" y="87"/>
                        </a:lnTo>
                        <a:lnTo>
                          <a:pt x="306" y="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91"/>
                  <p:cNvSpPr/>
                  <p:nvPr/>
                </p:nvSpPr>
                <p:spPr>
                  <a:xfrm>
                    <a:off x="4033800" y="1849680"/>
                    <a:ext cx="46080" cy="522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47" h="163">
                        <a:moveTo>
                          <a:pt x="124" y="0"/>
                        </a:moveTo>
                        <a:lnTo>
                          <a:pt x="124" y="3"/>
                        </a:lnTo>
                        <a:lnTo>
                          <a:pt x="127" y="9"/>
                        </a:lnTo>
                        <a:lnTo>
                          <a:pt x="130" y="18"/>
                        </a:lnTo>
                        <a:lnTo>
                          <a:pt x="135" y="29"/>
                        </a:lnTo>
                        <a:lnTo>
                          <a:pt x="139" y="40"/>
                        </a:lnTo>
                        <a:lnTo>
                          <a:pt x="143" y="51"/>
                        </a:lnTo>
                        <a:lnTo>
                          <a:pt x="145" y="59"/>
                        </a:lnTo>
                        <a:lnTo>
                          <a:pt x="147" y="66"/>
                        </a:lnTo>
                        <a:lnTo>
                          <a:pt x="146" y="71"/>
                        </a:lnTo>
                        <a:lnTo>
                          <a:pt x="144" y="81"/>
                        </a:lnTo>
                        <a:lnTo>
                          <a:pt x="142" y="92"/>
                        </a:lnTo>
                        <a:lnTo>
                          <a:pt x="140" y="105"/>
                        </a:lnTo>
                        <a:lnTo>
                          <a:pt x="136" y="115"/>
                        </a:lnTo>
                        <a:lnTo>
                          <a:pt x="134" y="126"/>
                        </a:lnTo>
                        <a:lnTo>
                          <a:pt x="133" y="132"/>
                        </a:lnTo>
                        <a:lnTo>
                          <a:pt x="133" y="136"/>
                        </a:lnTo>
                        <a:lnTo>
                          <a:pt x="130" y="136"/>
                        </a:lnTo>
                        <a:lnTo>
                          <a:pt x="125" y="140"/>
                        </a:lnTo>
                        <a:lnTo>
                          <a:pt x="115" y="144"/>
                        </a:lnTo>
                        <a:lnTo>
                          <a:pt x="105" y="150"/>
                        </a:lnTo>
                        <a:lnTo>
                          <a:pt x="92" y="154"/>
                        </a:lnTo>
                        <a:lnTo>
                          <a:pt x="81" y="159"/>
                        </a:lnTo>
                        <a:lnTo>
                          <a:pt x="68" y="161"/>
                        </a:lnTo>
                        <a:lnTo>
                          <a:pt x="58" y="163"/>
                        </a:lnTo>
                        <a:lnTo>
                          <a:pt x="47" y="159"/>
                        </a:lnTo>
                        <a:lnTo>
                          <a:pt x="37" y="157"/>
                        </a:lnTo>
                        <a:lnTo>
                          <a:pt x="27" y="154"/>
                        </a:lnTo>
                        <a:lnTo>
                          <a:pt x="20" y="152"/>
                        </a:lnTo>
                        <a:lnTo>
                          <a:pt x="12" y="149"/>
                        </a:lnTo>
                        <a:lnTo>
                          <a:pt x="7" y="146"/>
                        </a:lnTo>
                        <a:lnTo>
                          <a:pt x="2" y="145"/>
                        </a:lnTo>
                        <a:lnTo>
                          <a:pt x="0" y="143"/>
                        </a:lnTo>
                        <a:lnTo>
                          <a:pt x="2" y="141"/>
                        </a:lnTo>
                        <a:lnTo>
                          <a:pt x="6" y="138"/>
                        </a:lnTo>
                        <a:lnTo>
                          <a:pt x="13" y="136"/>
                        </a:lnTo>
                        <a:lnTo>
                          <a:pt x="24" y="134"/>
                        </a:lnTo>
                        <a:lnTo>
                          <a:pt x="41" y="131"/>
                        </a:lnTo>
                        <a:lnTo>
                          <a:pt x="58" y="127"/>
                        </a:lnTo>
                        <a:lnTo>
                          <a:pt x="72" y="123"/>
                        </a:lnTo>
                        <a:lnTo>
                          <a:pt x="83" y="116"/>
                        </a:lnTo>
                        <a:lnTo>
                          <a:pt x="92" y="111"/>
                        </a:lnTo>
                        <a:lnTo>
                          <a:pt x="99" y="105"/>
                        </a:lnTo>
                        <a:lnTo>
                          <a:pt x="104" y="98"/>
                        </a:lnTo>
                        <a:lnTo>
                          <a:pt x="106" y="92"/>
                        </a:lnTo>
                        <a:lnTo>
                          <a:pt x="110" y="87"/>
                        </a:lnTo>
                        <a:lnTo>
                          <a:pt x="110" y="79"/>
                        </a:lnTo>
                        <a:lnTo>
                          <a:pt x="112" y="67"/>
                        </a:lnTo>
                        <a:lnTo>
                          <a:pt x="114" y="52"/>
                        </a:lnTo>
                        <a:lnTo>
                          <a:pt x="117" y="38"/>
                        </a:lnTo>
                        <a:lnTo>
                          <a:pt x="119" y="23"/>
                        </a:lnTo>
                        <a:lnTo>
                          <a:pt x="121" y="11"/>
                        </a:lnTo>
                        <a:lnTo>
                          <a:pt x="122" y="3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92"/>
                  <p:cNvSpPr/>
                  <p:nvPr/>
                </p:nvSpPr>
                <p:spPr>
                  <a:xfrm>
                    <a:off x="4083120" y="1866960"/>
                    <a:ext cx="47520" cy="2556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25560"/>
                      <a:gd name="textAreaBottom" fmla="*/ 25920 h 25560"/>
                    </a:gdLst>
                    <a:ahLst/>
                    <a:rect l="textAreaLeft" t="textAreaTop" r="textAreaRight" b="textAreaBottom"/>
                    <a:pathLst>
                      <a:path w="154" h="83">
                        <a:moveTo>
                          <a:pt x="6" y="6"/>
                        </a:moveTo>
                        <a:lnTo>
                          <a:pt x="6" y="10"/>
                        </a:lnTo>
                        <a:lnTo>
                          <a:pt x="10" y="19"/>
                        </a:lnTo>
                        <a:lnTo>
                          <a:pt x="14" y="25"/>
                        </a:lnTo>
                        <a:lnTo>
                          <a:pt x="19" y="30"/>
                        </a:lnTo>
                        <a:lnTo>
                          <a:pt x="24" y="35"/>
                        </a:lnTo>
                        <a:lnTo>
                          <a:pt x="34" y="41"/>
                        </a:lnTo>
                        <a:lnTo>
                          <a:pt x="43" y="43"/>
                        </a:lnTo>
                        <a:lnTo>
                          <a:pt x="53" y="46"/>
                        </a:lnTo>
                        <a:lnTo>
                          <a:pt x="64" y="47"/>
                        </a:lnTo>
                        <a:lnTo>
                          <a:pt x="75" y="49"/>
                        </a:lnTo>
                        <a:lnTo>
                          <a:pt x="83" y="49"/>
                        </a:lnTo>
                        <a:lnTo>
                          <a:pt x="92" y="50"/>
                        </a:lnTo>
                        <a:lnTo>
                          <a:pt x="97" y="50"/>
                        </a:lnTo>
                        <a:lnTo>
                          <a:pt x="99" y="52"/>
                        </a:lnTo>
                        <a:lnTo>
                          <a:pt x="134" y="30"/>
                        </a:lnTo>
                        <a:lnTo>
                          <a:pt x="154" y="0"/>
                        </a:lnTo>
                        <a:lnTo>
                          <a:pt x="154" y="52"/>
                        </a:lnTo>
                        <a:lnTo>
                          <a:pt x="134" y="66"/>
                        </a:lnTo>
                        <a:lnTo>
                          <a:pt x="64" y="83"/>
                        </a:lnTo>
                        <a:lnTo>
                          <a:pt x="0" y="83"/>
                        </a:lnTo>
                        <a:lnTo>
                          <a:pt x="6" y="6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3"/>
                  <p:cNvSpPr/>
                  <p:nvPr/>
                </p:nvSpPr>
                <p:spPr>
                  <a:xfrm>
                    <a:off x="4529160" y="1849680"/>
                    <a:ext cx="135000" cy="522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424" h="169">
                        <a:moveTo>
                          <a:pt x="0" y="24"/>
                        </a:move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5" y="35"/>
                        </a:lnTo>
                        <a:lnTo>
                          <a:pt x="13" y="44"/>
                        </a:lnTo>
                        <a:lnTo>
                          <a:pt x="22" y="53"/>
                        </a:lnTo>
                        <a:lnTo>
                          <a:pt x="40" y="65"/>
                        </a:lnTo>
                        <a:lnTo>
                          <a:pt x="60" y="78"/>
                        </a:lnTo>
                        <a:lnTo>
                          <a:pt x="89" y="90"/>
                        </a:lnTo>
                        <a:lnTo>
                          <a:pt x="116" y="101"/>
                        </a:lnTo>
                        <a:lnTo>
                          <a:pt x="136" y="109"/>
                        </a:lnTo>
                        <a:lnTo>
                          <a:pt x="152" y="113"/>
                        </a:lnTo>
                        <a:lnTo>
                          <a:pt x="165" y="117"/>
                        </a:lnTo>
                        <a:lnTo>
                          <a:pt x="176" y="118"/>
                        </a:lnTo>
                        <a:lnTo>
                          <a:pt x="188" y="119"/>
                        </a:lnTo>
                        <a:lnTo>
                          <a:pt x="199" y="119"/>
                        </a:lnTo>
                        <a:lnTo>
                          <a:pt x="217" y="122"/>
                        </a:lnTo>
                        <a:lnTo>
                          <a:pt x="234" y="123"/>
                        </a:lnTo>
                        <a:lnTo>
                          <a:pt x="251" y="126"/>
                        </a:lnTo>
                        <a:lnTo>
                          <a:pt x="268" y="128"/>
                        </a:lnTo>
                        <a:lnTo>
                          <a:pt x="285" y="130"/>
                        </a:lnTo>
                        <a:lnTo>
                          <a:pt x="300" y="130"/>
                        </a:lnTo>
                        <a:lnTo>
                          <a:pt x="316" y="128"/>
                        </a:lnTo>
                        <a:lnTo>
                          <a:pt x="329" y="123"/>
                        </a:lnTo>
                        <a:lnTo>
                          <a:pt x="343" y="114"/>
                        </a:lnTo>
                        <a:lnTo>
                          <a:pt x="353" y="101"/>
                        </a:lnTo>
                        <a:lnTo>
                          <a:pt x="362" y="88"/>
                        </a:lnTo>
                        <a:lnTo>
                          <a:pt x="371" y="76"/>
                        </a:lnTo>
                        <a:lnTo>
                          <a:pt x="378" y="66"/>
                        </a:lnTo>
                        <a:lnTo>
                          <a:pt x="384" y="55"/>
                        </a:lnTo>
                        <a:lnTo>
                          <a:pt x="388" y="49"/>
                        </a:lnTo>
                        <a:lnTo>
                          <a:pt x="390" y="43"/>
                        </a:lnTo>
                        <a:lnTo>
                          <a:pt x="391" y="42"/>
                        </a:lnTo>
                        <a:lnTo>
                          <a:pt x="382" y="0"/>
                        </a:lnTo>
                        <a:lnTo>
                          <a:pt x="383" y="0"/>
                        </a:lnTo>
                        <a:lnTo>
                          <a:pt x="387" y="2"/>
                        </a:lnTo>
                        <a:lnTo>
                          <a:pt x="392" y="6"/>
                        </a:lnTo>
                        <a:lnTo>
                          <a:pt x="400" y="11"/>
                        </a:lnTo>
                        <a:lnTo>
                          <a:pt x="406" y="15"/>
                        </a:lnTo>
                        <a:lnTo>
                          <a:pt x="413" y="23"/>
                        </a:lnTo>
                        <a:lnTo>
                          <a:pt x="418" y="29"/>
                        </a:lnTo>
                        <a:lnTo>
                          <a:pt x="422" y="38"/>
                        </a:lnTo>
                        <a:lnTo>
                          <a:pt x="422" y="46"/>
                        </a:lnTo>
                        <a:lnTo>
                          <a:pt x="424" y="58"/>
                        </a:lnTo>
                        <a:lnTo>
                          <a:pt x="424" y="71"/>
                        </a:lnTo>
                        <a:lnTo>
                          <a:pt x="424" y="86"/>
                        </a:lnTo>
                        <a:lnTo>
                          <a:pt x="421" y="98"/>
                        </a:lnTo>
                        <a:lnTo>
                          <a:pt x="420" y="110"/>
                        </a:lnTo>
                        <a:lnTo>
                          <a:pt x="417" y="118"/>
                        </a:lnTo>
                        <a:lnTo>
                          <a:pt x="415" y="125"/>
                        </a:lnTo>
                        <a:lnTo>
                          <a:pt x="409" y="127"/>
                        </a:lnTo>
                        <a:lnTo>
                          <a:pt x="400" y="133"/>
                        </a:lnTo>
                        <a:lnTo>
                          <a:pt x="387" y="140"/>
                        </a:lnTo>
                        <a:lnTo>
                          <a:pt x="375" y="147"/>
                        </a:lnTo>
                        <a:lnTo>
                          <a:pt x="362" y="153"/>
                        </a:lnTo>
                        <a:lnTo>
                          <a:pt x="353" y="159"/>
                        </a:lnTo>
                        <a:lnTo>
                          <a:pt x="345" y="163"/>
                        </a:lnTo>
                        <a:lnTo>
                          <a:pt x="343" y="166"/>
                        </a:lnTo>
                        <a:lnTo>
                          <a:pt x="338" y="166"/>
                        </a:lnTo>
                        <a:lnTo>
                          <a:pt x="326" y="166"/>
                        </a:lnTo>
                        <a:lnTo>
                          <a:pt x="309" y="166"/>
                        </a:lnTo>
                        <a:lnTo>
                          <a:pt x="291" y="167"/>
                        </a:lnTo>
                        <a:lnTo>
                          <a:pt x="270" y="167"/>
                        </a:lnTo>
                        <a:lnTo>
                          <a:pt x="252" y="168"/>
                        </a:lnTo>
                        <a:lnTo>
                          <a:pt x="237" y="168"/>
                        </a:lnTo>
                        <a:lnTo>
                          <a:pt x="229" y="169"/>
                        </a:lnTo>
                        <a:lnTo>
                          <a:pt x="221" y="168"/>
                        </a:lnTo>
                        <a:lnTo>
                          <a:pt x="207" y="166"/>
                        </a:lnTo>
                        <a:lnTo>
                          <a:pt x="188" y="163"/>
                        </a:lnTo>
                        <a:lnTo>
                          <a:pt x="168" y="161"/>
                        </a:lnTo>
                        <a:lnTo>
                          <a:pt x="147" y="158"/>
                        </a:lnTo>
                        <a:lnTo>
                          <a:pt x="129" y="156"/>
                        </a:lnTo>
                        <a:lnTo>
                          <a:pt x="112" y="155"/>
                        </a:lnTo>
                        <a:lnTo>
                          <a:pt x="103" y="155"/>
                        </a:lnTo>
                        <a:lnTo>
                          <a:pt x="92" y="153"/>
                        </a:lnTo>
                        <a:lnTo>
                          <a:pt x="80" y="149"/>
                        </a:lnTo>
                        <a:lnTo>
                          <a:pt x="66" y="144"/>
                        </a:lnTo>
                        <a:lnTo>
                          <a:pt x="54" y="140"/>
                        </a:lnTo>
                        <a:lnTo>
                          <a:pt x="40" y="133"/>
                        </a:lnTo>
                        <a:lnTo>
                          <a:pt x="30" y="129"/>
                        </a:lnTo>
                        <a:lnTo>
                          <a:pt x="22" y="125"/>
                        </a:lnTo>
                        <a:lnTo>
                          <a:pt x="20" y="12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94"/>
                  <p:cNvSpPr/>
                  <p:nvPr/>
                </p:nvSpPr>
                <p:spPr>
                  <a:xfrm>
                    <a:off x="4667400" y="1849680"/>
                    <a:ext cx="41040" cy="428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1" h="136">
                        <a:moveTo>
                          <a:pt x="11" y="80"/>
                        </a:moveTo>
                        <a:lnTo>
                          <a:pt x="13" y="81"/>
                        </a:lnTo>
                        <a:lnTo>
                          <a:pt x="14" y="81"/>
                        </a:lnTo>
                        <a:lnTo>
                          <a:pt x="17" y="82"/>
                        </a:lnTo>
                        <a:lnTo>
                          <a:pt x="22" y="82"/>
                        </a:lnTo>
                        <a:lnTo>
                          <a:pt x="28" y="83"/>
                        </a:lnTo>
                        <a:lnTo>
                          <a:pt x="34" y="83"/>
                        </a:lnTo>
                        <a:lnTo>
                          <a:pt x="41" y="84"/>
                        </a:lnTo>
                        <a:lnTo>
                          <a:pt x="47" y="85"/>
                        </a:lnTo>
                        <a:lnTo>
                          <a:pt x="54" y="86"/>
                        </a:lnTo>
                        <a:lnTo>
                          <a:pt x="60" y="85"/>
                        </a:lnTo>
                        <a:lnTo>
                          <a:pt x="67" y="83"/>
                        </a:lnTo>
                        <a:lnTo>
                          <a:pt x="73" y="78"/>
                        </a:lnTo>
                        <a:lnTo>
                          <a:pt x="79" y="70"/>
                        </a:lnTo>
                        <a:lnTo>
                          <a:pt x="85" y="59"/>
                        </a:lnTo>
                        <a:lnTo>
                          <a:pt x="91" y="50"/>
                        </a:lnTo>
                        <a:lnTo>
                          <a:pt x="96" y="41"/>
                        </a:lnTo>
                        <a:lnTo>
                          <a:pt x="101" y="35"/>
                        </a:lnTo>
                        <a:lnTo>
                          <a:pt x="104" y="28"/>
                        </a:lnTo>
                        <a:lnTo>
                          <a:pt x="107" y="24"/>
                        </a:lnTo>
                        <a:lnTo>
                          <a:pt x="109" y="21"/>
                        </a:lnTo>
                        <a:lnTo>
                          <a:pt x="111" y="21"/>
                        </a:lnTo>
                        <a:lnTo>
                          <a:pt x="125" y="0"/>
                        </a:lnTo>
                        <a:lnTo>
                          <a:pt x="131" y="53"/>
                        </a:lnTo>
                        <a:lnTo>
                          <a:pt x="129" y="54"/>
                        </a:lnTo>
                        <a:lnTo>
                          <a:pt x="127" y="58"/>
                        </a:lnTo>
                        <a:lnTo>
                          <a:pt x="121" y="64"/>
                        </a:lnTo>
                        <a:lnTo>
                          <a:pt x="117" y="71"/>
                        </a:lnTo>
                        <a:lnTo>
                          <a:pt x="112" y="78"/>
                        </a:lnTo>
                        <a:lnTo>
                          <a:pt x="106" y="85"/>
                        </a:lnTo>
                        <a:lnTo>
                          <a:pt x="100" y="91"/>
                        </a:lnTo>
                        <a:lnTo>
                          <a:pt x="97" y="97"/>
                        </a:lnTo>
                        <a:lnTo>
                          <a:pt x="90" y="100"/>
                        </a:lnTo>
                        <a:lnTo>
                          <a:pt x="84" y="106"/>
                        </a:lnTo>
                        <a:lnTo>
                          <a:pt x="75" y="111"/>
                        </a:lnTo>
                        <a:lnTo>
                          <a:pt x="67" y="116"/>
                        </a:lnTo>
                        <a:lnTo>
                          <a:pt x="57" y="120"/>
                        </a:lnTo>
                        <a:lnTo>
                          <a:pt x="51" y="124"/>
                        </a:lnTo>
                        <a:lnTo>
                          <a:pt x="46" y="126"/>
                        </a:lnTo>
                        <a:lnTo>
                          <a:pt x="45" y="128"/>
                        </a:lnTo>
                        <a:lnTo>
                          <a:pt x="0" y="136"/>
                        </a:lnTo>
                        <a:lnTo>
                          <a:pt x="11" y="8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95"/>
                  <p:cNvSpPr/>
                  <p:nvPr/>
                </p:nvSpPr>
                <p:spPr>
                  <a:xfrm>
                    <a:off x="4707000" y="1838520"/>
                    <a:ext cx="27000" cy="428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81" h="137">
                        <a:moveTo>
                          <a:pt x="21" y="86"/>
                        </a:moveTo>
                        <a:lnTo>
                          <a:pt x="22" y="85"/>
                        </a:lnTo>
                        <a:lnTo>
                          <a:pt x="27" y="84"/>
                        </a:lnTo>
                        <a:lnTo>
                          <a:pt x="30" y="80"/>
                        </a:lnTo>
                        <a:lnTo>
                          <a:pt x="33" y="78"/>
                        </a:lnTo>
                        <a:lnTo>
                          <a:pt x="37" y="74"/>
                        </a:lnTo>
                        <a:lnTo>
                          <a:pt x="42" y="69"/>
                        </a:lnTo>
                        <a:lnTo>
                          <a:pt x="44" y="62"/>
                        </a:lnTo>
                        <a:lnTo>
                          <a:pt x="47" y="56"/>
                        </a:lnTo>
                        <a:lnTo>
                          <a:pt x="49" y="50"/>
                        </a:lnTo>
                        <a:lnTo>
                          <a:pt x="52" y="47"/>
                        </a:lnTo>
                        <a:lnTo>
                          <a:pt x="57" y="39"/>
                        </a:lnTo>
                        <a:lnTo>
                          <a:pt x="62" y="31"/>
                        </a:lnTo>
                        <a:lnTo>
                          <a:pt x="64" y="26"/>
                        </a:lnTo>
                        <a:lnTo>
                          <a:pt x="66" y="20"/>
                        </a:lnTo>
                        <a:lnTo>
                          <a:pt x="68" y="15"/>
                        </a:lnTo>
                        <a:lnTo>
                          <a:pt x="71" y="11"/>
                        </a:lnTo>
                        <a:lnTo>
                          <a:pt x="74" y="2"/>
                        </a:lnTo>
                        <a:lnTo>
                          <a:pt x="76" y="0"/>
                        </a:lnTo>
                        <a:lnTo>
                          <a:pt x="76" y="2"/>
                        </a:lnTo>
                        <a:lnTo>
                          <a:pt x="76" y="7"/>
                        </a:lnTo>
                        <a:lnTo>
                          <a:pt x="77" y="16"/>
                        </a:lnTo>
                        <a:lnTo>
                          <a:pt x="78" y="27"/>
                        </a:lnTo>
                        <a:lnTo>
                          <a:pt x="78" y="37"/>
                        </a:lnTo>
                        <a:lnTo>
                          <a:pt x="79" y="48"/>
                        </a:lnTo>
                        <a:lnTo>
                          <a:pt x="80" y="58"/>
                        </a:lnTo>
                        <a:lnTo>
                          <a:pt x="81" y="65"/>
                        </a:lnTo>
                        <a:lnTo>
                          <a:pt x="79" y="70"/>
                        </a:lnTo>
                        <a:lnTo>
                          <a:pt x="77" y="76"/>
                        </a:lnTo>
                        <a:lnTo>
                          <a:pt x="73" y="83"/>
                        </a:lnTo>
                        <a:lnTo>
                          <a:pt x="69" y="89"/>
                        </a:lnTo>
                        <a:lnTo>
                          <a:pt x="61" y="99"/>
                        </a:lnTo>
                        <a:lnTo>
                          <a:pt x="58" y="103"/>
                        </a:lnTo>
                        <a:lnTo>
                          <a:pt x="0" y="137"/>
                        </a:lnTo>
                        <a:lnTo>
                          <a:pt x="17" y="110"/>
                        </a:lnTo>
                        <a:lnTo>
                          <a:pt x="21" y="86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96"/>
                  <p:cNvSpPr/>
                  <p:nvPr/>
                </p:nvSpPr>
                <p:spPr>
                  <a:xfrm>
                    <a:off x="4700520" y="1501920"/>
                    <a:ext cx="79560" cy="13644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49" h="426">
                        <a:moveTo>
                          <a:pt x="94" y="114"/>
                        </a:moveTo>
                        <a:lnTo>
                          <a:pt x="90" y="122"/>
                        </a:lnTo>
                        <a:lnTo>
                          <a:pt x="83" y="148"/>
                        </a:lnTo>
                        <a:lnTo>
                          <a:pt x="71" y="183"/>
                        </a:lnTo>
                        <a:lnTo>
                          <a:pt x="60" y="225"/>
                        </a:lnTo>
                        <a:lnTo>
                          <a:pt x="48" y="266"/>
                        </a:lnTo>
                        <a:lnTo>
                          <a:pt x="36" y="305"/>
                        </a:lnTo>
                        <a:lnTo>
                          <a:pt x="27" y="333"/>
                        </a:lnTo>
                        <a:lnTo>
                          <a:pt x="24" y="348"/>
                        </a:lnTo>
                        <a:lnTo>
                          <a:pt x="21" y="354"/>
                        </a:lnTo>
                        <a:lnTo>
                          <a:pt x="19" y="364"/>
                        </a:lnTo>
                        <a:lnTo>
                          <a:pt x="14" y="374"/>
                        </a:lnTo>
                        <a:lnTo>
                          <a:pt x="10" y="386"/>
                        </a:lnTo>
                        <a:lnTo>
                          <a:pt x="6" y="397"/>
                        </a:lnTo>
                        <a:lnTo>
                          <a:pt x="2" y="407"/>
                        </a:lnTo>
                        <a:lnTo>
                          <a:pt x="0" y="413"/>
                        </a:lnTo>
                        <a:lnTo>
                          <a:pt x="0" y="416"/>
                        </a:lnTo>
                        <a:lnTo>
                          <a:pt x="1" y="418"/>
                        </a:lnTo>
                        <a:lnTo>
                          <a:pt x="6" y="423"/>
                        </a:lnTo>
                        <a:lnTo>
                          <a:pt x="12" y="426"/>
                        </a:lnTo>
                        <a:lnTo>
                          <a:pt x="21" y="424"/>
                        </a:lnTo>
                        <a:lnTo>
                          <a:pt x="26" y="417"/>
                        </a:lnTo>
                        <a:lnTo>
                          <a:pt x="36" y="410"/>
                        </a:lnTo>
                        <a:lnTo>
                          <a:pt x="48" y="399"/>
                        </a:lnTo>
                        <a:lnTo>
                          <a:pt x="60" y="389"/>
                        </a:lnTo>
                        <a:lnTo>
                          <a:pt x="72" y="380"/>
                        </a:lnTo>
                        <a:lnTo>
                          <a:pt x="83" y="372"/>
                        </a:lnTo>
                        <a:lnTo>
                          <a:pt x="90" y="366"/>
                        </a:lnTo>
                        <a:lnTo>
                          <a:pt x="94" y="365"/>
                        </a:lnTo>
                        <a:lnTo>
                          <a:pt x="144" y="293"/>
                        </a:lnTo>
                        <a:lnTo>
                          <a:pt x="152" y="240"/>
                        </a:lnTo>
                        <a:lnTo>
                          <a:pt x="153" y="237"/>
                        </a:lnTo>
                        <a:lnTo>
                          <a:pt x="157" y="229"/>
                        </a:lnTo>
                        <a:lnTo>
                          <a:pt x="162" y="218"/>
                        </a:lnTo>
                        <a:lnTo>
                          <a:pt x="169" y="206"/>
                        </a:lnTo>
                        <a:lnTo>
                          <a:pt x="175" y="192"/>
                        </a:lnTo>
                        <a:lnTo>
                          <a:pt x="183" y="180"/>
                        </a:lnTo>
                        <a:lnTo>
                          <a:pt x="188" y="170"/>
                        </a:lnTo>
                        <a:lnTo>
                          <a:pt x="192" y="165"/>
                        </a:lnTo>
                        <a:lnTo>
                          <a:pt x="193" y="160"/>
                        </a:lnTo>
                        <a:lnTo>
                          <a:pt x="194" y="153"/>
                        </a:lnTo>
                        <a:lnTo>
                          <a:pt x="196" y="146"/>
                        </a:lnTo>
                        <a:lnTo>
                          <a:pt x="198" y="137"/>
                        </a:lnTo>
                        <a:lnTo>
                          <a:pt x="199" y="126"/>
                        </a:lnTo>
                        <a:lnTo>
                          <a:pt x="203" y="117"/>
                        </a:lnTo>
                        <a:lnTo>
                          <a:pt x="208" y="105"/>
                        </a:lnTo>
                        <a:lnTo>
                          <a:pt x="217" y="93"/>
                        </a:lnTo>
                        <a:lnTo>
                          <a:pt x="223" y="80"/>
                        </a:lnTo>
                        <a:lnTo>
                          <a:pt x="230" y="69"/>
                        </a:lnTo>
                        <a:lnTo>
                          <a:pt x="234" y="57"/>
                        </a:lnTo>
                        <a:lnTo>
                          <a:pt x="238" y="47"/>
                        </a:lnTo>
                        <a:lnTo>
                          <a:pt x="240" y="37"/>
                        </a:lnTo>
                        <a:lnTo>
                          <a:pt x="243" y="28"/>
                        </a:lnTo>
                        <a:lnTo>
                          <a:pt x="245" y="19"/>
                        </a:lnTo>
                        <a:lnTo>
                          <a:pt x="248" y="11"/>
                        </a:lnTo>
                        <a:lnTo>
                          <a:pt x="249" y="3"/>
                        </a:lnTo>
                        <a:lnTo>
                          <a:pt x="249" y="0"/>
                        </a:lnTo>
                        <a:lnTo>
                          <a:pt x="247" y="0"/>
                        </a:lnTo>
                        <a:lnTo>
                          <a:pt x="245" y="5"/>
                        </a:lnTo>
                        <a:lnTo>
                          <a:pt x="238" y="12"/>
                        </a:lnTo>
                        <a:lnTo>
                          <a:pt x="232" y="21"/>
                        </a:lnTo>
                        <a:lnTo>
                          <a:pt x="223" y="32"/>
                        </a:lnTo>
                        <a:lnTo>
                          <a:pt x="214" y="45"/>
                        </a:lnTo>
                        <a:lnTo>
                          <a:pt x="199" y="57"/>
                        </a:lnTo>
                        <a:lnTo>
                          <a:pt x="181" y="70"/>
                        </a:lnTo>
                        <a:lnTo>
                          <a:pt x="161" y="81"/>
                        </a:lnTo>
                        <a:lnTo>
                          <a:pt x="142" y="92"/>
                        </a:lnTo>
                        <a:lnTo>
                          <a:pt x="123" y="101"/>
                        </a:lnTo>
                        <a:lnTo>
                          <a:pt x="108" y="107"/>
                        </a:lnTo>
                        <a:lnTo>
                          <a:pt x="97" y="111"/>
                        </a:lnTo>
                        <a:lnTo>
                          <a:pt x="94" y="114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97"/>
                  <p:cNvSpPr/>
                  <p:nvPr/>
                </p:nvSpPr>
                <p:spPr>
                  <a:xfrm>
                    <a:off x="4680000" y="1204920"/>
                    <a:ext cx="163440" cy="177840"/>
                  </a:xfrm>
                  <a:custGeom>
                    <a:avLst/>
                    <a:gdLst>
                      <a:gd name="textAreaLeft" fmla="*/ 0 w 163440"/>
                      <a:gd name="textAreaRight" fmla="*/ 163800 w 16344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518" h="560">
                        <a:moveTo>
                          <a:pt x="17" y="0"/>
                        </a:moveTo>
                        <a:lnTo>
                          <a:pt x="15" y="8"/>
                        </a:lnTo>
                        <a:lnTo>
                          <a:pt x="10" y="32"/>
                        </a:lnTo>
                        <a:lnTo>
                          <a:pt x="5" y="68"/>
                        </a:lnTo>
                        <a:lnTo>
                          <a:pt x="2" y="113"/>
                        </a:lnTo>
                        <a:lnTo>
                          <a:pt x="0" y="162"/>
                        </a:lnTo>
                        <a:lnTo>
                          <a:pt x="2" y="215"/>
                        </a:lnTo>
                        <a:lnTo>
                          <a:pt x="9" y="265"/>
                        </a:lnTo>
                        <a:lnTo>
                          <a:pt x="27" y="313"/>
                        </a:lnTo>
                        <a:lnTo>
                          <a:pt x="39" y="341"/>
                        </a:lnTo>
                        <a:lnTo>
                          <a:pt x="51" y="366"/>
                        </a:lnTo>
                        <a:lnTo>
                          <a:pt x="61" y="386"/>
                        </a:lnTo>
                        <a:lnTo>
                          <a:pt x="69" y="405"/>
                        </a:lnTo>
                        <a:lnTo>
                          <a:pt x="76" y="419"/>
                        </a:lnTo>
                        <a:lnTo>
                          <a:pt x="82" y="429"/>
                        </a:lnTo>
                        <a:lnTo>
                          <a:pt x="87" y="436"/>
                        </a:lnTo>
                        <a:lnTo>
                          <a:pt x="92" y="441"/>
                        </a:lnTo>
                        <a:lnTo>
                          <a:pt x="99" y="445"/>
                        </a:lnTo>
                        <a:lnTo>
                          <a:pt x="116" y="457"/>
                        </a:lnTo>
                        <a:lnTo>
                          <a:pt x="137" y="472"/>
                        </a:lnTo>
                        <a:lnTo>
                          <a:pt x="162" y="490"/>
                        </a:lnTo>
                        <a:lnTo>
                          <a:pt x="187" y="508"/>
                        </a:lnTo>
                        <a:lnTo>
                          <a:pt x="214" y="525"/>
                        </a:lnTo>
                        <a:lnTo>
                          <a:pt x="239" y="538"/>
                        </a:lnTo>
                        <a:lnTo>
                          <a:pt x="260" y="547"/>
                        </a:lnTo>
                        <a:lnTo>
                          <a:pt x="277" y="551"/>
                        </a:lnTo>
                        <a:lnTo>
                          <a:pt x="296" y="555"/>
                        </a:lnTo>
                        <a:lnTo>
                          <a:pt x="313" y="558"/>
                        </a:lnTo>
                        <a:lnTo>
                          <a:pt x="331" y="560"/>
                        </a:lnTo>
                        <a:lnTo>
                          <a:pt x="349" y="559"/>
                        </a:lnTo>
                        <a:lnTo>
                          <a:pt x="370" y="557"/>
                        </a:lnTo>
                        <a:lnTo>
                          <a:pt x="391" y="553"/>
                        </a:lnTo>
                        <a:lnTo>
                          <a:pt x="416" y="547"/>
                        </a:lnTo>
                        <a:lnTo>
                          <a:pt x="424" y="543"/>
                        </a:lnTo>
                        <a:lnTo>
                          <a:pt x="439" y="539"/>
                        </a:lnTo>
                        <a:lnTo>
                          <a:pt x="456" y="532"/>
                        </a:lnTo>
                        <a:lnTo>
                          <a:pt x="474" y="527"/>
                        </a:lnTo>
                        <a:lnTo>
                          <a:pt x="489" y="521"/>
                        </a:lnTo>
                        <a:lnTo>
                          <a:pt x="504" y="516"/>
                        </a:lnTo>
                        <a:lnTo>
                          <a:pt x="513" y="513"/>
                        </a:lnTo>
                        <a:lnTo>
                          <a:pt x="518" y="513"/>
                        </a:lnTo>
                        <a:lnTo>
                          <a:pt x="517" y="510"/>
                        </a:lnTo>
                        <a:lnTo>
                          <a:pt x="514" y="502"/>
                        </a:lnTo>
                        <a:lnTo>
                          <a:pt x="510" y="493"/>
                        </a:lnTo>
                        <a:lnTo>
                          <a:pt x="506" y="483"/>
                        </a:lnTo>
                        <a:lnTo>
                          <a:pt x="497" y="472"/>
                        </a:lnTo>
                        <a:lnTo>
                          <a:pt x="488" y="466"/>
                        </a:lnTo>
                        <a:lnTo>
                          <a:pt x="474" y="462"/>
                        </a:lnTo>
                        <a:lnTo>
                          <a:pt x="457" y="465"/>
                        </a:lnTo>
                        <a:lnTo>
                          <a:pt x="436" y="468"/>
                        </a:lnTo>
                        <a:lnTo>
                          <a:pt x="416" y="469"/>
                        </a:lnTo>
                        <a:lnTo>
                          <a:pt x="394" y="468"/>
                        </a:lnTo>
                        <a:lnTo>
                          <a:pt x="374" y="466"/>
                        </a:lnTo>
                        <a:lnTo>
                          <a:pt x="351" y="462"/>
                        </a:lnTo>
                        <a:lnTo>
                          <a:pt x="330" y="456"/>
                        </a:lnTo>
                        <a:lnTo>
                          <a:pt x="308" y="450"/>
                        </a:lnTo>
                        <a:lnTo>
                          <a:pt x="285" y="444"/>
                        </a:lnTo>
                        <a:lnTo>
                          <a:pt x="260" y="435"/>
                        </a:lnTo>
                        <a:lnTo>
                          <a:pt x="236" y="421"/>
                        </a:lnTo>
                        <a:lnTo>
                          <a:pt x="210" y="404"/>
                        </a:lnTo>
                        <a:lnTo>
                          <a:pt x="186" y="384"/>
                        </a:lnTo>
                        <a:lnTo>
                          <a:pt x="164" y="362"/>
                        </a:lnTo>
                        <a:lnTo>
                          <a:pt x="144" y="339"/>
                        </a:lnTo>
                        <a:lnTo>
                          <a:pt x="128" y="317"/>
                        </a:lnTo>
                        <a:lnTo>
                          <a:pt x="120" y="296"/>
                        </a:lnTo>
                        <a:lnTo>
                          <a:pt x="111" y="275"/>
                        </a:lnTo>
                        <a:lnTo>
                          <a:pt x="104" y="253"/>
                        </a:lnTo>
                        <a:lnTo>
                          <a:pt x="97" y="231"/>
                        </a:lnTo>
                        <a:lnTo>
                          <a:pt x="92" y="210"/>
                        </a:lnTo>
                        <a:lnTo>
                          <a:pt x="86" y="190"/>
                        </a:lnTo>
                        <a:lnTo>
                          <a:pt x="80" y="173"/>
                        </a:lnTo>
                        <a:lnTo>
                          <a:pt x="75" y="157"/>
                        </a:lnTo>
                        <a:lnTo>
                          <a:pt x="72" y="145"/>
                        </a:lnTo>
                        <a:lnTo>
                          <a:pt x="65" y="129"/>
                        </a:lnTo>
                        <a:lnTo>
                          <a:pt x="58" y="108"/>
                        </a:lnTo>
                        <a:lnTo>
                          <a:pt x="48" y="84"/>
                        </a:lnTo>
                        <a:lnTo>
                          <a:pt x="39" y="60"/>
                        </a:lnTo>
                        <a:lnTo>
                          <a:pt x="30" y="37"/>
                        </a:lnTo>
                        <a:lnTo>
                          <a:pt x="23" y="17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98"/>
                  <p:cNvSpPr/>
                  <p:nvPr/>
                </p:nvSpPr>
                <p:spPr>
                  <a:xfrm>
                    <a:off x="4767480" y="1290600"/>
                    <a:ext cx="74520" cy="3996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39960"/>
                      <a:gd name="textAreaBottom" fmla="*/ 40320 h 39960"/>
                    </a:gdLst>
                    <a:ahLst/>
                    <a:rect l="textAreaLeft" t="textAreaTop" r="textAreaRight" b="textAreaBottom"/>
                    <a:pathLst>
                      <a:path w="234" h="124">
                        <a:moveTo>
                          <a:pt x="11" y="0"/>
                        </a:moveTo>
                        <a:lnTo>
                          <a:pt x="10" y="0"/>
                        </a:lnTo>
                        <a:lnTo>
                          <a:pt x="13" y="7"/>
                        </a:lnTo>
                        <a:lnTo>
                          <a:pt x="18" y="11"/>
                        </a:lnTo>
                        <a:lnTo>
                          <a:pt x="28" y="19"/>
                        </a:lnTo>
                        <a:lnTo>
                          <a:pt x="42" y="28"/>
                        </a:lnTo>
                        <a:lnTo>
                          <a:pt x="63" y="42"/>
                        </a:lnTo>
                        <a:lnTo>
                          <a:pt x="82" y="53"/>
                        </a:lnTo>
                        <a:lnTo>
                          <a:pt x="99" y="62"/>
                        </a:lnTo>
                        <a:lnTo>
                          <a:pt x="111" y="67"/>
                        </a:lnTo>
                        <a:lnTo>
                          <a:pt x="121" y="70"/>
                        </a:lnTo>
                        <a:lnTo>
                          <a:pt x="127" y="69"/>
                        </a:lnTo>
                        <a:lnTo>
                          <a:pt x="133" y="68"/>
                        </a:lnTo>
                        <a:lnTo>
                          <a:pt x="139" y="65"/>
                        </a:lnTo>
                        <a:lnTo>
                          <a:pt x="145" y="63"/>
                        </a:lnTo>
                        <a:lnTo>
                          <a:pt x="152" y="57"/>
                        </a:lnTo>
                        <a:lnTo>
                          <a:pt x="160" y="52"/>
                        </a:lnTo>
                        <a:lnTo>
                          <a:pt x="169" y="45"/>
                        </a:lnTo>
                        <a:lnTo>
                          <a:pt x="177" y="39"/>
                        </a:lnTo>
                        <a:lnTo>
                          <a:pt x="184" y="33"/>
                        </a:lnTo>
                        <a:lnTo>
                          <a:pt x="190" y="28"/>
                        </a:lnTo>
                        <a:lnTo>
                          <a:pt x="195" y="25"/>
                        </a:lnTo>
                        <a:lnTo>
                          <a:pt x="197" y="25"/>
                        </a:lnTo>
                        <a:lnTo>
                          <a:pt x="207" y="14"/>
                        </a:lnTo>
                        <a:lnTo>
                          <a:pt x="234" y="44"/>
                        </a:lnTo>
                        <a:lnTo>
                          <a:pt x="232" y="46"/>
                        </a:lnTo>
                        <a:lnTo>
                          <a:pt x="227" y="52"/>
                        </a:lnTo>
                        <a:lnTo>
                          <a:pt x="219" y="60"/>
                        </a:lnTo>
                        <a:lnTo>
                          <a:pt x="212" y="71"/>
                        </a:lnTo>
                        <a:lnTo>
                          <a:pt x="203" y="82"/>
                        </a:lnTo>
                        <a:lnTo>
                          <a:pt x="195" y="92"/>
                        </a:lnTo>
                        <a:lnTo>
                          <a:pt x="187" y="100"/>
                        </a:lnTo>
                        <a:lnTo>
                          <a:pt x="183" y="107"/>
                        </a:lnTo>
                        <a:lnTo>
                          <a:pt x="175" y="110"/>
                        </a:lnTo>
                        <a:lnTo>
                          <a:pt x="163" y="114"/>
                        </a:lnTo>
                        <a:lnTo>
                          <a:pt x="148" y="117"/>
                        </a:lnTo>
                        <a:lnTo>
                          <a:pt x="132" y="121"/>
                        </a:lnTo>
                        <a:lnTo>
                          <a:pt x="115" y="122"/>
                        </a:lnTo>
                        <a:lnTo>
                          <a:pt x="101" y="124"/>
                        </a:lnTo>
                        <a:lnTo>
                          <a:pt x="89" y="124"/>
                        </a:lnTo>
                        <a:lnTo>
                          <a:pt x="83" y="124"/>
                        </a:lnTo>
                        <a:lnTo>
                          <a:pt x="77" y="121"/>
                        </a:lnTo>
                        <a:lnTo>
                          <a:pt x="67" y="115"/>
                        </a:lnTo>
                        <a:lnTo>
                          <a:pt x="55" y="109"/>
                        </a:lnTo>
                        <a:lnTo>
                          <a:pt x="44" y="103"/>
                        </a:lnTo>
                        <a:lnTo>
                          <a:pt x="32" y="97"/>
                        </a:lnTo>
                        <a:lnTo>
                          <a:pt x="23" y="92"/>
                        </a:lnTo>
                        <a:lnTo>
                          <a:pt x="17" y="87"/>
                        </a:lnTo>
                        <a:lnTo>
                          <a:pt x="14" y="86"/>
                        </a:lnTo>
                        <a:lnTo>
                          <a:pt x="0" y="4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99"/>
                  <p:cNvSpPr/>
                  <p:nvPr/>
                </p:nvSpPr>
                <p:spPr>
                  <a:xfrm>
                    <a:off x="3970440" y="1409760"/>
                    <a:ext cx="30240" cy="428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92" h="133">
                        <a:moveTo>
                          <a:pt x="10" y="1"/>
                        </a:move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4" y="3"/>
                        </a:lnTo>
                        <a:lnTo>
                          <a:pt x="9" y="8"/>
                        </a:lnTo>
                        <a:lnTo>
                          <a:pt x="16" y="15"/>
                        </a:lnTo>
                        <a:lnTo>
                          <a:pt x="24" y="20"/>
                        </a:lnTo>
                        <a:lnTo>
                          <a:pt x="31" y="26"/>
                        </a:lnTo>
                        <a:lnTo>
                          <a:pt x="37" y="29"/>
                        </a:lnTo>
                        <a:lnTo>
                          <a:pt x="44" y="31"/>
                        </a:lnTo>
                        <a:lnTo>
                          <a:pt x="52" y="31"/>
                        </a:lnTo>
                        <a:lnTo>
                          <a:pt x="61" y="29"/>
                        </a:lnTo>
                        <a:lnTo>
                          <a:pt x="70" y="20"/>
                        </a:lnTo>
                        <a:lnTo>
                          <a:pt x="80" y="13"/>
                        </a:lnTo>
                        <a:lnTo>
                          <a:pt x="88" y="7"/>
                        </a:lnTo>
                        <a:lnTo>
                          <a:pt x="92" y="4"/>
                        </a:lnTo>
                        <a:lnTo>
                          <a:pt x="55" y="133"/>
                        </a:lnTo>
                        <a:lnTo>
                          <a:pt x="52" y="131"/>
                        </a:lnTo>
                        <a:lnTo>
                          <a:pt x="48" y="129"/>
                        </a:lnTo>
                        <a:lnTo>
                          <a:pt x="42" y="125"/>
                        </a:lnTo>
                        <a:lnTo>
                          <a:pt x="36" y="120"/>
                        </a:lnTo>
                        <a:lnTo>
                          <a:pt x="29" y="115"/>
                        </a:lnTo>
                        <a:lnTo>
                          <a:pt x="24" y="110"/>
                        </a:lnTo>
                        <a:lnTo>
                          <a:pt x="18" y="104"/>
                        </a:lnTo>
                        <a:lnTo>
                          <a:pt x="16" y="101"/>
                        </a:lnTo>
                        <a:lnTo>
                          <a:pt x="13" y="95"/>
                        </a:lnTo>
                        <a:lnTo>
                          <a:pt x="11" y="88"/>
                        </a:lnTo>
                        <a:lnTo>
                          <a:pt x="9" y="78"/>
                        </a:lnTo>
                        <a:lnTo>
                          <a:pt x="6" y="70"/>
                        </a:lnTo>
                        <a:lnTo>
                          <a:pt x="3" y="60"/>
                        </a:lnTo>
                        <a:lnTo>
                          <a:pt x="1" y="51"/>
                        </a:lnTo>
                        <a:lnTo>
                          <a:pt x="0" y="43"/>
                        </a:lnTo>
                        <a:lnTo>
                          <a:pt x="0" y="39"/>
                        </a:lnTo>
                        <a:lnTo>
                          <a:pt x="0" y="33"/>
                        </a:lnTo>
                        <a:lnTo>
                          <a:pt x="1" y="28"/>
                        </a:lnTo>
                        <a:lnTo>
                          <a:pt x="2" y="22"/>
                        </a:lnTo>
                        <a:lnTo>
                          <a:pt x="4" y="16"/>
                        </a:lnTo>
                        <a:lnTo>
                          <a:pt x="5" y="10"/>
                        </a:lnTo>
                        <a:lnTo>
                          <a:pt x="7" y="5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close/>
                      </a:path>
                    </a:pathLst>
                  </a:custGeom>
                  <a:solidFill>
                    <a:srgbClr val="e8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100"/>
                  <p:cNvSpPr/>
                  <p:nvPr/>
                </p:nvSpPr>
                <p:spPr>
                  <a:xfrm>
                    <a:off x="4768920" y="1190520"/>
                    <a:ext cx="22320" cy="270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70" h="89">
                        <a:moveTo>
                          <a:pt x="2" y="42"/>
                        </a:moveTo>
                        <a:lnTo>
                          <a:pt x="1" y="37"/>
                        </a:lnTo>
                        <a:lnTo>
                          <a:pt x="0" y="31"/>
                        </a:lnTo>
                        <a:lnTo>
                          <a:pt x="1" y="22"/>
                        </a:lnTo>
                        <a:lnTo>
                          <a:pt x="6" y="16"/>
                        </a:lnTo>
                        <a:lnTo>
                          <a:pt x="12" y="9"/>
                        </a:lnTo>
                        <a:lnTo>
                          <a:pt x="20" y="5"/>
                        </a:lnTo>
                        <a:lnTo>
                          <a:pt x="25" y="1"/>
                        </a:lnTo>
                        <a:lnTo>
                          <a:pt x="29" y="1"/>
                        </a:lnTo>
                        <a:lnTo>
                          <a:pt x="31" y="0"/>
                        </a:lnTo>
                        <a:lnTo>
                          <a:pt x="36" y="1"/>
                        </a:lnTo>
                        <a:lnTo>
                          <a:pt x="45" y="3"/>
                        </a:lnTo>
                        <a:lnTo>
                          <a:pt x="54" y="8"/>
                        </a:lnTo>
                        <a:lnTo>
                          <a:pt x="62" y="15"/>
                        </a:lnTo>
                        <a:lnTo>
                          <a:pt x="67" y="23"/>
                        </a:lnTo>
                        <a:lnTo>
                          <a:pt x="68" y="27"/>
                        </a:lnTo>
                        <a:lnTo>
                          <a:pt x="70" y="32"/>
                        </a:lnTo>
                        <a:lnTo>
                          <a:pt x="70" y="38"/>
                        </a:lnTo>
                        <a:lnTo>
                          <a:pt x="70" y="45"/>
                        </a:lnTo>
                        <a:lnTo>
                          <a:pt x="67" y="59"/>
                        </a:lnTo>
                        <a:lnTo>
                          <a:pt x="64" y="70"/>
                        </a:lnTo>
                        <a:lnTo>
                          <a:pt x="61" y="77"/>
                        </a:lnTo>
                        <a:lnTo>
                          <a:pt x="58" y="82"/>
                        </a:lnTo>
                        <a:lnTo>
                          <a:pt x="50" y="86"/>
                        </a:lnTo>
                        <a:lnTo>
                          <a:pt x="48" y="87"/>
                        </a:lnTo>
                        <a:lnTo>
                          <a:pt x="39" y="89"/>
                        </a:lnTo>
                        <a:lnTo>
                          <a:pt x="24" y="80"/>
                        </a:lnTo>
                        <a:lnTo>
                          <a:pt x="26" y="77"/>
                        </a:lnTo>
                        <a:lnTo>
                          <a:pt x="33" y="72"/>
                        </a:lnTo>
                        <a:lnTo>
                          <a:pt x="39" y="64"/>
                        </a:lnTo>
                        <a:lnTo>
                          <a:pt x="45" y="59"/>
                        </a:lnTo>
                        <a:lnTo>
                          <a:pt x="45" y="54"/>
                        </a:lnTo>
                        <a:lnTo>
                          <a:pt x="46" y="50"/>
                        </a:lnTo>
                        <a:lnTo>
                          <a:pt x="46" y="45"/>
                        </a:lnTo>
                        <a:lnTo>
                          <a:pt x="46" y="39"/>
                        </a:lnTo>
                        <a:lnTo>
                          <a:pt x="45" y="30"/>
                        </a:lnTo>
                        <a:lnTo>
                          <a:pt x="45" y="27"/>
                        </a:lnTo>
                        <a:lnTo>
                          <a:pt x="35" y="17"/>
                        </a:lnTo>
                        <a:lnTo>
                          <a:pt x="19" y="23"/>
                        </a:lnTo>
                        <a:lnTo>
                          <a:pt x="2" y="42"/>
                        </a:lnTo>
                        <a:close/>
                      </a:path>
                    </a:pathLst>
                  </a:cu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01"/>
                  <p:cNvSpPr/>
                  <p:nvPr/>
                </p:nvSpPr>
                <p:spPr>
                  <a:xfrm>
                    <a:off x="4824360" y="1170000"/>
                    <a:ext cx="22320" cy="270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71" h="87">
                        <a:moveTo>
                          <a:pt x="3" y="29"/>
                        </a:move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3" y="40"/>
                        </a:lnTo>
                        <a:lnTo>
                          <a:pt x="9" y="26"/>
                        </a:lnTo>
                        <a:lnTo>
                          <a:pt x="17" y="20"/>
                        </a:lnTo>
                        <a:lnTo>
                          <a:pt x="23" y="16"/>
                        </a:lnTo>
                        <a:lnTo>
                          <a:pt x="32" y="18"/>
                        </a:lnTo>
                        <a:lnTo>
                          <a:pt x="37" y="20"/>
                        </a:lnTo>
                        <a:lnTo>
                          <a:pt x="42" y="23"/>
                        </a:lnTo>
                        <a:lnTo>
                          <a:pt x="46" y="25"/>
                        </a:lnTo>
                        <a:lnTo>
                          <a:pt x="48" y="27"/>
                        </a:lnTo>
                        <a:lnTo>
                          <a:pt x="49" y="50"/>
                        </a:lnTo>
                        <a:lnTo>
                          <a:pt x="39" y="68"/>
                        </a:lnTo>
                        <a:lnTo>
                          <a:pt x="18" y="74"/>
                        </a:lnTo>
                        <a:lnTo>
                          <a:pt x="22" y="78"/>
                        </a:lnTo>
                        <a:lnTo>
                          <a:pt x="27" y="81"/>
                        </a:lnTo>
                        <a:lnTo>
                          <a:pt x="34" y="86"/>
                        </a:lnTo>
                        <a:lnTo>
                          <a:pt x="39" y="87"/>
                        </a:lnTo>
                        <a:lnTo>
                          <a:pt x="45" y="86"/>
                        </a:lnTo>
                        <a:lnTo>
                          <a:pt x="49" y="84"/>
                        </a:lnTo>
                        <a:lnTo>
                          <a:pt x="51" y="84"/>
                        </a:lnTo>
                        <a:lnTo>
                          <a:pt x="51" y="83"/>
                        </a:lnTo>
                        <a:lnTo>
                          <a:pt x="55" y="79"/>
                        </a:lnTo>
                        <a:lnTo>
                          <a:pt x="57" y="74"/>
                        </a:lnTo>
                        <a:lnTo>
                          <a:pt x="61" y="71"/>
                        </a:lnTo>
                        <a:lnTo>
                          <a:pt x="65" y="65"/>
                        </a:lnTo>
                        <a:lnTo>
                          <a:pt x="69" y="58"/>
                        </a:lnTo>
                        <a:lnTo>
                          <a:pt x="71" y="50"/>
                        </a:lnTo>
                        <a:lnTo>
                          <a:pt x="71" y="39"/>
                        </a:lnTo>
                        <a:lnTo>
                          <a:pt x="69" y="27"/>
                        </a:lnTo>
                        <a:lnTo>
                          <a:pt x="64" y="16"/>
                        </a:lnTo>
                        <a:lnTo>
                          <a:pt x="58" y="9"/>
                        </a:lnTo>
                        <a:lnTo>
                          <a:pt x="55" y="5"/>
                        </a:lnTo>
                        <a:lnTo>
                          <a:pt x="50" y="3"/>
                        </a:lnTo>
                        <a:lnTo>
                          <a:pt x="43" y="1"/>
                        </a:lnTo>
                        <a:lnTo>
                          <a:pt x="37" y="0"/>
                        </a:lnTo>
                        <a:lnTo>
                          <a:pt x="31" y="1"/>
                        </a:lnTo>
                        <a:lnTo>
                          <a:pt x="24" y="3"/>
                        </a:lnTo>
                        <a:lnTo>
                          <a:pt x="19" y="5"/>
                        </a:lnTo>
                        <a:lnTo>
                          <a:pt x="9" y="9"/>
                        </a:lnTo>
                        <a:lnTo>
                          <a:pt x="7" y="12"/>
                        </a:lnTo>
                        <a:lnTo>
                          <a:pt x="3" y="29"/>
                        </a:lnTo>
                        <a:close/>
                      </a:path>
                    </a:pathLst>
                  </a:custGeom>
                  <a:solidFill>
                    <a:srgbClr val="b3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02"/>
                  <p:cNvSpPr/>
                  <p:nvPr/>
                </p:nvSpPr>
                <p:spPr>
                  <a:xfrm>
                    <a:off x="4824360" y="1266840"/>
                    <a:ext cx="42840" cy="1908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134" h="62">
                        <a:moveTo>
                          <a:pt x="0" y="47"/>
                        </a:moveTo>
                        <a:lnTo>
                          <a:pt x="15" y="37"/>
                        </a:lnTo>
                        <a:lnTo>
                          <a:pt x="46" y="27"/>
                        </a:lnTo>
                        <a:lnTo>
                          <a:pt x="82" y="12"/>
                        </a:lnTo>
                        <a:lnTo>
                          <a:pt x="97" y="6"/>
                        </a:lnTo>
                        <a:lnTo>
                          <a:pt x="124" y="0"/>
                        </a:lnTo>
                        <a:lnTo>
                          <a:pt x="134" y="2"/>
                        </a:lnTo>
                        <a:lnTo>
                          <a:pt x="134" y="9"/>
                        </a:lnTo>
                        <a:lnTo>
                          <a:pt x="124" y="15"/>
                        </a:lnTo>
                        <a:lnTo>
                          <a:pt x="111" y="17"/>
                        </a:lnTo>
                        <a:lnTo>
                          <a:pt x="85" y="22"/>
                        </a:lnTo>
                        <a:lnTo>
                          <a:pt x="68" y="30"/>
                        </a:lnTo>
                        <a:lnTo>
                          <a:pt x="56" y="36"/>
                        </a:lnTo>
                        <a:lnTo>
                          <a:pt x="45" y="41"/>
                        </a:lnTo>
                        <a:lnTo>
                          <a:pt x="31" y="46"/>
                        </a:lnTo>
                        <a:lnTo>
                          <a:pt x="20" y="58"/>
                        </a:lnTo>
                        <a:lnTo>
                          <a:pt x="12" y="62"/>
                        </a:lnTo>
                        <a:lnTo>
                          <a:pt x="3" y="62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Text Box 103"/>
                <p:cNvSpPr/>
                <p:nvPr/>
              </p:nvSpPr>
              <p:spPr>
                <a:xfrm>
                  <a:off x="3664080" y="1339920"/>
                  <a:ext cx="1473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6699"/>
                      </a:solidFill>
                      <a:latin typeface="Comic Sans MS"/>
                    </a:rPr>
                    <a:t>North P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Group 104"/>
            <p:cNvGrpSpPr/>
            <p:nvPr/>
          </p:nvGrpSpPr>
          <p:grpSpPr>
            <a:xfrm>
              <a:off x="3701880" y="5678640"/>
              <a:ext cx="1397160" cy="1017360"/>
              <a:chOff x="3701880" y="5678640"/>
              <a:chExt cx="1397160" cy="1017360"/>
            </a:xfrm>
          </p:grpSpPr>
          <p:sp>
            <p:nvSpPr>
              <p:cNvPr id="326" name="Oval 105"/>
              <p:cNvSpPr/>
              <p:nvPr/>
            </p:nvSpPr>
            <p:spPr>
              <a:xfrm>
                <a:off x="4338720" y="5678640"/>
                <a:ext cx="745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106"/>
              <p:cNvGrpSpPr/>
              <p:nvPr/>
            </p:nvGrpSpPr>
            <p:grpSpPr>
              <a:xfrm>
                <a:off x="3701880" y="5757840"/>
                <a:ext cx="1397160" cy="938160"/>
                <a:chOff x="3701880" y="5757840"/>
                <a:chExt cx="1397160" cy="938160"/>
              </a:xfrm>
            </p:grpSpPr>
            <p:pic>
              <p:nvPicPr>
                <p:cNvPr id="328" name="Picture 107" descr="Penguin 0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9720" y="5757840"/>
                  <a:ext cx="582480" cy="93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Text Box 108"/>
                <p:cNvSpPr/>
                <p:nvPr/>
              </p:nvSpPr>
              <p:spPr>
                <a:xfrm>
                  <a:off x="3701880" y="6213600"/>
                  <a:ext cx="139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6699"/>
                      </a:solidFill>
                      <a:latin typeface="Comic Sans MS"/>
                    </a:rPr>
                    <a:t>South Pole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0" name="Group 109"/>
          <p:cNvGrpSpPr/>
          <p:nvPr/>
        </p:nvGrpSpPr>
        <p:grpSpPr>
          <a:xfrm>
            <a:off x="4343400" y="3158640"/>
            <a:ext cx="1882800" cy="711000"/>
            <a:chOff x="4343400" y="3158640"/>
            <a:chExt cx="1882800" cy="711000"/>
          </a:xfrm>
        </p:grpSpPr>
        <p:sp>
          <p:nvSpPr>
            <p:cNvPr id="331" name="Line 110"/>
            <p:cNvSpPr/>
            <p:nvPr/>
          </p:nvSpPr>
          <p:spPr>
            <a:xfrm flipV="1">
              <a:off x="4343400" y="3158640"/>
              <a:ext cx="1758960" cy="65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11"/>
            <p:cNvSpPr/>
            <p:nvPr/>
          </p:nvSpPr>
          <p:spPr>
            <a:xfrm flipV="1">
              <a:off x="4356000" y="3814560"/>
              <a:ext cx="1870200" cy="4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12"/>
            <p:cNvSpPr/>
            <p:nvPr/>
          </p:nvSpPr>
          <p:spPr>
            <a:xfrm>
              <a:off x="4870440" y="3409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23½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3"/>
          <p:cNvGrpSpPr/>
          <p:nvPr/>
        </p:nvGrpSpPr>
        <p:grpSpPr>
          <a:xfrm>
            <a:off x="3124080" y="2209680"/>
            <a:ext cx="5803920" cy="336600"/>
            <a:chOff x="3124080" y="2209680"/>
            <a:chExt cx="5803920" cy="336600"/>
          </a:xfrm>
        </p:grpSpPr>
        <p:sp>
          <p:nvSpPr>
            <p:cNvPr id="335" name="Oval 114"/>
            <p:cNvSpPr/>
            <p:nvPr/>
          </p:nvSpPr>
          <p:spPr>
            <a:xfrm>
              <a:off x="3124080" y="2304720"/>
              <a:ext cx="2336760" cy="8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5"/>
            <p:cNvSpPr/>
            <p:nvPr/>
          </p:nvSpPr>
          <p:spPr>
            <a:xfrm>
              <a:off x="5699160" y="2209680"/>
              <a:ext cx="322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16"/>
          <p:cNvGrpSpPr/>
          <p:nvPr/>
        </p:nvGrpSpPr>
        <p:grpSpPr>
          <a:xfrm>
            <a:off x="4356000" y="3689280"/>
            <a:ext cx="1873440" cy="825480"/>
            <a:chOff x="4356000" y="3689280"/>
            <a:chExt cx="1873440" cy="825480"/>
          </a:xfrm>
        </p:grpSpPr>
        <p:sp>
          <p:nvSpPr>
            <p:cNvPr id="338" name="Line 117"/>
            <p:cNvSpPr/>
            <p:nvPr/>
          </p:nvSpPr>
          <p:spPr>
            <a:xfrm>
              <a:off x="4356000" y="3809880"/>
              <a:ext cx="1873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18"/>
            <p:cNvSpPr/>
            <p:nvPr/>
          </p:nvSpPr>
          <p:spPr>
            <a:xfrm>
              <a:off x="4356000" y="3809880"/>
              <a:ext cx="1739880" cy="7048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19"/>
            <p:cNvSpPr/>
            <p:nvPr/>
          </p:nvSpPr>
          <p:spPr>
            <a:xfrm>
              <a:off x="4873680" y="3689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23½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4343400" y="2361960"/>
            <a:ext cx="1886040" cy="1454400"/>
            <a:chOff x="4343400" y="2361960"/>
            <a:chExt cx="1886040" cy="1454400"/>
          </a:xfrm>
        </p:grpSpPr>
        <p:sp>
          <p:nvSpPr>
            <p:cNvPr id="342" name="Line 121"/>
            <p:cNvSpPr/>
            <p:nvPr/>
          </p:nvSpPr>
          <p:spPr>
            <a:xfrm flipV="1">
              <a:off x="4343400" y="2361960"/>
              <a:ext cx="1143000" cy="1447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2"/>
            <p:cNvSpPr/>
            <p:nvPr/>
          </p:nvSpPr>
          <p:spPr>
            <a:xfrm>
              <a:off x="4613400" y="3346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66½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3"/>
            <p:cNvSpPr/>
            <p:nvPr/>
          </p:nvSpPr>
          <p:spPr>
            <a:xfrm>
              <a:off x="4362480" y="3816360"/>
              <a:ext cx="18669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24"/>
          <p:cNvGrpSpPr/>
          <p:nvPr/>
        </p:nvGrpSpPr>
        <p:grpSpPr>
          <a:xfrm>
            <a:off x="4343400" y="1968480"/>
            <a:ext cx="1930320" cy="1841400"/>
            <a:chOff x="4343400" y="1968480"/>
            <a:chExt cx="1930320" cy="1841400"/>
          </a:xfrm>
        </p:grpSpPr>
        <p:grpSp>
          <p:nvGrpSpPr>
            <p:cNvPr id="346" name="Group 125"/>
            <p:cNvGrpSpPr/>
            <p:nvPr/>
          </p:nvGrpSpPr>
          <p:grpSpPr>
            <a:xfrm>
              <a:off x="4343400" y="1968480"/>
              <a:ext cx="1930320" cy="1841400"/>
              <a:chOff x="4343400" y="1968480"/>
              <a:chExt cx="1930320" cy="1841400"/>
            </a:xfrm>
          </p:grpSpPr>
          <p:sp>
            <p:nvSpPr>
              <p:cNvPr id="347" name="Line 126"/>
              <p:cNvSpPr/>
              <p:nvPr/>
            </p:nvSpPr>
            <p:spPr>
              <a:xfrm flipV="1">
                <a:off x="4349880" y="1968480"/>
                <a:ext cx="0" cy="1835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27"/>
              <p:cNvSpPr/>
              <p:nvPr/>
            </p:nvSpPr>
            <p:spPr>
              <a:xfrm>
                <a:off x="4343400" y="3809880"/>
                <a:ext cx="19303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128"/>
            <p:cNvSpPr/>
            <p:nvPr/>
          </p:nvSpPr>
          <p:spPr>
            <a:xfrm>
              <a:off x="4394160" y="343548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29"/>
          <p:cNvGrpSpPr/>
          <p:nvPr/>
        </p:nvGrpSpPr>
        <p:grpSpPr>
          <a:xfrm>
            <a:off x="4336920" y="3803760"/>
            <a:ext cx="1886040" cy="1898640"/>
            <a:chOff x="4336920" y="3803760"/>
            <a:chExt cx="1886040" cy="1898640"/>
          </a:xfrm>
        </p:grpSpPr>
        <p:grpSp>
          <p:nvGrpSpPr>
            <p:cNvPr id="351" name="Group 130"/>
            <p:cNvGrpSpPr/>
            <p:nvPr/>
          </p:nvGrpSpPr>
          <p:grpSpPr>
            <a:xfrm>
              <a:off x="4356000" y="3803760"/>
              <a:ext cx="1866960" cy="1898640"/>
              <a:chOff x="4356000" y="3803760"/>
              <a:chExt cx="1866960" cy="1898640"/>
            </a:xfrm>
          </p:grpSpPr>
          <p:sp>
            <p:nvSpPr>
              <p:cNvPr id="352" name="Line 131"/>
              <p:cNvSpPr/>
              <p:nvPr/>
            </p:nvSpPr>
            <p:spPr>
              <a:xfrm>
                <a:off x="4356000" y="3809880"/>
                <a:ext cx="1866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2"/>
              <p:cNvSpPr/>
              <p:nvPr/>
            </p:nvSpPr>
            <p:spPr>
              <a:xfrm>
                <a:off x="4368960" y="3803760"/>
                <a:ext cx="0" cy="18986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 Box 133"/>
            <p:cNvSpPr/>
            <p:nvPr/>
          </p:nvSpPr>
          <p:spPr>
            <a:xfrm>
              <a:off x="4336920" y="381636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34"/>
          <p:cNvGrpSpPr/>
          <p:nvPr/>
        </p:nvGrpSpPr>
        <p:grpSpPr>
          <a:xfrm>
            <a:off x="76320" y="3269880"/>
            <a:ext cx="2616120" cy="1228320"/>
            <a:chOff x="76320" y="3269880"/>
            <a:chExt cx="2616120" cy="1228320"/>
          </a:xfrm>
        </p:grpSpPr>
        <p:grpSp>
          <p:nvGrpSpPr>
            <p:cNvPr id="356" name="Group 135"/>
            <p:cNvGrpSpPr/>
            <p:nvPr/>
          </p:nvGrpSpPr>
          <p:grpSpPr>
            <a:xfrm>
              <a:off x="907920" y="3269880"/>
              <a:ext cx="622440" cy="1200600"/>
              <a:chOff x="907920" y="3269880"/>
              <a:chExt cx="622440" cy="1200600"/>
            </a:xfrm>
          </p:grpSpPr>
          <p:grpSp>
            <p:nvGrpSpPr>
              <p:cNvPr id="357" name="Group 136"/>
              <p:cNvGrpSpPr/>
              <p:nvPr/>
            </p:nvGrpSpPr>
            <p:grpSpPr>
              <a:xfrm>
                <a:off x="907920" y="3540240"/>
                <a:ext cx="622440" cy="615960"/>
                <a:chOff x="907920" y="3540240"/>
                <a:chExt cx="622440" cy="615960"/>
              </a:xfrm>
            </p:grpSpPr>
            <p:sp>
              <p:nvSpPr>
                <p:cNvPr id="358" name="Freeform 137"/>
                <p:cNvSpPr/>
                <p:nvPr/>
              </p:nvSpPr>
              <p:spPr>
                <a:xfrm>
                  <a:off x="1041480" y="3670560"/>
                  <a:ext cx="355680" cy="355680"/>
                </a:xfrm>
                <a:custGeom>
                  <a:avLst/>
                  <a:gdLst>
                    <a:gd name="textAreaLeft" fmla="*/ 0 w 355680"/>
                    <a:gd name="textAreaRight" fmla="*/ 356040 w 35568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788" h="1788">
                      <a:moveTo>
                        <a:pt x="1071" y="1771"/>
                      </a:moveTo>
                      <a:lnTo>
                        <a:pt x="1244" y="1718"/>
                      </a:lnTo>
                      <a:lnTo>
                        <a:pt x="1398" y="1634"/>
                      </a:lnTo>
                      <a:lnTo>
                        <a:pt x="1529" y="1523"/>
                      </a:lnTo>
                      <a:lnTo>
                        <a:pt x="1639" y="1390"/>
                      </a:lnTo>
                      <a:lnTo>
                        <a:pt x="1719" y="1239"/>
                      </a:lnTo>
                      <a:lnTo>
                        <a:pt x="1771" y="1074"/>
                      </a:lnTo>
                      <a:lnTo>
                        <a:pt x="1788" y="899"/>
                      </a:lnTo>
                      <a:lnTo>
                        <a:pt x="1772" y="720"/>
                      </a:lnTo>
                      <a:lnTo>
                        <a:pt x="1718" y="546"/>
                      </a:lnTo>
                      <a:lnTo>
                        <a:pt x="1634" y="391"/>
                      </a:lnTo>
                      <a:lnTo>
                        <a:pt x="1523" y="259"/>
                      </a:lnTo>
                      <a:lnTo>
                        <a:pt x="1392" y="151"/>
                      </a:lnTo>
                      <a:lnTo>
                        <a:pt x="1239" y="69"/>
                      </a:lnTo>
                      <a:lnTo>
                        <a:pt x="1075" y="19"/>
                      </a:lnTo>
                      <a:lnTo>
                        <a:pt x="901" y="0"/>
                      </a:lnTo>
                      <a:lnTo>
                        <a:pt x="720" y="19"/>
                      </a:lnTo>
                      <a:lnTo>
                        <a:pt x="546" y="70"/>
                      </a:lnTo>
                      <a:lnTo>
                        <a:pt x="392" y="154"/>
                      </a:lnTo>
                      <a:lnTo>
                        <a:pt x="259" y="265"/>
                      </a:lnTo>
                      <a:lnTo>
                        <a:pt x="152" y="399"/>
                      </a:lnTo>
                      <a:lnTo>
                        <a:pt x="70" y="549"/>
                      </a:lnTo>
                      <a:lnTo>
                        <a:pt x="19" y="715"/>
                      </a:lnTo>
                      <a:lnTo>
                        <a:pt x="0" y="889"/>
                      </a:lnTo>
                      <a:lnTo>
                        <a:pt x="19" y="1070"/>
                      </a:lnTo>
                      <a:lnTo>
                        <a:pt x="71" y="1242"/>
                      </a:lnTo>
                      <a:lnTo>
                        <a:pt x="155" y="1396"/>
                      </a:lnTo>
                      <a:lnTo>
                        <a:pt x="266" y="1529"/>
                      </a:lnTo>
                      <a:lnTo>
                        <a:pt x="399" y="1638"/>
                      </a:lnTo>
                      <a:lnTo>
                        <a:pt x="549" y="1719"/>
                      </a:lnTo>
                      <a:lnTo>
                        <a:pt x="715" y="1769"/>
                      </a:lnTo>
                      <a:lnTo>
                        <a:pt x="889" y="1788"/>
                      </a:lnTo>
                      <a:lnTo>
                        <a:pt x="1071" y="17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38"/>
                <p:cNvSpPr/>
                <p:nvPr/>
              </p:nvSpPr>
              <p:spPr>
                <a:xfrm flipH="1" flipV="1">
                  <a:off x="1158840" y="354024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39"/>
                <p:cNvSpPr/>
                <p:nvPr/>
              </p:nvSpPr>
              <p:spPr>
                <a:xfrm flipH="1" flipV="1">
                  <a:off x="988920" y="3635640"/>
                  <a:ext cx="85680" cy="792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40"/>
                <p:cNvSpPr/>
                <p:nvPr/>
              </p:nvSpPr>
              <p:spPr>
                <a:xfrm flipH="1" flipV="1">
                  <a:off x="907920" y="3811680"/>
                  <a:ext cx="115920" cy="129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41"/>
                <p:cNvSpPr/>
                <p:nvPr/>
              </p:nvSpPr>
              <p:spPr>
                <a:xfrm flipH="1">
                  <a:off x="946080" y="3945240"/>
                  <a:ext cx="1015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42"/>
                <p:cNvSpPr/>
                <p:nvPr/>
              </p:nvSpPr>
              <p:spPr>
                <a:xfrm flipH="1">
                  <a:off x="1088640" y="402768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43"/>
                <p:cNvSpPr/>
                <p:nvPr/>
              </p:nvSpPr>
              <p:spPr>
                <a:xfrm>
                  <a:off x="1258920" y="404028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44"/>
                <p:cNvSpPr/>
                <p:nvPr/>
              </p:nvSpPr>
              <p:spPr>
                <a:xfrm>
                  <a:off x="1363680" y="3981600"/>
                  <a:ext cx="85680" cy="795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45"/>
                <p:cNvSpPr/>
                <p:nvPr/>
              </p:nvSpPr>
              <p:spPr>
                <a:xfrm>
                  <a:off x="1414440" y="3870360"/>
                  <a:ext cx="115920" cy="14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46"/>
                <p:cNvSpPr/>
                <p:nvPr/>
              </p:nvSpPr>
              <p:spPr>
                <a:xfrm flipV="1">
                  <a:off x="1390680" y="3693960"/>
                  <a:ext cx="10296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47"/>
                <p:cNvSpPr/>
                <p:nvPr/>
              </p:nvSpPr>
              <p:spPr>
                <a:xfrm flipV="1">
                  <a:off x="1301760" y="356364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48"/>
                <p:cNvSpPr/>
                <p:nvPr/>
              </p:nvSpPr>
              <p:spPr>
                <a:xfrm flipH="1" flipV="1">
                  <a:off x="1095120" y="3625560"/>
                  <a:ext cx="2844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49"/>
                <p:cNvSpPr/>
                <p:nvPr/>
              </p:nvSpPr>
              <p:spPr>
                <a:xfrm flipH="1" flipV="1">
                  <a:off x="988920" y="3741840"/>
                  <a:ext cx="5256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50"/>
                <p:cNvSpPr/>
                <p:nvPr/>
              </p:nvSpPr>
              <p:spPr>
                <a:xfrm flipH="1">
                  <a:off x="969480" y="3886560"/>
                  <a:ext cx="57240" cy="108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51"/>
                <p:cNvSpPr/>
                <p:nvPr/>
              </p:nvSpPr>
              <p:spPr>
                <a:xfrm flipH="1">
                  <a:off x="1047600" y="3992760"/>
                  <a:ext cx="38160" cy="41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2"/>
                <p:cNvSpPr/>
                <p:nvPr/>
              </p:nvSpPr>
              <p:spPr>
                <a:xfrm flipH="1">
                  <a:off x="1189080" y="4043520"/>
                  <a:ext cx="792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53"/>
                <p:cNvSpPr/>
                <p:nvPr/>
              </p:nvSpPr>
              <p:spPr>
                <a:xfrm>
                  <a:off x="1316160" y="4019760"/>
                  <a:ext cx="2700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54"/>
                <p:cNvSpPr/>
                <p:nvPr/>
              </p:nvSpPr>
              <p:spPr>
                <a:xfrm>
                  <a:off x="1398600" y="3930840"/>
                  <a:ext cx="5220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55"/>
                <p:cNvSpPr/>
                <p:nvPr/>
              </p:nvSpPr>
              <p:spPr>
                <a:xfrm flipV="1">
                  <a:off x="1413000" y="3798720"/>
                  <a:ext cx="55440" cy="111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56"/>
                <p:cNvSpPr/>
                <p:nvPr/>
              </p:nvSpPr>
              <p:spPr>
                <a:xfrm flipV="1">
                  <a:off x="1352520" y="3662640"/>
                  <a:ext cx="39600" cy="410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57"/>
                <p:cNvSpPr/>
                <p:nvPr/>
              </p:nvSpPr>
              <p:spPr>
                <a:xfrm flipV="1">
                  <a:off x="1243080" y="3596040"/>
                  <a:ext cx="61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158"/>
                <p:cNvSpPr/>
                <p:nvPr/>
              </p:nvSpPr>
              <p:spPr>
                <a:xfrm>
                  <a:off x="1170000" y="3778560"/>
                  <a:ext cx="31680" cy="442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62" h="224">
                      <a:moveTo>
                        <a:pt x="81" y="224"/>
                      </a:moveTo>
                      <a:lnTo>
                        <a:pt x="97" y="221"/>
                      </a:lnTo>
                      <a:lnTo>
                        <a:pt x="113" y="214"/>
                      </a:lnTo>
                      <a:lnTo>
                        <a:pt x="126" y="204"/>
                      </a:lnTo>
                      <a:lnTo>
                        <a:pt x="138" y="190"/>
                      </a:lnTo>
                      <a:lnTo>
                        <a:pt x="148" y="174"/>
                      </a:lnTo>
                      <a:lnTo>
                        <a:pt x="155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5" y="67"/>
                      </a:lnTo>
                      <a:lnTo>
                        <a:pt x="148" y="48"/>
                      </a:lnTo>
                      <a:lnTo>
                        <a:pt x="138" y="32"/>
                      </a:lnTo>
                      <a:lnTo>
                        <a:pt x="126" y="17"/>
                      </a:lnTo>
                      <a:lnTo>
                        <a:pt x="113" y="8"/>
                      </a:lnTo>
                      <a:lnTo>
                        <a:pt x="97" y="2"/>
                      </a:lnTo>
                      <a:lnTo>
                        <a:pt x="81" y="0"/>
                      </a:lnTo>
                      <a:lnTo>
                        <a:pt x="64" y="2"/>
                      </a:lnTo>
                      <a:lnTo>
                        <a:pt x="49" y="8"/>
                      </a:lnTo>
                      <a:lnTo>
                        <a:pt x="35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6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6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5" y="204"/>
                      </a:lnTo>
                      <a:lnTo>
                        <a:pt x="49" y="214"/>
                      </a:lnTo>
                      <a:lnTo>
                        <a:pt x="64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59"/>
                <p:cNvSpPr/>
                <p:nvPr/>
              </p:nvSpPr>
              <p:spPr>
                <a:xfrm>
                  <a:off x="1252440" y="3778560"/>
                  <a:ext cx="31680" cy="442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62" h="224">
                      <a:moveTo>
                        <a:pt x="81" y="224"/>
                      </a:moveTo>
                      <a:lnTo>
                        <a:pt x="96" y="221"/>
                      </a:lnTo>
                      <a:lnTo>
                        <a:pt x="112" y="214"/>
                      </a:lnTo>
                      <a:lnTo>
                        <a:pt x="125" y="204"/>
                      </a:lnTo>
                      <a:lnTo>
                        <a:pt x="138" y="190"/>
                      </a:lnTo>
                      <a:lnTo>
                        <a:pt x="147" y="174"/>
                      </a:lnTo>
                      <a:lnTo>
                        <a:pt x="154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4" y="67"/>
                      </a:lnTo>
                      <a:lnTo>
                        <a:pt x="147" y="48"/>
                      </a:lnTo>
                      <a:lnTo>
                        <a:pt x="138" y="32"/>
                      </a:lnTo>
                      <a:lnTo>
                        <a:pt x="125" y="17"/>
                      </a:lnTo>
                      <a:lnTo>
                        <a:pt x="112" y="8"/>
                      </a:lnTo>
                      <a:lnTo>
                        <a:pt x="96" y="2"/>
                      </a:lnTo>
                      <a:lnTo>
                        <a:pt x="81" y="0"/>
                      </a:lnTo>
                      <a:lnTo>
                        <a:pt x="63" y="2"/>
                      </a:lnTo>
                      <a:lnTo>
                        <a:pt x="49" y="8"/>
                      </a:lnTo>
                      <a:lnTo>
                        <a:pt x="34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5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5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4" y="204"/>
                      </a:lnTo>
                      <a:lnTo>
                        <a:pt x="49" y="214"/>
                      </a:lnTo>
                      <a:lnTo>
                        <a:pt x="63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60"/>
                <p:cNvSpPr/>
                <p:nvPr/>
              </p:nvSpPr>
              <p:spPr>
                <a:xfrm>
                  <a:off x="1123920" y="3857760"/>
                  <a:ext cx="189000" cy="954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95400"/>
                    <a:gd name="textAreaBottom" fmla="*/ 95760 h 95400"/>
                  </a:gdLst>
                  <a:ahLst/>
                  <a:rect l="textAreaLeft" t="textAreaTop" r="textAreaRight" b="textAreaBottom"/>
                  <a:pathLst>
                    <a:path w="954" h="477">
                      <a:moveTo>
                        <a:pt x="0" y="0"/>
                      </a:moveTo>
                      <a:lnTo>
                        <a:pt x="8" y="95"/>
                      </a:lnTo>
                      <a:lnTo>
                        <a:pt x="36" y="185"/>
                      </a:lnTo>
                      <a:lnTo>
                        <a:pt x="79" y="266"/>
                      </a:lnTo>
                      <a:lnTo>
                        <a:pt x="138" y="337"/>
                      </a:lnTo>
                      <a:lnTo>
                        <a:pt x="209" y="394"/>
                      </a:lnTo>
                      <a:lnTo>
                        <a:pt x="290" y="439"/>
                      </a:lnTo>
                      <a:lnTo>
                        <a:pt x="380" y="467"/>
                      </a:lnTo>
                      <a:lnTo>
                        <a:pt x="476" y="477"/>
                      </a:lnTo>
                      <a:lnTo>
                        <a:pt x="571" y="467"/>
                      </a:lnTo>
                      <a:lnTo>
                        <a:pt x="662" y="439"/>
                      </a:lnTo>
                      <a:lnTo>
                        <a:pt x="742" y="394"/>
                      </a:lnTo>
                      <a:lnTo>
                        <a:pt x="814" y="337"/>
                      </a:lnTo>
                      <a:lnTo>
                        <a:pt x="871" y="266"/>
                      </a:lnTo>
                      <a:lnTo>
                        <a:pt x="915" y="185"/>
                      </a:lnTo>
                      <a:lnTo>
                        <a:pt x="943" y="95"/>
                      </a:lnTo>
                      <a:lnTo>
                        <a:pt x="95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Line 161"/>
              <p:cNvSpPr/>
              <p:nvPr/>
            </p:nvSpPr>
            <p:spPr>
              <a:xfrm>
                <a:off x="1197000" y="407052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62"/>
              <p:cNvSpPr/>
              <p:nvPr/>
            </p:nvSpPr>
            <p:spPr>
              <a:xfrm flipV="1">
                <a:off x="1216080" y="3269880"/>
                <a:ext cx="0" cy="399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63"/>
            <p:cNvGrpSpPr/>
            <p:nvPr/>
          </p:nvGrpSpPr>
          <p:grpSpPr>
            <a:xfrm>
              <a:off x="76320" y="3270240"/>
              <a:ext cx="2616120" cy="1227960"/>
              <a:chOff x="76320" y="3270240"/>
              <a:chExt cx="2616120" cy="1227960"/>
            </a:xfrm>
          </p:grpSpPr>
          <p:sp>
            <p:nvSpPr>
              <p:cNvPr id="385" name="Text Box 164"/>
              <p:cNvSpPr/>
              <p:nvPr/>
            </p:nvSpPr>
            <p:spPr>
              <a:xfrm>
                <a:off x="1384200" y="3270240"/>
                <a:ext cx="120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1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st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Jun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65"/>
              <p:cNvSpPr/>
              <p:nvPr/>
            </p:nvSpPr>
            <p:spPr>
              <a:xfrm>
                <a:off x="1251000" y="4191120"/>
                <a:ext cx="144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2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nd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Decembe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66"/>
              <p:cNvSpPr/>
              <p:nvPr/>
            </p:nvSpPr>
            <p:spPr>
              <a:xfrm>
                <a:off x="76320" y="3562200"/>
                <a:ext cx="12063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2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nd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S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20</a:t>
                </a:r>
                <a:r>
                  <a:rPr b="0" lang="en-GB" sz="1400" spc="-1" strike="noStrike" baseline="30000">
                    <a:solidFill>
                      <a:srgbClr val="ff3300"/>
                    </a:solidFill>
                    <a:latin typeface="Comic Sans MS"/>
                  </a:rPr>
                  <a:t>th</a:t>
                </a:r>
                <a:r>
                  <a:rPr b="0" lang="en-GB" sz="1400" spc="-1" strike="noStrike">
                    <a:solidFill>
                      <a:srgbClr val="ff3300"/>
                    </a:solidFill>
                    <a:latin typeface="Comic Sans MS"/>
                  </a:rPr>
                  <a:t> Marc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Group 167"/>
          <p:cNvGrpSpPr/>
          <p:nvPr/>
        </p:nvGrpSpPr>
        <p:grpSpPr>
          <a:xfrm>
            <a:off x="4219560" y="3355920"/>
            <a:ext cx="920880" cy="555840"/>
            <a:chOff x="4219560" y="3355920"/>
            <a:chExt cx="920880" cy="555840"/>
          </a:xfrm>
        </p:grpSpPr>
        <p:sp>
          <p:nvSpPr>
            <p:cNvPr id="389" name="Line 168"/>
            <p:cNvSpPr/>
            <p:nvPr/>
          </p:nvSpPr>
          <p:spPr>
            <a:xfrm>
              <a:off x="4356000" y="3803760"/>
              <a:ext cx="17964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9"/>
            <p:cNvSpPr/>
            <p:nvPr/>
          </p:nvSpPr>
          <p:spPr>
            <a:xfrm>
              <a:off x="4356000" y="3790800"/>
              <a:ext cx="78444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0"/>
            <p:cNvSpPr/>
            <p:nvPr/>
          </p:nvSpPr>
          <p:spPr>
            <a:xfrm>
              <a:off x="4219560" y="335592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3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1"/>
            <p:cNvSpPr/>
            <p:nvPr/>
          </p:nvSpPr>
          <p:spPr>
            <a:xfrm>
              <a:off x="4438800" y="3622680"/>
              <a:ext cx="13968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72"/>
          <p:cNvGrpSpPr/>
          <p:nvPr/>
        </p:nvGrpSpPr>
        <p:grpSpPr>
          <a:xfrm>
            <a:off x="4226040" y="3349800"/>
            <a:ext cx="1419120" cy="564840"/>
            <a:chOff x="4226040" y="3349800"/>
            <a:chExt cx="1419120" cy="564840"/>
          </a:xfrm>
        </p:grpSpPr>
        <p:sp>
          <p:nvSpPr>
            <p:cNvPr id="394" name="Text Box 173"/>
            <p:cNvSpPr/>
            <p:nvPr/>
          </p:nvSpPr>
          <p:spPr>
            <a:xfrm>
              <a:off x="4226040" y="334980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6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74"/>
            <p:cNvSpPr/>
            <p:nvPr/>
          </p:nvSpPr>
          <p:spPr>
            <a:xfrm>
              <a:off x="4365720" y="3807000"/>
              <a:ext cx="16812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75"/>
            <p:cNvSpPr/>
            <p:nvPr/>
          </p:nvSpPr>
          <p:spPr>
            <a:xfrm>
              <a:off x="4371840" y="3797280"/>
              <a:ext cx="127332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76"/>
            <p:cNvSpPr/>
            <p:nvPr/>
          </p:nvSpPr>
          <p:spPr>
            <a:xfrm>
              <a:off x="4492800" y="3597120"/>
              <a:ext cx="1904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77"/>
          <p:cNvGrpSpPr/>
          <p:nvPr/>
        </p:nvGrpSpPr>
        <p:grpSpPr>
          <a:xfrm>
            <a:off x="4222800" y="3349800"/>
            <a:ext cx="2012760" cy="568080"/>
            <a:chOff x="4222800" y="3349800"/>
            <a:chExt cx="2012760" cy="568080"/>
          </a:xfrm>
        </p:grpSpPr>
        <p:sp>
          <p:nvSpPr>
            <p:cNvPr id="399" name="Line 178"/>
            <p:cNvSpPr/>
            <p:nvPr/>
          </p:nvSpPr>
          <p:spPr>
            <a:xfrm>
              <a:off x="4362480" y="3803760"/>
              <a:ext cx="17136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9"/>
            <p:cNvSpPr/>
            <p:nvPr/>
          </p:nvSpPr>
          <p:spPr>
            <a:xfrm>
              <a:off x="4365720" y="3816360"/>
              <a:ext cx="186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80"/>
            <p:cNvSpPr/>
            <p:nvPr/>
          </p:nvSpPr>
          <p:spPr>
            <a:xfrm>
              <a:off x="4222800" y="3349800"/>
              <a:ext cx="6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9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81"/>
            <p:cNvSpPr/>
            <p:nvPr/>
          </p:nvSpPr>
          <p:spPr>
            <a:xfrm>
              <a:off x="4473720" y="3559320"/>
              <a:ext cx="19044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2"/>
          <p:cNvGrpSpPr/>
          <p:nvPr/>
        </p:nvGrpSpPr>
        <p:grpSpPr>
          <a:xfrm>
            <a:off x="2479320" y="3362400"/>
            <a:ext cx="2464200" cy="552240"/>
            <a:chOff x="2479320" y="3362400"/>
            <a:chExt cx="2464200" cy="552240"/>
          </a:xfrm>
        </p:grpSpPr>
        <p:sp>
          <p:nvSpPr>
            <p:cNvPr id="404" name="Text Box 183"/>
            <p:cNvSpPr/>
            <p:nvPr/>
          </p:nvSpPr>
          <p:spPr>
            <a:xfrm>
              <a:off x="4181400" y="336240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9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W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84"/>
            <p:cNvSpPr/>
            <p:nvPr/>
          </p:nvSpPr>
          <p:spPr>
            <a:xfrm>
              <a:off x="4356000" y="3807000"/>
              <a:ext cx="18108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85"/>
            <p:cNvSpPr/>
            <p:nvPr/>
          </p:nvSpPr>
          <p:spPr>
            <a:xfrm flipH="1">
              <a:off x="2479320" y="3819600"/>
              <a:ext cx="187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86"/>
            <p:cNvSpPr/>
            <p:nvPr/>
          </p:nvSpPr>
          <p:spPr>
            <a:xfrm flipH="1">
              <a:off x="4206960" y="3568680"/>
              <a:ext cx="1713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87"/>
          <p:cNvGrpSpPr/>
          <p:nvPr/>
        </p:nvGrpSpPr>
        <p:grpSpPr>
          <a:xfrm>
            <a:off x="3905280" y="3355920"/>
            <a:ext cx="933480" cy="568440"/>
            <a:chOff x="3905280" y="3355920"/>
            <a:chExt cx="933480" cy="568440"/>
          </a:xfrm>
        </p:grpSpPr>
        <p:sp>
          <p:nvSpPr>
            <p:cNvPr id="409" name="Line 188"/>
            <p:cNvSpPr/>
            <p:nvPr/>
          </p:nvSpPr>
          <p:spPr>
            <a:xfrm>
              <a:off x="4356000" y="3807000"/>
              <a:ext cx="17460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9"/>
            <p:cNvSpPr/>
            <p:nvPr/>
          </p:nvSpPr>
          <p:spPr>
            <a:xfrm flipH="1">
              <a:off x="3905280" y="3803760"/>
              <a:ext cx="45720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90"/>
            <p:cNvSpPr/>
            <p:nvPr/>
          </p:nvSpPr>
          <p:spPr>
            <a:xfrm>
              <a:off x="4184640" y="335592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3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W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91"/>
            <p:cNvSpPr/>
            <p:nvPr/>
          </p:nvSpPr>
          <p:spPr>
            <a:xfrm flipH="1">
              <a:off x="4327560" y="3543480"/>
              <a:ext cx="6984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92"/>
          <p:cNvGrpSpPr/>
          <p:nvPr/>
        </p:nvGrpSpPr>
        <p:grpSpPr>
          <a:xfrm>
            <a:off x="3215880" y="3362400"/>
            <a:ext cx="1683000" cy="558720"/>
            <a:chOff x="3215880" y="3362400"/>
            <a:chExt cx="1683000" cy="558720"/>
          </a:xfrm>
        </p:grpSpPr>
        <p:sp>
          <p:nvSpPr>
            <p:cNvPr id="414" name="Line 193"/>
            <p:cNvSpPr/>
            <p:nvPr/>
          </p:nvSpPr>
          <p:spPr>
            <a:xfrm>
              <a:off x="4346640" y="3803760"/>
              <a:ext cx="19044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94"/>
            <p:cNvSpPr/>
            <p:nvPr/>
          </p:nvSpPr>
          <p:spPr>
            <a:xfrm flipH="1">
              <a:off x="3215880" y="3807000"/>
              <a:ext cx="1143000" cy="8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95"/>
            <p:cNvSpPr/>
            <p:nvPr/>
          </p:nvSpPr>
          <p:spPr>
            <a:xfrm>
              <a:off x="4175280" y="3362400"/>
              <a:ext cx="72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60</a:t>
              </a:r>
              <a:r>
                <a:rPr b="0" lang="en-GB" sz="1400" spc="-1" strike="noStrike" baseline="30000">
                  <a:solidFill>
                    <a:srgbClr val="006699"/>
                  </a:solidFill>
                  <a:latin typeface="Comic Sans MS"/>
                </a:rPr>
                <a:t>o</a:t>
              </a:r>
              <a:r>
                <a:rPr b="0" lang="en-GB" sz="1400" spc="-1" strike="noStrike">
                  <a:solidFill>
                    <a:srgbClr val="006699"/>
                  </a:solidFill>
                  <a:latin typeface="Comic Sans MS"/>
                </a:rPr>
                <a:t>W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96"/>
            <p:cNvSpPr/>
            <p:nvPr/>
          </p:nvSpPr>
          <p:spPr>
            <a:xfrm flipH="1">
              <a:off x="4172040" y="3540240"/>
              <a:ext cx="25056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97"/>
          <p:cNvGrpSpPr/>
          <p:nvPr/>
        </p:nvGrpSpPr>
        <p:grpSpPr>
          <a:xfrm>
            <a:off x="6046920" y="4625280"/>
            <a:ext cx="2901960" cy="766800"/>
            <a:chOff x="6046920" y="4625280"/>
            <a:chExt cx="2901960" cy="766800"/>
          </a:xfrm>
        </p:grpSpPr>
        <p:sp>
          <p:nvSpPr>
            <p:cNvPr id="419" name="Line 198"/>
            <p:cNvSpPr/>
            <p:nvPr/>
          </p:nvSpPr>
          <p:spPr>
            <a:xfrm flipH="1" flipV="1">
              <a:off x="6046920" y="4625280"/>
              <a:ext cx="85644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99"/>
            <p:cNvSpPr/>
            <p:nvPr/>
          </p:nvSpPr>
          <p:spPr>
            <a:xfrm>
              <a:off x="6910560" y="5054760"/>
              <a:ext cx="203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9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Ea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00"/>
          <p:cNvGrpSpPr/>
          <p:nvPr/>
        </p:nvGrpSpPr>
        <p:grpSpPr>
          <a:xfrm>
            <a:off x="0" y="4701600"/>
            <a:ext cx="2656440" cy="617040"/>
            <a:chOff x="0" y="4701600"/>
            <a:chExt cx="2656440" cy="617040"/>
          </a:xfrm>
        </p:grpSpPr>
        <p:sp>
          <p:nvSpPr>
            <p:cNvPr id="422" name="Line 201"/>
            <p:cNvSpPr/>
            <p:nvPr/>
          </p:nvSpPr>
          <p:spPr>
            <a:xfrm flipV="1">
              <a:off x="1769400" y="4701600"/>
              <a:ext cx="887040" cy="61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2"/>
            <p:cNvSpPr/>
            <p:nvPr/>
          </p:nvSpPr>
          <p:spPr>
            <a:xfrm>
              <a:off x="0" y="4933800"/>
              <a:ext cx="24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ngitude 90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o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Wes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203"/>
          <p:cNvGrpSpPr/>
          <p:nvPr/>
        </p:nvGrpSpPr>
        <p:grpSpPr>
          <a:xfrm>
            <a:off x="382320" y="1562040"/>
            <a:ext cx="8533080" cy="4165560"/>
            <a:chOff x="382320" y="1562040"/>
            <a:chExt cx="8533080" cy="4165560"/>
          </a:xfrm>
        </p:grpSpPr>
        <p:grpSp>
          <p:nvGrpSpPr>
            <p:cNvPr id="425" name="Group 204"/>
            <p:cNvGrpSpPr/>
            <p:nvPr/>
          </p:nvGrpSpPr>
          <p:grpSpPr>
            <a:xfrm>
              <a:off x="895320" y="1562040"/>
              <a:ext cx="8020080" cy="4165560"/>
              <a:chOff x="895320" y="1562040"/>
              <a:chExt cx="8020080" cy="4165560"/>
            </a:xfrm>
          </p:grpSpPr>
          <p:grpSp>
            <p:nvGrpSpPr>
              <p:cNvPr id="426" name="Group 205"/>
              <p:cNvGrpSpPr/>
              <p:nvPr/>
            </p:nvGrpSpPr>
            <p:grpSpPr>
              <a:xfrm>
                <a:off x="895320" y="1676520"/>
                <a:ext cx="3646440" cy="4051080"/>
                <a:chOff x="895320" y="1676520"/>
                <a:chExt cx="3646440" cy="4051080"/>
              </a:xfrm>
            </p:grpSpPr>
            <p:sp>
              <p:nvSpPr>
                <p:cNvPr id="427" name="Freeform 206"/>
                <p:cNvSpPr/>
                <p:nvPr/>
              </p:nvSpPr>
              <p:spPr>
                <a:xfrm>
                  <a:off x="4343400" y="1955880"/>
                  <a:ext cx="198360" cy="3771720"/>
                </a:xfrm>
                <a:custGeom>
                  <a:avLst/>
                  <a:gdLst>
                    <a:gd name="textAreaLeft" fmla="*/ 0 w 198360"/>
                    <a:gd name="textAreaRight" fmla="*/ 198720 w 198360"/>
                    <a:gd name="textAreaTop" fmla="*/ 0 h 3771720"/>
                    <a:gd name="textAreaBottom" fmla="*/ 3772080 h 3771720"/>
                  </a:gdLst>
                  <a:ahLst/>
                  <a:rect l="textAreaLeft" t="textAreaTop" r="textAreaRight" b="textAreaBottom"/>
                  <a:pathLst>
                    <a:path w="125" h="2376">
                      <a:moveTo>
                        <a:pt x="0" y="0"/>
                      </a:moveTo>
                      <a:cubicBezTo>
                        <a:pt x="57" y="426"/>
                        <a:pt x="115" y="852"/>
                        <a:pt x="120" y="1248"/>
                      </a:cubicBezTo>
                      <a:cubicBezTo>
                        <a:pt x="125" y="1644"/>
                        <a:pt x="78" y="2010"/>
                        <a:pt x="32" y="2376"/>
                      </a:cubicBezTo>
                    </a:path>
                  </a:pathLst>
                </a:custGeom>
                <a:noFill/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207"/>
                <p:cNvGrpSpPr/>
                <p:nvPr/>
              </p:nvGrpSpPr>
              <p:grpSpPr>
                <a:xfrm>
                  <a:off x="895320" y="1676520"/>
                  <a:ext cx="3543480" cy="1078200"/>
                  <a:chOff x="895320" y="1676520"/>
                  <a:chExt cx="3543480" cy="1078200"/>
                </a:xfrm>
              </p:grpSpPr>
              <p:sp>
                <p:nvSpPr>
                  <p:cNvPr id="429" name="Line 208"/>
                  <p:cNvSpPr/>
                  <p:nvPr/>
                </p:nvSpPr>
                <p:spPr>
                  <a:xfrm>
                    <a:off x="2838600" y="2000160"/>
                    <a:ext cx="1600200" cy="571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Text Box 209"/>
                  <p:cNvSpPr/>
                  <p:nvPr/>
                </p:nvSpPr>
                <p:spPr>
                  <a:xfrm>
                    <a:off x="895320" y="1676520"/>
                    <a:ext cx="2438280" cy="10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Prime Meridian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0</a:t>
                    </a:r>
                    <a:r>
                      <a:rPr b="0" lang="en-GB" sz="1600" spc="-1" strike="noStrike" baseline="30000">
                        <a:solidFill>
                          <a:srgbClr val="006699"/>
                        </a:solidFill>
                        <a:latin typeface="Comic Sans MS"/>
                      </a:rPr>
                      <a:t>o</a:t>
                    </a:r>
                    <a:r>
                      <a:rPr b="0" lang="en-GB" sz="1600" spc="-1" strike="noStrike">
                        <a:solidFill>
                          <a:srgbClr val="006699"/>
                        </a:solidFill>
                        <a:latin typeface="Comic Sans MS"/>
                      </a:rPr>
                      <a:t> Longitude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Text Box 210"/>
              <p:cNvSpPr/>
              <p:nvPr/>
            </p:nvSpPr>
            <p:spPr>
              <a:xfrm>
                <a:off x="5143680" y="1562040"/>
                <a:ext cx="3771720" cy="398880"/>
              </a:xfrm>
              <a:prstGeom prst="rect">
                <a:avLst/>
              </a:prstGeom>
              <a:gradFill rotWithShape="0">
                <a:gsLst>
                  <a:gs pos="0">
                    <a:srgbClr val="c2c29b"/>
                  </a:gs>
                  <a:gs pos="50000">
                    <a:srgbClr val="ffffcc"/>
                  </a:gs>
                  <a:gs pos="100000">
                    <a:srgbClr val="c2c29b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mic Sans MS"/>
                  </a:rPr>
                  <a:t>Longitude: 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(180</a:t>
                </a:r>
                <a:r>
                  <a:rPr b="0" lang="en-GB" sz="20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E to 180</a:t>
                </a:r>
                <a:r>
                  <a:rPr b="0" lang="en-GB" sz="2000" spc="-1" strike="noStrike" baseline="30000">
                    <a:solidFill>
                      <a:srgbClr val="006699"/>
                    </a:solidFill>
                    <a:latin typeface="Comic Sans MS"/>
                  </a:rPr>
                  <a:t>o</a:t>
                </a:r>
                <a:r>
                  <a:rPr b="0" lang="en-GB" sz="2000" spc="-1" strike="noStrike">
                    <a:solidFill>
                      <a:srgbClr val="006699"/>
                    </a:solidFill>
                    <a:latin typeface="Comic Sans MS"/>
                  </a:rPr>
                  <a:t>W)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11"/>
            <p:cNvGrpSpPr/>
            <p:nvPr/>
          </p:nvGrpSpPr>
          <p:grpSpPr>
            <a:xfrm>
              <a:off x="382320" y="1627200"/>
              <a:ext cx="1038600" cy="1049400"/>
              <a:chOff x="382320" y="1627200"/>
              <a:chExt cx="1038600" cy="1049400"/>
            </a:xfrm>
          </p:grpSpPr>
          <p:pic>
            <p:nvPicPr>
              <p:cNvPr id="433" name="Picture 212" descr="Beach Chair 5"/>
              <p:cNvPicPr/>
              <p:nvPr/>
            </p:nvPicPr>
            <p:blipFill>
              <a:blip r:embed="rId4"/>
              <a:stretch/>
            </p:blipFill>
            <p:spPr>
              <a:xfrm>
                <a:off x="573120" y="1627200"/>
                <a:ext cx="642960" cy="80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213" descr="Beach Ball 1"/>
              <p:cNvPicPr/>
              <p:nvPr/>
            </p:nvPicPr>
            <p:blipFill>
              <a:blip r:embed="rId5"/>
              <a:stretch/>
            </p:blipFill>
            <p:spPr>
              <a:xfrm flipH="1">
                <a:off x="382320" y="2260800"/>
                <a:ext cx="307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214" descr="Beach Picnic"/>
              <p:cNvPicPr/>
              <p:nvPr/>
            </p:nvPicPr>
            <p:blipFill>
              <a:blip r:embed="rId6"/>
              <a:stretch/>
            </p:blipFill>
            <p:spPr>
              <a:xfrm>
                <a:off x="939960" y="2146320"/>
                <a:ext cx="480960" cy="53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6" name="Text Box 215"/>
          <p:cNvSpPr/>
          <p:nvPr/>
        </p:nvSpPr>
        <p:spPr>
          <a:xfrm>
            <a:off x="200160" y="6426360"/>
            <a:ext cx="8800920" cy="337320"/>
          </a:xfrm>
          <a:prstGeom prst="rect">
            <a:avLst/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Comic Sans MS"/>
              </a:rPr>
              <a:t>Latitude and Longitude together enable the fixing of position on the Earth’s surfac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Now you’re ready to find some locations on a map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long lat"/>
          <p:cNvPicPr/>
          <p:nvPr/>
        </p:nvPicPr>
        <p:blipFill>
          <a:blip r:embed="rId1"/>
          <a:stretch/>
        </p:blipFill>
        <p:spPr>
          <a:xfrm>
            <a:off x="533520" y="2819520"/>
            <a:ext cx="83818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685800" y="237960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00600" y="0"/>
            <a:ext cx="414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ch point has two valu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X” value that runs along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horizontal “X” 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Y” value that runs along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vertical “Y” 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10666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6483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905120" y="1523880"/>
            <a:ext cx="1143000" cy="533520"/>
          </a:xfrm>
          <a:prstGeom prst="wedgeRoundRectCallout">
            <a:avLst>
              <a:gd name="adj1" fmla="val -121388"/>
              <a:gd name="adj2" fmla="val 48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ax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733920" y="5486400"/>
            <a:ext cx="838080" cy="457200"/>
          </a:xfrm>
          <a:prstGeom prst="wedgeRoundRectCallout">
            <a:avLst>
              <a:gd name="adj1" fmla="val 93560"/>
              <a:gd name="adj2" fmla="val -205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685800" y="2379600"/>
            <a:ext cx="4146480" cy="2720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value is always stated fi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ed by the Y val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origin” is the point whe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the 2 axes intersect with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value of (0,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10666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6483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457200" y="5257800"/>
            <a:ext cx="609480" cy="380880"/>
          </a:xfrm>
          <a:prstGeom prst="wedgeRoundRectCallout">
            <a:avLst>
              <a:gd name="adj1" fmla="val 42189"/>
              <a:gd name="adj2" fmla="val -17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752480" y="1752480"/>
            <a:ext cx="1143000" cy="533520"/>
          </a:xfrm>
          <a:prstGeom prst="wedgeRoundRectCallout">
            <a:avLst>
              <a:gd name="adj1" fmla="val -17361"/>
              <a:gd name="adj2" fmla="val 184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14400" y="1676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055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581280" y="1752480"/>
            <a:ext cx="914400" cy="685800"/>
          </a:xfrm>
          <a:prstGeom prst="wedgeRoundRectCallout">
            <a:avLst>
              <a:gd name="adj1" fmla="val 25870"/>
              <a:gd name="adj2" fmla="val 2212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,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2880" y="-360"/>
            <a:ext cx="419112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oint can also have nega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(-)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X values are to the lef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of the origin (0,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1924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Y values are below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ori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990720" y="3886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2666880" y="2286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495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382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0666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X,+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73600" y="4343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X,-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049560" y="27432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X,+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144800" y="43434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X,-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743200" y="3352680"/>
            <a:ext cx="685800" cy="304920"/>
          </a:xfrm>
          <a:prstGeom prst="wedgeRoundRectCallout">
            <a:avLst>
              <a:gd name="adj1" fmla="val -58101"/>
              <a:gd name="adj2" fmla="val 116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0240" y="91440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the X axis be the Equa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the Y axis be the Prime Meridi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that runs through Greenwich outs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of Lond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24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/Long are the 2 grid points b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which you can locate any point 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ear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5"/>
          <p:cNvSpPr/>
          <p:nvPr/>
        </p:nvSpPr>
        <p:spPr>
          <a:xfrm>
            <a:off x="228600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67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501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 each of the four quarters then be designated by North or South and East or Wes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380880" y="1905120"/>
          <a:ext cx="432432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43243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8"/>
          <p:cNvSpPr/>
          <p:nvPr/>
        </p:nvSpPr>
        <p:spPr>
          <a:xfrm>
            <a:off x="2330280" y="137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363760" y="441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726080" y="2895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800" y="28954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 tells us we’re north of the Equator. The S tells us we’re south of the Equato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1400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 tells us that we’re east of the Prime Meridian. The W tells us that we’re west of the Prime Meridi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7"/>
          <p:cNvSpPr/>
          <p:nvPr/>
        </p:nvSpPr>
        <p:spPr>
          <a:xfrm>
            <a:off x="609480" y="1600200"/>
            <a:ext cx="1295640" cy="685800"/>
          </a:xfrm>
          <a:prstGeom prst="wedgeRoundRectCallout">
            <a:avLst>
              <a:gd name="adj1" fmla="val 20833"/>
              <a:gd name="adj2" fmla="val 1828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971800" y="1600200"/>
            <a:ext cx="1447920" cy="685800"/>
          </a:xfrm>
          <a:prstGeom prst="wedgeRoundRectCallout">
            <a:avLst>
              <a:gd name="adj1" fmla="val -22259"/>
              <a:gd name="adj2" fmla="val 15717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685800" y="4952880"/>
            <a:ext cx="1523880" cy="762120"/>
          </a:xfrm>
          <a:prstGeom prst="wedgeRoundRectCallout">
            <a:avLst>
              <a:gd name="adj1" fmla="val 15208"/>
              <a:gd name="adj2" fmla="val -184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2743200" y="4952880"/>
            <a:ext cx="1600200" cy="762120"/>
          </a:xfrm>
          <a:prstGeom prst="wedgeRoundRectCallout">
            <a:avLst>
              <a:gd name="adj1" fmla="val -17958"/>
              <a:gd name="adj2" fmla="val -18854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, 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1720" y="256680"/>
            <a:ext cx="786276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st West, North South on the Ea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392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means all points in Nor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America will have a North latitude and a West longitude because it is North of the Equator and West of the Prime Meridia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533520" y="2514600"/>
          <a:ext cx="380988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38098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AutoShape 7"/>
          <p:cNvSpPr/>
          <p:nvPr/>
        </p:nvSpPr>
        <p:spPr>
          <a:xfrm>
            <a:off x="609480" y="1600200"/>
            <a:ext cx="1295640" cy="685800"/>
          </a:xfrm>
          <a:prstGeom prst="wedgeRoundRectCallout">
            <a:avLst>
              <a:gd name="adj1" fmla="val 20833"/>
              <a:gd name="adj2" fmla="val 18287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295280" y="5181480"/>
            <a:ext cx="1447920" cy="609840"/>
          </a:xfrm>
          <a:prstGeom prst="wedgeRoundRectCallout">
            <a:avLst>
              <a:gd name="adj1" fmla="val 30374"/>
              <a:gd name="adj2" fmla="val -1859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e Meri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7:49:10Z</dcterms:created>
  <dc:creator>Licensed User</dc:creator>
  <dc:description/>
  <dc:language>en-US</dc:language>
  <cp:lastModifiedBy>Tammy Christensen</cp:lastModifiedBy>
  <cp:lastPrinted>2003-07-24T14:32:27Z</cp:lastPrinted>
  <dcterms:modified xsi:type="dcterms:W3CDTF">2012-01-24T05:48:31Z</dcterms:modified>
  <cp:revision>22</cp:revision>
  <dc:subject/>
  <dc:title>PowerPoint Presentation</dc:title>
</cp:coreProperties>
</file>